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A40-1F03-4E28-AEDC-6DC0C65C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A89-09FC-4069-A0FD-6139E4F3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FEA-500C-46B3-B3BF-D3888D4D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EE2-85FB-4B60-8E47-66FBC43B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B6A-2671-471E-B5DD-4024610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8EB-2C65-4357-A36E-7EBB8E8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FCA-B704-4905-AE5E-624FB32E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2B6-AA45-443A-8F37-D366AEA6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098-9C23-4916-BFF6-8B4F66CE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F4E-A9C2-46BD-A803-8B6C02F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DE8-0323-4D40-8532-DFCD77A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A24-3E40-4CEC-B69A-1C0B38F0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B8E-A51C-44AE-B76D-60B57877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18184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181840"/>
              <a:gd name="textAreaBottom" fmla="*/ 4951440 h 5181840"/>
            </a:gdLst>
            <a:ahLst/>
            <a:rect l="textAreaLeft" t="textAreaTop" r="textAreaRight" b="textAreaBottom"/>
            <a:pathLst>
              <a:path w="21600" h="23692">
                <a:moveTo>
                  <a:pt x="3600" y="0"/>
                </a:moveTo>
                <a:arcTo wR="3600" hR="3600" stAng="16200000" swAng="-5400000"/>
                <a:lnTo>
                  <a:pt x="0" y="20092"/>
                </a:lnTo>
                <a:arcTo wR="3600" hR="3600" stAng="10800000" swAng="-5400000"/>
                <a:lnTo>
                  <a:pt x="18000" y="23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íctor Manuel Escobar P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209680"/>
            <a:ext cx="228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ASUNTOS JURÍ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DESARROLL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 PLANIF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ilton Naranjo 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RECURSOS HUMAN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César Fierro C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ECONÓM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CIO-DEMOGRÁFICAS (E)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ilar Ortiz Mej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INFORMÁ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Edwin Fuertes López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ÑO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2971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5401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PARTAMENTO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ime Cevallos     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4479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45160" y="5216400"/>
            <a:ext cx="15523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                                SUBDIRECTOR GENERAL TÉCN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orge Magaldi Sánchez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mpazmino</cp:lastModifiedBy>
  <cp:lastPrinted>2003-08-22T15:52:44Z</cp:lastPrinted>
  <dcterms:modified xsi:type="dcterms:W3CDTF">2004-07-26T16:18:15Z</dcterms:modified>
  <cp:revision>38</cp:revision>
  <dc:subject/>
  <dc:title>Sin título de diapositiva</dc:title>
</cp:coreProperties>
</file>