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A9C2-1E46-43D6-BA4B-4187370C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5EC-2F60-4FDD-8412-4A289BA5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CB8-D51E-490F-8D36-3059E73A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293-0717-4355-9C10-54F9A592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FF5-EB15-45AC-B07E-578D7173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F39-E691-4B90-92C9-DA8601D7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EEC-2620-4BE6-8C86-0ABE93B7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500-16C8-45D4-8FD1-ADFB0AE9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5BD-A8C5-4F39-9146-202B86E8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118-44A5-41C8-94D0-17028740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D045-FAD7-4486-8C09-A8F2ECFC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C8B-9CC3-4B29-90FF-A34AE1C4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61A4-D7E5-42EC-89FE-316A1B5EF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04920"/>
            <a:ext cx="7391520" cy="57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7680" y="685800"/>
            <a:ext cx="146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lbertus Medium"/>
              </a:rPr>
              <a:t>PRES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8040" y="1066680"/>
            <a:ext cx="65692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stituto Nacional de Estadística y Censos (INEC), tiene a bien poner a disposición de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general, los resultados del Anuario de Estadísticas de Transporte correspondiente al año 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presente publicación contiene información referente 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hículos motorizados matricul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ccidentes de tráns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Ferrovi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Aére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de Cabotaje y Marítim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s fuentes de información que hicieron posible la preparación de este Anuario son:  Dirección General de Tránsito,  Comisión de Tránsito del Guayas,  Empresa  de  Ferrocarriles   del estado,  Dirección de Aviación Civil y  las Capitanías de Puerto dependientes  de  la Dirección de la Marina Merc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EC, al hacer la entrega de este documento, deja constancia de su agradecimiento a las Instituciones antes mencionadas por la colaboración prestada y al mismo tiempo les reitera el ped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 cordial de seguir proporcionando en forma oportuna los datos que se  requieren  para la preparación  de esta publicación, cuya finalidad es satisfacer los requerimientos de  los  usuarios, de quienes esper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os sus valiosos comentarios, a fin de mejorar en lo posterior su contenido y presen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ara este año no fue posible contar con la información referente a Accidentes de Tráns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o y Víctimas de la Provincia del Guayas, debido a retrazo en los procesos del Centro de Cómputo  de   la Comisión de Tránsito del Guay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9:38:20Z</dcterms:created>
  <dc:creator>Estadísticas Industriales</dc:creator>
  <dc:description/>
  <dc:language>en-US</dc:language>
  <cp:lastModifiedBy>mpazmino</cp:lastModifiedBy>
  <cp:lastPrinted>2003-08-14T19:08:22Z</cp:lastPrinted>
  <dcterms:modified xsi:type="dcterms:W3CDTF">2004-08-02T20:39:57Z</dcterms:modified>
  <cp:revision>17</cp:revision>
  <dc:subject/>
  <dc:title>Sin título de diapositiva</dc:title>
</cp:coreProperties>
</file>