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33132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457200" y="228600"/>
            <a:ext cx="9220320" cy="6324480"/>
          </a:xfrm>
          <a:prstGeom prst="rect">
            <a:avLst/>
          </a:prstGeom>
          <a:solidFill>
            <a:srgbClr val="f2bf6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579600" y="1449360"/>
            <a:ext cx="8251560" cy="50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lbertus Extra Bold"/>
              </a:rPr>
              <a:t>ANUARIO</a:t>
            </a:r>
            <a:r>
              <a:rPr b="0" lang="en-US" sz="3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lbertus Extra Bold"/>
              </a:rPr>
              <a:t>DE</a:t>
            </a:r>
            <a:r>
              <a:rPr b="0" lang="en-US" sz="3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lbertus Extra Bold"/>
              </a:rPr>
              <a:t>ESTADÍSTICAS</a:t>
            </a:r>
            <a:r>
              <a:rPr b="0" lang="en-US" sz="3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lbertus Extra Bold"/>
              </a:rPr>
              <a:t>DE</a:t>
            </a:r>
            <a:r>
              <a:rPr b="0" lang="en-US" sz="3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lbertus Extra Bold"/>
              </a:rPr>
              <a:t>TRANSPORTE</a:t>
            </a:r>
            <a:r>
              <a:rPr b="0" lang="en-US" sz="3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581280" y="5562720"/>
            <a:ext cx="3316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Ñ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I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" name=""/>
          <p:cNvGraphicFramePr/>
          <p:nvPr/>
        </p:nvGraphicFramePr>
        <p:xfrm>
          <a:off x="7086600" y="533520"/>
          <a:ext cx="236232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533520"/>
                    <a:ext cx="236232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3505320" y="3962520"/>
          <a:ext cx="2743200" cy="144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3962520"/>
                    <a:ext cx="274320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7010280" y="3581280"/>
          <a:ext cx="2286000" cy="182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10280" y="3581280"/>
                    <a:ext cx="22860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706320" y="3809880"/>
          <a:ext cx="2189160" cy="1676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6320" y="3809880"/>
                    <a:ext cx="21891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 rot="10800000">
          <a:off x="762120" y="399240"/>
          <a:ext cx="2361960" cy="1181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 rot="10800000">
                    <a:off x="762120" y="399240"/>
                    <a:ext cx="236196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15T19:27:40Z</dcterms:created>
  <dc:creator>César Caamaño Barba</dc:creator>
  <dc:description/>
  <dc:language>en-US</dc:language>
  <cp:lastModifiedBy>mpazmino</cp:lastModifiedBy>
  <cp:lastPrinted>2003-09-08T16:08:41Z</cp:lastPrinted>
  <dcterms:modified xsi:type="dcterms:W3CDTF">2005-07-08T14:54:04Z</dcterms:modified>
  <cp:revision>23</cp:revision>
  <dc:subject/>
  <dc:title>Sin título de diapositiva</dc:title>
</cp:coreProperties>
</file>