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B8A-3734-4464-8942-F6482A88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FC9-3A04-462E-885A-10F4C17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275-8F5F-4E26-9AAF-C7D3607C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70C-6832-4721-9B66-FE52D61B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0B5-283B-47D4-A6E5-94B9394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36B-FA73-4B6D-9289-9DE4A12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7D4-75AA-4AA0-8457-0CBA6BFE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E7A-45B5-4570-AD4A-362DA02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EF4-144A-4F6D-A045-CFA3A80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EC4-195D-4995-BC33-0FA1B47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709-2520-470D-8FFA-B1A85FF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C8F-0A7D-4483-B30F-17440D0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971-F466-4F59-BABF-DE74B0EDC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25780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257800"/>
              <a:gd name="textAreaBottom" fmla="*/ 502740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16200000" swAng="-5400000"/>
                <a:lnTo>
                  <a:pt x="0" y="20439"/>
                </a:lnTo>
                <a:arcTo wR="3600" hR="3600" stAng="10800000" swAng="-5400000"/>
                <a:lnTo>
                  <a:pt x="18000" y="24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1752480"/>
            <a:ext cx="2286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Jorge Magaldi Sánch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GENERAL SUBROGA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ilton Altuna 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TÈCNICO DE ASEGUR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E LA CALIDAD DE GESTIÒ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Luis Guadalupe Cast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DE COMUNICACIÒ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TÈCNICO DE GESTIÒ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DUCCIÒN ESTADÌ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Carlos Obando Reve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TÈCNICO DE GESTIÒ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ESARROLLO TECNOLÒGICO ESTADÌ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atricio López Toromore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TÈCNICO DE GESTIÒ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R.HH. Y SERVICIOS ADMINISTRATIV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TÈCNICO DE GESTIÒ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Geovani Guerra Cor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JURÌ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aria Soledad Carvaj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TÈCNICA DE GESTIÒ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NÀLISIS ESTADÌ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LITORAL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Walter Villafuerte Villavicen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NOR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Graciela Moncayo Núñ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ÑO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ISTEMA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CONÒM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uro de la Cadena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SARROLLO ESTADÌSTICO TECNOLÒ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45160" y="5216400"/>
            <a:ext cx="15523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mpazmino</cp:lastModifiedBy>
  <cp:lastPrinted>2003-08-22T15:52:44Z</cp:lastPrinted>
  <dcterms:modified xsi:type="dcterms:W3CDTF">2005-07-29T13:39:06Z</dcterms:modified>
  <cp:revision>53</cp:revision>
  <dc:subject/>
  <dc:title>Sin título de diapositiva</dc:title>
</cp:coreProperties>
</file>