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8B0-1690-48F8-8CF4-70804AB1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712-08A3-4192-BF10-E64A692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5F2-AA92-4D6B-B7B4-800526A1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896-0ED1-49DC-BB85-D45BDB6E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D5B-8667-4577-84D5-9E882BC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BDA-D510-443F-836C-9C7A089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36A-7E35-4034-80CB-A3951B5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9A2-95DD-4DAC-86FE-B0F76CB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9B3-863B-43DB-978F-DF0F807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D0F-EB00-4DAE-9F78-B1C6BFB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CD0-6E16-4007-AECD-E89B6F0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B73-CE0A-44F0-AA3E-C4A4FFB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0C6-9DF0-4E6E-9531-0FE30BAE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 y Vícti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Dirección General de Tránsito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cp:lastPrinted>2003-08-14T19:08:22Z</cp:lastPrinted>
  <dcterms:modified xsi:type="dcterms:W3CDTF">2005-07-29T13:44:20Z</dcterms:modified>
  <cp:revision>19</cp:revision>
  <dc:subject/>
  <dc:title>Sin título de diapositiva</dc:title>
</cp:coreProperties>
</file>