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2A7-3509-4C80-B89C-495690D7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721-66C1-43E5-ACA1-60916BE3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2E2-48BC-4D38-BEDF-272AB5F3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B9E-A3ED-4FE1-A252-3487E6D6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600-7351-4401-93D3-883D1437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D97-1BB7-457A-BDAE-343E8966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B7A-2263-4853-80B6-431C86C0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FFE-A579-4C71-9957-0317CFAE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049-6A6A-4F7F-A5D7-705D6A58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35A-8EA4-4693-95A7-1E7B6D90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10C-F9FF-4EBC-8630-825A5777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0C7-A541-406C-8ADB-5C699955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212A-6C86-420D-9980-1BFC4D863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04920"/>
            <a:ext cx="7543800" cy="57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7680" y="685800"/>
            <a:ext cx="146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lbertus Medium"/>
              </a:rPr>
              <a:t>PRES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040" y="1066680"/>
            <a:ext cx="65692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stituto Nacional de Estadística y Censos (INEC), tiene a bien poner a disposición de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general, los resultados del Anuario de Estadísticas de Transporte correspondiente al año 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presente publicación contiene información referente 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hículos motorizados matricu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ccidentes de tránsito y Vícti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Ferrov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Aére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de Cabotaje y Marítim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s fuentes de información que hicieron posible la preparación de este Anuario son:  Dirección General de Tránsito,  Comisión de Tránsito del Guayas,  Empresa  de  Ferrocarriles   del estado,  Dirección de Aviación Civil y  las Capitanías de Puerto dependientes  de  la Dirección de la Marina Merc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EC, al hacer la entrega de este documento, deja constancia de su agradecimiento a las Instituciones antes mencionadas por la colaboración prestada y al mismo tiempo les reitera el ped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 cordial de seguir proporcionando en forma oportuna los datos que se  requieren  para la preparación  de esta publicación, cuya finalidad es satisfacer los requerimientos de  los  usuarios, de quienes esper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s sus valiosos comentarios, a fin de mejorar en lo posterior su contenido y presen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9:38:20Z</dcterms:created>
  <dc:creator>Estadísticas Industriales</dc:creator>
  <dc:description/>
  <dc:language>en-US</dc:language>
  <cp:lastModifiedBy>mpazmino</cp:lastModifiedBy>
  <cp:lastPrinted>2003-08-14T19:08:22Z</cp:lastPrinted>
  <dcterms:modified xsi:type="dcterms:W3CDTF">2006-07-24T16:26:39Z</dcterms:modified>
  <cp:revision>21</cp:revision>
  <dc:subject/>
  <dc:title>Sin título de diapositiva</dc:title>
</cp:coreProperties>
</file>