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471025" cy="6335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228600"/>
            <a:ext cx="9220320" cy="6324480"/>
          </a:xfrm>
          <a:prstGeom prst="rect">
            <a:avLst/>
          </a:prstGeom>
          <a:solidFill>
            <a:srgbClr val="f2bf6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79600" y="1449360"/>
            <a:ext cx="825156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ANUARIO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ESTADÍSTICAS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TRANSPORT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81280" y="5562720"/>
            <a:ext cx="3316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7086600" y="533520"/>
          <a:ext cx="2362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33520"/>
                    <a:ext cx="2362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05320" y="3962520"/>
          <a:ext cx="274320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962520"/>
                    <a:ext cx="27432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10280" y="3581280"/>
          <a:ext cx="22860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581280"/>
                    <a:ext cx="2286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6320" y="3809880"/>
          <a:ext cx="218916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320" y="3809880"/>
                    <a:ext cx="21891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 rot="10800000">
          <a:off x="762120" y="399240"/>
          <a:ext cx="236196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762120" y="399240"/>
                    <a:ext cx="23619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5T19:27:40Z</dcterms:created>
  <dc:creator>César Caamaño Barba</dc:creator>
  <dc:description/>
  <dc:language>en-US</dc:language>
  <cp:lastModifiedBy>mpazmino</cp:lastModifiedBy>
  <cp:lastPrinted>2003-09-08T16:08:41Z</cp:lastPrinted>
  <dcterms:modified xsi:type="dcterms:W3CDTF">2006-08-07T15:09:23Z</dcterms:modified>
  <cp:revision>25</cp:revision>
  <dc:subject/>
  <dc:title>Sin título de diapositiva</dc:title>
</cp:coreProperties>
</file>