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A80E-8AA6-429B-968B-FA3BB262B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6465-5F54-42C8-BE35-ECA1D5F1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C3DE-B314-488C-9DEF-87F7DBA53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1A0B-9705-4FAF-9D08-5109EB212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C34F-6596-497A-9D77-8DCB510C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58D7-5C50-48A0-B01C-F109B721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3A46-4E1F-4533-B42B-702BD940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DFC5-0556-4896-9160-D85E494F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5875-D421-48B6-BFFE-53BE1DED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6A0B-222D-4078-B319-2E8CC61C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9450-2471-48DD-B95A-B2C8F276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9327-05E0-48B4-9DBC-EA3749B6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DC5A-0157-4492-9A1A-3BA43380B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304920"/>
            <a:ext cx="7543800" cy="5715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47680" y="685800"/>
            <a:ext cx="146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lbertus Medium"/>
              </a:rPr>
              <a:t>PRESE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08040" y="1066680"/>
            <a:ext cx="656928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Instituto Nacional de Estadística y Censos (INEC), tiene a bien poner a disposición del públ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n general, los resultados del Anuario de Estadísticas de Transporte correspondiente al año 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a presente publicación contiene información referente 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Vehículos motorizados matricul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ccidentes de tránsito y Vícti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ransporte Ferrovi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ransporte Aéreo Intern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ransporte de Cabotaje y Marítimo Intern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as fuentes de información que hicieron posible la preparación de este Anuario son:  Dirección General de Tránsito,  Comisión de Tránsito del Guayas,  Empresa  de  Ferrocarriles   del estado,  Dirección de Aviación Civil y  las Capitanías de Puerto dependientes  de  la Dirección de la Marina Merca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INEC, al hacer la entrega de este documento, deja constancia de su agradecimiento a las Instituciones antes mencionadas por la colaboración prestada y al mismo tiempo les reitera el pedi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o cordial de seguir proporcionando en forma oportuna los datos que se  requieren  para la preparación  de esta publicación, cuya finalidad es satisfacer los requerimientos de  los  usuarios, de quienes espera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os sus valiosos comentarios, a fin de mejorar en lo posterior su contenido y present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1T19:38:20Z</dcterms:created>
  <dc:creator>Estadísticas Industriales</dc:creator>
  <dc:description/>
  <dc:language>en-US</dc:language>
  <cp:lastModifiedBy>jpazmino</cp:lastModifiedBy>
  <cp:lastPrinted>2003-08-14T19:08:22Z</cp:lastPrinted>
  <dcterms:modified xsi:type="dcterms:W3CDTF">2007-07-16T15:32:03Z</dcterms:modified>
  <cp:revision>22</cp:revision>
  <dc:subject/>
  <dc:title>Sin título de diapositiva</dc:title>
</cp:coreProperties>
</file>