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04B-9FD6-4DDB-B32B-D68BEAD7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F00-BDF9-48F1-9470-0B3B4088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706-D332-432E-9EFD-4C894B2D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C1E-7204-40C2-9254-D00D3527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C5B-F288-44E9-86A5-221F3EA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848-1893-4591-8E77-1773CA9A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3FE-8998-4C3B-81BB-64728AF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A19-F451-45F9-89A1-1153363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D7A-A7FC-453D-A4AE-35FCF7B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653-AE72-4440-B4CC-CE4C2C3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F91-5408-42C9-9179-D6BD2BE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F8E-8EB7-415F-9E97-C254BDC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21F7-F735-4559-A43E-37725F2AC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905120"/>
            <a:ext cx="3581640" cy="2819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989000"/>
            <a:ext cx="3132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ISTEMA DE ESTADÍSTICAS ECONÒM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uro de la Cadena B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co Pazmiño G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ARROLLO TECNOLÓGICO ESTADÍSTIC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usto Sánchez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ONAL DEL LITO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io Merchá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497640" y="303120"/>
            <a:ext cx="1883880" cy="1038240"/>
            <a:chOff x="6497640" y="303120"/>
            <a:chExt cx="1883880" cy="1038240"/>
          </a:xfrm>
        </p:grpSpPr>
        <p:sp>
          <p:nvSpPr>
            <p:cNvPr id="45" name=""/>
            <p:cNvSpPr/>
            <p:nvPr/>
          </p:nvSpPr>
          <p:spPr>
            <a:xfrm>
              <a:off x="6800040" y="303120"/>
              <a:ext cx="137880" cy="339480"/>
            </a:xfrm>
            <a:custGeom>
              <a:avLst/>
              <a:gdLst/>
              <a:ahLst/>
              <a:rect l="l" t="t" r="r" b="b"/>
              <a:pathLst>
                <a:path w="1296" h="3737">
                  <a:moveTo>
                    <a:pt x="1283" y="1"/>
                  </a:moveTo>
                  <a:lnTo>
                    <a:pt x="1235" y="0"/>
                  </a:lnTo>
                  <a:lnTo>
                    <a:pt x="1189" y="0"/>
                  </a:lnTo>
                  <a:lnTo>
                    <a:pt x="1144" y="0"/>
                  </a:lnTo>
                  <a:lnTo>
                    <a:pt x="1100" y="1"/>
                  </a:lnTo>
                  <a:lnTo>
                    <a:pt x="1055" y="2"/>
                  </a:lnTo>
                  <a:lnTo>
                    <a:pt x="1013" y="5"/>
                  </a:lnTo>
                  <a:lnTo>
                    <a:pt x="971" y="8"/>
                  </a:lnTo>
                  <a:lnTo>
                    <a:pt x="931" y="11"/>
                  </a:lnTo>
                  <a:lnTo>
                    <a:pt x="890" y="15"/>
                  </a:lnTo>
                  <a:lnTo>
                    <a:pt x="851" y="19"/>
                  </a:lnTo>
                  <a:lnTo>
                    <a:pt x="811" y="25"/>
                  </a:lnTo>
                  <a:lnTo>
                    <a:pt x="773" y="31"/>
                  </a:lnTo>
                  <a:lnTo>
                    <a:pt x="734" y="37"/>
                  </a:lnTo>
                  <a:lnTo>
                    <a:pt x="696" y="44"/>
                  </a:lnTo>
                  <a:lnTo>
                    <a:pt x="659" y="52"/>
                  </a:lnTo>
                  <a:lnTo>
                    <a:pt x="621" y="60"/>
                  </a:lnTo>
                  <a:lnTo>
                    <a:pt x="547" y="77"/>
                  </a:lnTo>
                  <a:lnTo>
                    <a:pt x="473" y="96"/>
                  </a:lnTo>
                  <a:lnTo>
                    <a:pt x="398" y="118"/>
                  </a:lnTo>
                  <a:lnTo>
                    <a:pt x="323" y="141"/>
                  </a:lnTo>
                  <a:lnTo>
                    <a:pt x="246" y="166"/>
                  </a:lnTo>
                  <a:lnTo>
                    <a:pt x="166" y="194"/>
                  </a:lnTo>
                  <a:lnTo>
                    <a:pt x="85" y="222"/>
                  </a:lnTo>
                  <a:lnTo>
                    <a:pt x="0" y="253"/>
                  </a:lnTo>
                  <a:lnTo>
                    <a:pt x="1296" y="3737"/>
                  </a:lnTo>
                  <a:lnTo>
                    <a:pt x="1283" y="1"/>
                  </a:lnTo>
                  <a:close/>
                </a:path>
              </a:pathLst>
            </a:custGeom>
            <a:solidFill>
              <a:srgbClr val="4a7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88720" y="423720"/>
              <a:ext cx="331920" cy="317520"/>
            </a:xfrm>
            <a:custGeom>
              <a:avLst/>
              <a:gdLst/>
              <a:ahLst/>
              <a:rect l="l" t="t" r="r" b="b"/>
              <a:pathLst>
                <a:path w="3102" h="3498">
                  <a:moveTo>
                    <a:pt x="1807" y="0"/>
                  </a:moveTo>
                  <a:lnTo>
                    <a:pt x="1720" y="40"/>
                  </a:lnTo>
                  <a:lnTo>
                    <a:pt x="1635" y="83"/>
                  </a:lnTo>
                  <a:lnTo>
                    <a:pt x="1551" y="125"/>
                  </a:lnTo>
                  <a:lnTo>
                    <a:pt x="1470" y="170"/>
                  </a:lnTo>
                  <a:lnTo>
                    <a:pt x="1392" y="217"/>
                  </a:lnTo>
                  <a:lnTo>
                    <a:pt x="1316" y="264"/>
                  </a:lnTo>
                  <a:lnTo>
                    <a:pt x="1240" y="312"/>
                  </a:lnTo>
                  <a:lnTo>
                    <a:pt x="1168" y="361"/>
                  </a:lnTo>
                  <a:lnTo>
                    <a:pt x="1098" y="413"/>
                  </a:lnTo>
                  <a:lnTo>
                    <a:pt x="1029" y="464"/>
                  </a:lnTo>
                  <a:lnTo>
                    <a:pt x="963" y="517"/>
                  </a:lnTo>
                  <a:lnTo>
                    <a:pt x="898" y="569"/>
                  </a:lnTo>
                  <a:lnTo>
                    <a:pt x="836" y="624"/>
                  </a:lnTo>
                  <a:lnTo>
                    <a:pt x="775" y="679"/>
                  </a:lnTo>
                  <a:lnTo>
                    <a:pt x="717" y="734"/>
                  </a:lnTo>
                  <a:lnTo>
                    <a:pt x="660" y="791"/>
                  </a:lnTo>
                  <a:lnTo>
                    <a:pt x="605" y="848"/>
                  </a:lnTo>
                  <a:lnTo>
                    <a:pt x="553" y="904"/>
                  </a:lnTo>
                  <a:lnTo>
                    <a:pt x="501" y="962"/>
                  </a:lnTo>
                  <a:lnTo>
                    <a:pt x="453" y="1020"/>
                  </a:lnTo>
                  <a:lnTo>
                    <a:pt x="405" y="1077"/>
                  </a:lnTo>
                  <a:lnTo>
                    <a:pt x="360" y="1135"/>
                  </a:lnTo>
                  <a:lnTo>
                    <a:pt x="316" y="1194"/>
                  </a:lnTo>
                  <a:lnTo>
                    <a:pt x="274" y="1251"/>
                  </a:lnTo>
                  <a:lnTo>
                    <a:pt x="234" y="1310"/>
                  </a:lnTo>
                  <a:lnTo>
                    <a:pt x="195" y="1367"/>
                  </a:lnTo>
                  <a:lnTo>
                    <a:pt x="159" y="1425"/>
                  </a:lnTo>
                  <a:lnTo>
                    <a:pt x="124" y="1483"/>
                  </a:lnTo>
                  <a:lnTo>
                    <a:pt x="90" y="1539"/>
                  </a:lnTo>
                  <a:lnTo>
                    <a:pt x="58" y="1596"/>
                  </a:lnTo>
                  <a:lnTo>
                    <a:pt x="27" y="1652"/>
                  </a:lnTo>
                  <a:lnTo>
                    <a:pt x="0" y="1707"/>
                  </a:lnTo>
                  <a:lnTo>
                    <a:pt x="3102" y="3498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c6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97640" y="612720"/>
              <a:ext cx="375120" cy="334800"/>
            </a:xfrm>
            <a:custGeom>
              <a:avLst/>
              <a:gdLst/>
              <a:ahLst/>
              <a:rect l="l" t="t" r="r" b="b"/>
              <a:pathLst>
                <a:path w="3521" h="3693">
                  <a:moveTo>
                    <a:pt x="432" y="0"/>
                  </a:moveTo>
                  <a:lnTo>
                    <a:pt x="405" y="49"/>
                  </a:lnTo>
                  <a:lnTo>
                    <a:pt x="380" y="100"/>
                  </a:lnTo>
                  <a:lnTo>
                    <a:pt x="356" y="151"/>
                  </a:lnTo>
                  <a:lnTo>
                    <a:pt x="331" y="203"/>
                  </a:lnTo>
                  <a:lnTo>
                    <a:pt x="309" y="255"/>
                  </a:lnTo>
                  <a:lnTo>
                    <a:pt x="286" y="306"/>
                  </a:lnTo>
                  <a:lnTo>
                    <a:pt x="265" y="359"/>
                  </a:lnTo>
                  <a:lnTo>
                    <a:pt x="245" y="411"/>
                  </a:lnTo>
                  <a:lnTo>
                    <a:pt x="225" y="464"/>
                  </a:lnTo>
                  <a:lnTo>
                    <a:pt x="205" y="518"/>
                  </a:lnTo>
                  <a:lnTo>
                    <a:pt x="188" y="572"/>
                  </a:lnTo>
                  <a:lnTo>
                    <a:pt x="170" y="626"/>
                  </a:lnTo>
                  <a:lnTo>
                    <a:pt x="154" y="681"/>
                  </a:lnTo>
                  <a:lnTo>
                    <a:pt x="138" y="736"/>
                  </a:lnTo>
                  <a:lnTo>
                    <a:pt x="124" y="791"/>
                  </a:lnTo>
                  <a:lnTo>
                    <a:pt x="109" y="847"/>
                  </a:lnTo>
                  <a:lnTo>
                    <a:pt x="96" y="902"/>
                  </a:lnTo>
                  <a:lnTo>
                    <a:pt x="84" y="958"/>
                  </a:lnTo>
                  <a:lnTo>
                    <a:pt x="73" y="1015"/>
                  </a:lnTo>
                  <a:lnTo>
                    <a:pt x="62" y="1071"/>
                  </a:lnTo>
                  <a:lnTo>
                    <a:pt x="52" y="1129"/>
                  </a:lnTo>
                  <a:lnTo>
                    <a:pt x="43" y="1186"/>
                  </a:lnTo>
                  <a:lnTo>
                    <a:pt x="35" y="1244"/>
                  </a:lnTo>
                  <a:lnTo>
                    <a:pt x="28" y="1303"/>
                  </a:lnTo>
                  <a:lnTo>
                    <a:pt x="21" y="1360"/>
                  </a:lnTo>
                  <a:lnTo>
                    <a:pt x="15" y="1420"/>
                  </a:lnTo>
                  <a:lnTo>
                    <a:pt x="11" y="1478"/>
                  </a:lnTo>
                  <a:lnTo>
                    <a:pt x="7" y="1538"/>
                  </a:lnTo>
                  <a:lnTo>
                    <a:pt x="4" y="1597"/>
                  </a:lnTo>
                  <a:lnTo>
                    <a:pt x="2" y="1657"/>
                  </a:lnTo>
                  <a:lnTo>
                    <a:pt x="0" y="1716"/>
                  </a:lnTo>
                  <a:lnTo>
                    <a:pt x="0" y="1777"/>
                  </a:lnTo>
                  <a:lnTo>
                    <a:pt x="0" y="1842"/>
                  </a:lnTo>
                  <a:lnTo>
                    <a:pt x="2" y="1908"/>
                  </a:lnTo>
                  <a:lnTo>
                    <a:pt x="4" y="1972"/>
                  </a:lnTo>
                  <a:lnTo>
                    <a:pt x="8" y="2037"/>
                  </a:lnTo>
                  <a:lnTo>
                    <a:pt x="13" y="2101"/>
                  </a:lnTo>
                  <a:lnTo>
                    <a:pt x="19" y="2165"/>
                  </a:lnTo>
                  <a:lnTo>
                    <a:pt x="25" y="2228"/>
                  </a:lnTo>
                  <a:lnTo>
                    <a:pt x="32" y="2293"/>
                  </a:lnTo>
                  <a:lnTo>
                    <a:pt x="41" y="2356"/>
                  </a:lnTo>
                  <a:lnTo>
                    <a:pt x="51" y="2419"/>
                  </a:lnTo>
                  <a:lnTo>
                    <a:pt x="61" y="2480"/>
                  </a:lnTo>
                  <a:lnTo>
                    <a:pt x="73" y="2542"/>
                  </a:lnTo>
                  <a:lnTo>
                    <a:pt x="85" y="2604"/>
                  </a:lnTo>
                  <a:lnTo>
                    <a:pt x="98" y="2666"/>
                  </a:lnTo>
                  <a:lnTo>
                    <a:pt x="113" y="2727"/>
                  </a:lnTo>
                  <a:lnTo>
                    <a:pt x="128" y="2788"/>
                  </a:lnTo>
                  <a:lnTo>
                    <a:pt x="145" y="2847"/>
                  </a:lnTo>
                  <a:lnTo>
                    <a:pt x="161" y="2907"/>
                  </a:lnTo>
                  <a:lnTo>
                    <a:pt x="180" y="2966"/>
                  </a:lnTo>
                  <a:lnTo>
                    <a:pt x="199" y="3025"/>
                  </a:lnTo>
                  <a:lnTo>
                    <a:pt x="219" y="3083"/>
                  </a:lnTo>
                  <a:lnTo>
                    <a:pt x="240" y="3142"/>
                  </a:lnTo>
                  <a:lnTo>
                    <a:pt x="262" y="3199"/>
                  </a:lnTo>
                  <a:lnTo>
                    <a:pt x="285" y="3256"/>
                  </a:lnTo>
                  <a:lnTo>
                    <a:pt x="308" y="3312"/>
                  </a:lnTo>
                  <a:lnTo>
                    <a:pt x="333" y="3368"/>
                  </a:lnTo>
                  <a:lnTo>
                    <a:pt x="358" y="3423"/>
                  </a:lnTo>
                  <a:lnTo>
                    <a:pt x="384" y="3478"/>
                  </a:lnTo>
                  <a:lnTo>
                    <a:pt x="412" y="3533"/>
                  </a:lnTo>
                  <a:lnTo>
                    <a:pt x="440" y="3587"/>
                  </a:lnTo>
                  <a:lnTo>
                    <a:pt x="469" y="3640"/>
                  </a:lnTo>
                  <a:lnTo>
                    <a:pt x="499" y="3693"/>
                  </a:lnTo>
                  <a:lnTo>
                    <a:pt x="3521" y="1791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86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61320" y="509400"/>
              <a:ext cx="22320" cy="76320"/>
            </a:xfrm>
            <a:custGeom>
              <a:avLst/>
              <a:gdLst/>
              <a:ahLst/>
              <a:rect l="l" t="t" r="r" b="b"/>
              <a:pathLst>
                <a:path w="215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15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85440" y="50796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4" y="0"/>
                  </a:moveTo>
                  <a:lnTo>
                    <a:pt x="634" y="644"/>
                  </a:lnTo>
                  <a:lnTo>
                    <a:pt x="729" y="29"/>
                  </a:lnTo>
                  <a:lnTo>
                    <a:pt x="823" y="29"/>
                  </a:lnTo>
                  <a:lnTo>
                    <a:pt x="701" y="896"/>
                  </a:lnTo>
                  <a:lnTo>
                    <a:pt x="203" y="239"/>
                  </a:lnTo>
                  <a:lnTo>
                    <a:pt x="108" y="854"/>
                  </a:lnTo>
                  <a:lnTo>
                    <a:pt x="0" y="854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75080" y="509400"/>
              <a:ext cx="57240" cy="777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59" y="182"/>
                  </a:moveTo>
                  <a:lnTo>
                    <a:pt x="456" y="172"/>
                  </a:lnTo>
                  <a:lnTo>
                    <a:pt x="453" y="163"/>
                  </a:lnTo>
                  <a:lnTo>
                    <a:pt x="448" y="154"/>
                  </a:lnTo>
                  <a:lnTo>
                    <a:pt x="444" y="146"/>
                  </a:lnTo>
                  <a:lnTo>
                    <a:pt x="438" y="139"/>
                  </a:lnTo>
                  <a:lnTo>
                    <a:pt x="433" y="132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5"/>
                  </a:lnTo>
                  <a:lnTo>
                    <a:pt x="405" y="110"/>
                  </a:lnTo>
                  <a:lnTo>
                    <a:pt x="398" y="107"/>
                  </a:lnTo>
                  <a:lnTo>
                    <a:pt x="389" y="103"/>
                  </a:lnTo>
                  <a:lnTo>
                    <a:pt x="380" y="101"/>
                  </a:lnTo>
                  <a:lnTo>
                    <a:pt x="371" y="100"/>
                  </a:lnTo>
                  <a:lnTo>
                    <a:pt x="361" y="99"/>
                  </a:lnTo>
                  <a:lnTo>
                    <a:pt x="351" y="99"/>
                  </a:lnTo>
                  <a:lnTo>
                    <a:pt x="338" y="99"/>
                  </a:lnTo>
                  <a:lnTo>
                    <a:pt x="326" y="101"/>
                  </a:lnTo>
                  <a:lnTo>
                    <a:pt x="313" y="103"/>
                  </a:lnTo>
                  <a:lnTo>
                    <a:pt x="299" y="107"/>
                  </a:lnTo>
                  <a:lnTo>
                    <a:pt x="286" y="110"/>
                  </a:lnTo>
                  <a:lnTo>
                    <a:pt x="274" y="116"/>
                  </a:lnTo>
                  <a:lnTo>
                    <a:pt x="262" y="122"/>
                  </a:lnTo>
                  <a:lnTo>
                    <a:pt x="250" y="129"/>
                  </a:lnTo>
                  <a:lnTo>
                    <a:pt x="238" y="135"/>
                  </a:lnTo>
                  <a:lnTo>
                    <a:pt x="229" y="145"/>
                  </a:lnTo>
                  <a:lnTo>
                    <a:pt x="220" y="154"/>
                  </a:lnTo>
                  <a:lnTo>
                    <a:pt x="211" y="164"/>
                  </a:lnTo>
                  <a:lnTo>
                    <a:pt x="203" y="174"/>
                  </a:lnTo>
                  <a:lnTo>
                    <a:pt x="198" y="186"/>
                  </a:lnTo>
                  <a:lnTo>
                    <a:pt x="192" y="197"/>
                  </a:lnTo>
                  <a:lnTo>
                    <a:pt x="189" y="211"/>
                  </a:lnTo>
                  <a:lnTo>
                    <a:pt x="190" y="224"/>
                  </a:lnTo>
                  <a:lnTo>
                    <a:pt x="192" y="235"/>
                  </a:lnTo>
                  <a:lnTo>
                    <a:pt x="194" y="247"/>
                  </a:lnTo>
                  <a:lnTo>
                    <a:pt x="199" y="258"/>
                  </a:lnTo>
                  <a:lnTo>
                    <a:pt x="203" y="268"/>
                  </a:lnTo>
                  <a:lnTo>
                    <a:pt x="209" y="277"/>
                  </a:lnTo>
                  <a:lnTo>
                    <a:pt x="214" y="287"/>
                  </a:lnTo>
                  <a:lnTo>
                    <a:pt x="221" y="295"/>
                  </a:lnTo>
                  <a:lnTo>
                    <a:pt x="229" y="302"/>
                  </a:lnTo>
                  <a:lnTo>
                    <a:pt x="236" y="308"/>
                  </a:lnTo>
                  <a:lnTo>
                    <a:pt x="244" y="315"/>
                  </a:lnTo>
                  <a:lnTo>
                    <a:pt x="252" y="321"/>
                  </a:lnTo>
                  <a:lnTo>
                    <a:pt x="268" y="330"/>
                  </a:lnTo>
                  <a:lnTo>
                    <a:pt x="284" y="336"/>
                  </a:lnTo>
                  <a:lnTo>
                    <a:pt x="338" y="365"/>
                  </a:lnTo>
                  <a:lnTo>
                    <a:pt x="358" y="373"/>
                  </a:lnTo>
                  <a:lnTo>
                    <a:pt x="377" y="381"/>
                  </a:lnTo>
                  <a:lnTo>
                    <a:pt x="395" y="390"/>
                  </a:lnTo>
                  <a:lnTo>
                    <a:pt x="412" y="400"/>
                  </a:lnTo>
                  <a:lnTo>
                    <a:pt x="429" y="410"/>
                  </a:lnTo>
                  <a:lnTo>
                    <a:pt x="443" y="421"/>
                  </a:lnTo>
                  <a:lnTo>
                    <a:pt x="457" y="433"/>
                  </a:lnTo>
                  <a:lnTo>
                    <a:pt x="469" y="447"/>
                  </a:lnTo>
                  <a:lnTo>
                    <a:pt x="479" y="461"/>
                  </a:lnTo>
                  <a:lnTo>
                    <a:pt x="488" y="477"/>
                  </a:lnTo>
                  <a:lnTo>
                    <a:pt x="493" y="485"/>
                  </a:lnTo>
                  <a:lnTo>
                    <a:pt x="496" y="494"/>
                  </a:lnTo>
                  <a:lnTo>
                    <a:pt x="498" y="503"/>
                  </a:lnTo>
                  <a:lnTo>
                    <a:pt x="500" y="512"/>
                  </a:lnTo>
                  <a:lnTo>
                    <a:pt x="503" y="522"/>
                  </a:lnTo>
                  <a:lnTo>
                    <a:pt x="504" y="532"/>
                  </a:lnTo>
                  <a:lnTo>
                    <a:pt x="505" y="542"/>
                  </a:lnTo>
                  <a:lnTo>
                    <a:pt x="505" y="554"/>
                  </a:lnTo>
                  <a:lnTo>
                    <a:pt x="504" y="576"/>
                  </a:lnTo>
                  <a:lnTo>
                    <a:pt x="499" y="602"/>
                  </a:lnTo>
                  <a:lnTo>
                    <a:pt x="497" y="617"/>
                  </a:lnTo>
                  <a:lnTo>
                    <a:pt x="494" y="630"/>
                  </a:lnTo>
                  <a:lnTo>
                    <a:pt x="489" y="644"/>
                  </a:lnTo>
                  <a:lnTo>
                    <a:pt x="485" y="658"/>
                  </a:lnTo>
                  <a:lnTo>
                    <a:pt x="480" y="672"/>
                  </a:lnTo>
                  <a:lnTo>
                    <a:pt x="475" y="684"/>
                  </a:lnTo>
                  <a:lnTo>
                    <a:pt x="469" y="697"/>
                  </a:lnTo>
                  <a:lnTo>
                    <a:pt x="463" y="708"/>
                  </a:lnTo>
                  <a:lnTo>
                    <a:pt x="456" y="721"/>
                  </a:lnTo>
                  <a:lnTo>
                    <a:pt x="448" y="732"/>
                  </a:lnTo>
                  <a:lnTo>
                    <a:pt x="441" y="744"/>
                  </a:lnTo>
                  <a:lnTo>
                    <a:pt x="433" y="754"/>
                  </a:lnTo>
                  <a:lnTo>
                    <a:pt x="424" y="764"/>
                  </a:lnTo>
                  <a:lnTo>
                    <a:pt x="415" y="775"/>
                  </a:lnTo>
                  <a:lnTo>
                    <a:pt x="406" y="784"/>
                  </a:lnTo>
                  <a:lnTo>
                    <a:pt x="396" y="793"/>
                  </a:lnTo>
                  <a:lnTo>
                    <a:pt x="387" y="801"/>
                  </a:lnTo>
                  <a:lnTo>
                    <a:pt x="377" y="810"/>
                  </a:lnTo>
                  <a:lnTo>
                    <a:pt x="366" y="817"/>
                  </a:lnTo>
                  <a:lnTo>
                    <a:pt x="354" y="825"/>
                  </a:lnTo>
                  <a:lnTo>
                    <a:pt x="343" y="831"/>
                  </a:lnTo>
                  <a:lnTo>
                    <a:pt x="332" y="838"/>
                  </a:lnTo>
                  <a:lnTo>
                    <a:pt x="320" y="843"/>
                  </a:lnTo>
                  <a:lnTo>
                    <a:pt x="308" y="848"/>
                  </a:lnTo>
                  <a:lnTo>
                    <a:pt x="296" y="853"/>
                  </a:lnTo>
                  <a:lnTo>
                    <a:pt x="283" y="857"/>
                  </a:lnTo>
                  <a:lnTo>
                    <a:pt x="271" y="861"/>
                  </a:lnTo>
                  <a:lnTo>
                    <a:pt x="257" y="863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7"/>
                  </a:lnTo>
                  <a:lnTo>
                    <a:pt x="170" y="865"/>
                  </a:lnTo>
                  <a:lnTo>
                    <a:pt x="159" y="864"/>
                  </a:lnTo>
                  <a:lnTo>
                    <a:pt x="149" y="861"/>
                  </a:lnTo>
                  <a:lnTo>
                    <a:pt x="139" y="858"/>
                  </a:lnTo>
                  <a:lnTo>
                    <a:pt x="129" y="855"/>
                  </a:lnTo>
                  <a:lnTo>
                    <a:pt x="120" y="850"/>
                  </a:lnTo>
                  <a:lnTo>
                    <a:pt x="110" y="846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30"/>
                  </a:lnTo>
                  <a:lnTo>
                    <a:pt x="69" y="817"/>
                  </a:lnTo>
                  <a:lnTo>
                    <a:pt x="56" y="801"/>
                  </a:lnTo>
                  <a:lnTo>
                    <a:pt x="43" y="785"/>
                  </a:lnTo>
                  <a:lnTo>
                    <a:pt x="32" y="767"/>
                  </a:lnTo>
                  <a:lnTo>
                    <a:pt x="23" y="747"/>
                  </a:lnTo>
                  <a:lnTo>
                    <a:pt x="15" y="727"/>
                  </a:lnTo>
                  <a:lnTo>
                    <a:pt x="9" y="704"/>
                  </a:lnTo>
                  <a:lnTo>
                    <a:pt x="4" y="681"/>
                  </a:lnTo>
                  <a:lnTo>
                    <a:pt x="1" y="656"/>
                  </a:lnTo>
                  <a:lnTo>
                    <a:pt x="0" y="630"/>
                  </a:lnTo>
                  <a:lnTo>
                    <a:pt x="95" y="617"/>
                  </a:lnTo>
                  <a:lnTo>
                    <a:pt x="93" y="631"/>
                  </a:lnTo>
                  <a:lnTo>
                    <a:pt x="94" y="648"/>
                  </a:lnTo>
                  <a:lnTo>
                    <a:pt x="95" y="661"/>
                  </a:lnTo>
                  <a:lnTo>
                    <a:pt x="99" y="676"/>
                  </a:lnTo>
                  <a:lnTo>
                    <a:pt x="104" y="689"/>
                  </a:lnTo>
                  <a:lnTo>
                    <a:pt x="110" y="701"/>
                  </a:lnTo>
                  <a:lnTo>
                    <a:pt x="118" y="714"/>
                  </a:lnTo>
                  <a:lnTo>
                    <a:pt x="127" y="724"/>
                  </a:lnTo>
                  <a:lnTo>
                    <a:pt x="137" y="735"/>
                  </a:lnTo>
                  <a:lnTo>
                    <a:pt x="148" y="744"/>
                  </a:lnTo>
                  <a:lnTo>
                    <a:pt x="160" y="752"/>
                  </a:lnTo>
                  <a:lnTo>
                    <a:pt x="172" y="758"/>
                  </a:lnTo>
                  <a:lnTo>
                    <a:pt x="187" y="763"/>
                  </a:lnTo>
                  <a:lnTo>
                    <a:pt x="200" y="767"/>
                  </a:lnTo>
                  <a:lnTo>
                    <a:pt x="214" y="769"/>
                  </a:lnTo>
                  <a:lnTo>
                    <a:pt x="230" y="770"/>
                  </a:lnTo>
                  <a:lnTo>
                    <a:pt x="245" y="769"/>
                  </a:lnTo>
                  <a:lnTo>
                    <a:pt x="259" y="767"/>
                  </a:lnTo>
                  <a:lnTo>
                    <a:pt x="275" y="763"/>
                  </a:lnTo>
                  <a:lnTo>
                    <a:pt x="289" y="758"/>
                  </a:lnTo>
                  <a:lnTo>
                    <a:pt x="304" y="751"/>
                  </a:lnTo>
                  <a:lnTo>
                    <a:pt x="317" y="743"/>
                  </a:lnTo>
                  <a:lnTo>
                    <a:pt x="330" y="733"/>
                  </a:lnTo>
                  <a:lnTo>
                    <a:pt x="342" y="723"/>
                  </a:lnTo>
                  <a:lnTo>
                    <a:pt x="354" y="712"/>
                  </a:lnTo>
                  <a:lnTo>
                    <a:pt x="366" y="698"/>
                  </a:lnTo>
                  <a:lnTo>
                    <a:pt x="374" y="684"/>
                  </a:lnTo>
                  <a:lnTo>
                    <a:pt x="383" y="669"/>
                  </a:lnTo>
                  <a:lnTo>
                    <a:pt x="391" y="654"/>
                  </a:lnTo>
                  <a:lnTo>
                    <a:pt x="396" y="637"/>
                  </a:lnTo>
                  <a:lnTo>
                    <a:pt x="402" y="620"/>
                  </a:lnTo>
                  <a:lnTo>
                    <a:pt x="405" y="602"/>
                  </a:lnTo>
                  <a:lnTo>
                    <a:pt x="406" y="587"/>
                  </a:lnTo>
                  <a:lnTo>
                    <a:pt x="406" y="573"/>
                  </a:lnTo>
                  <a:lnTo>
                    <a:pt x="404" y="559"/>
                  </a:lnTo>
                  <a:lnTo>
                    <a:pt x="401" y="547"/>
                  </a:lnTo>
                  <a:lnTo>
                    <a:pt x="396" y="535"/>
                  </a:lnTo>
                  <a:lnTo>
                    <a:pt x="390" y="524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60"/>
                  </a:lnTo>
                  <a:lnTo>
                    <a:pt x="284" y="448"/>
                  </a:lnTo>
                  <a:lnTo>
                    <a:pt x="243" y="421"/>
                  </a:lnTo>
                  <a:lnTo>
                    <a:pt x="226" y="415"/>
                  </a:lnTo>
                  <a:lnTo>
                    <a:pt x="209" y="408"/>
                  </a:lnTo>
                  <a:lnTo>
                    <a:pt x="193" y="401"/>
                  </a:lnTo>
                  <a:lnTo>
                    <a:pt x="178" y="393"/>
                  </a:lnTo>
                  <a:lnTo>
                    <a:pt x="164" y="385"/>
                  </a:lnTo>
                  <a:lnTo>
                    <a:pt x="151" y="375"/>
                  </a:lnTo>
                  <a:lnTo>
                    <a:pt x="139" y="365"/>
                  </a:lnTo>
                  <a:lnTo>
                    <a:pt x="128" y="352"/>
                  </a:lnTo>
                  <a:lnTo>
                    <a:pt x="119" y="339"/>
                  </a:lnTo>
                  <a:lnTo>
                    <a:pt x="111" y="324"/>
                  </a:lnTo>
                  <a:lnTo>
                    <a:pt x="104" y="310"/>
                  </a:lnTo>
                  <a:lnTo>
                    <a:pt x="99" y="292"/>
                  </a:lnTo>
                  <a:lnTo>
                    <a:pt x="95" y="274"/>
                  </a:lnTo>
                  <a:lnTo>
                    <a:pt x="94" y="255"/>
                  </a:lnTo>
                  <a:lnTo>
                    <a:pt x="93" y="233"/>
                  </a:lnTo>
                  <a:lnTo>
                    <a:pt x="95" y="211"/>
                  </a:lnTo>
                  <a:lnTo>
                    <a:pt x="97" y="198"/>
                  </a:lnTo>
                  <a:lnTo>
                    <a:pt x="100" y="187"/>
                  </a:lnTo>
                  <a:lnTo>
                    <a:pt x="105" y="177"/>
                  </a:lnTo>
                  <a:lnTo>
                    <a:pt x="109" y="165"/>
                  </a:lnTo>
                  <a:lnTo>
                    <a:pt x="119" y="145"/>
                  </a:lnTo>
                  <a:lnTo>
                    <a:pt x="131" y="125"/>
                  </a:lnTo>
                  <a:lnTo>
                    <a:pt x="145" y="106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9"/>
                  </a:lnTo>
                  <a:lnTo>
                    <a:pt x="213" y="45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6"/>
                  </a:lnTo>
                  <a:lnTo>
                    <a:pt x="297" y="9"/>
                  </a:lnTo>
                  <a:lnTo>
                    <a:pt x="319" y="5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2" y="1"/>
                  </a:lnTo>
                  <a:lnTo>
                    <a:pt x="399" y="3"/>
                  </a:lnTo>
                  <a:lnTo>
                    <a:pt x="414" y="5"/>
                  </a:lnTo>
                  <a:lnTo>
                    <a:pt x="429" y="8"/>
                  </a:lnTo>
                  <a:lnTo>
                    <a:pt x="442" y="13"/>
                  </a:lnTo>
                  <a:lnTo>
                    <a:pt x="455" y="19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0" y="49"/>
                  </a:lnTo>
                  <a:lnTo>
                    <a:pt x="510" y="60"/>
                  </a:lnTo>
                  <a:lnTo>
                    <a:pt x="520" y="71"/>
                  </a:lnTo>
                  <a:lnTo>
                    <a:pt x="529" y="84"/>
                  </a:lnTo>
                  <a:lnTo>
                    <a:pt x="538" y="98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59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38440" y="509400"/>
              <a:ext cx="5400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4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86680" y="509400"/>
              <a:ext cx="24480" cy="76320"/>
            </a:xfrm>
            <a:custGeom>
              <a:avLst/>
              <a:gdLst/>
              <a:ahLst/>
              <a:rect l="l" t="t" r="r" b="b"/>
              <a:pathLst>
                <a:path w="229" h="825">
                  <a:moveTo>
                    <a:pt x="94" y="825"/>
                  </a:moveTo>
                  <a:lnTo>
                    <a:pt x="0" y="825"/>
                  </a:lnTo>
                  <a:lnTo>
                    <a:pt x="121" y="0"/>
                  </a:lnTo>
                  <a:lnTo>
                    <a:pt x="229" y="0"/>
                  </a:lnTo>
                  <a:lnTo>
                    <a:pt x="94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16920" y="509400"/>
              <a:ext cx="51840" cy="76320"/>
            </a:xfrm>
            <a:custGeom>
              <a:avLst/>
              <a:gdLst/>
              <a:ahLst/>
              <a:rect l="l" t="t" r="r" b="b"/>
              <a:pathLst>
                <a:path w="500" h="825">
                  <a:moveTo>
                    <a:pt x="176" y="825"/>
                  </a:moveTo>
                  <a:lnTo>
                    <a:pt x="82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5" y="0"/>
                  </a:lnTo>
                  <a:lnTo>
                    <a:pt x="500" y="0"/>
                  </a:lnTo>
                  <a:lnTo>
                    <a:pt x="487" y="98"/>
                  </a:lnTo>
                  <a:lnTo>
                    <a:pt x="298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67320" y="509400"/>
              <a:ext cx="72720" cy="77760"/>
            </a:xfrm>
            <a:custGeom>
              <a:avLst/>
              <a:gdLst/>
              <a:ahLst/>
              <a:rect l="l" t="t" r="r" b="b"/>
              <a:pathLst>
                <a:path w="678" h="852">
                  <a:moveTo>
                    <a:pt x="193" y="0"/>
                  </a:moveTo>
                  <a:lnTo>
                    <a:pt x="113" y="489"/>
                  </a:lnTo>
                  <a:lnTo>
                    <a:pt x="110" y="516"/>
                  </a:lnTo>
                  <a:lnTo>
                    <a:pt x="108" y="541"/>
                  </a:lnTo>
                  <a:lnTo>
                    <a:pt x="108" y="566"/>
                  </a:lnTo>
                  <a:lnTo>
                    <a:pt x="109" y="590"/>
                  </a:lnTo>
                  <a:lnTo>
                    <a:pt x="111" y="613"/>
                  </a:lnTo>
                  <a:lnTo>
                    <a:pt x="115" y="635"/>
                  </a:lnTo>
                  <a:lnTo>
                    <a:pt x="117" y="645"/>
                  </a:lnTo>
                  <a:lnTo>
                    <a:pt x="120" y="655"/>
                  </a:lnTo>
                  <a:lnTo>
                    <a:pt x="124" y="666"/>
                  </a:lnTo>
                  <a:lnTo>
                    <a:pt x="127" y="675"/>
                  </a:lnTo>
                  <a:lnTo>
                    <a:pt x="131" y="684"/>
                  </a:lnTo>
                  <a:lnTo>
                    <a:pt x="137" y="692"/>
                  </a:lnTo>
                  <a:lnTo>
                    <a:pt x="142" y="700"/>
                  </a:lnTo>
                  <a:lnTo>
                    <a:pt x="148" y="708"/>
                  </a:lnTo>
                  <a:lnTo>
                    <a:pt x="154" y="715"/>
                  </a:lnTo>
                  <a:lnTo>
                    <a:pt x="162" y="722"/>
                  </a:lnTo>
                  <a:lnTo>
                    <a:pt x="170" y="728"/>
                  </a:lnTo>
                  <a:lnTo>
                    <a:pt x="179" y="733"/>
                  </a:lnTo>
                  <a:lnTo>
                    <a:pt x="188" y="738"/>
                  </a:lnTo>
                  <a:lnTo>
                    <a:pt x="198" y="743"/>
                  </a:lnTo>
                  <a:lnTo>
                    <a:pt x="209" y="746"/>
                  </a:lnTo>
                  <a:lnTo>
                    <a:pt x="220" y="749"/>
                  </a:lnTo>
                  <a:lnTo>
                    <a:pt x="232" y="752"/>
                  </a:lnTo>
                  <a:lnTo>
                    <a:pt x="245" y="754"/>
                  </a:lnTo>
                  <a:lnTo>
                    <a:pt x="259" y="755"/>
                  </a:lnTo>
                  <a:lnTo>
                    <a:pt x="274" y="755"/>
                  </a:lnTo>
                  <a:lnTo>
                    <a:pt x="287" y="755"/>
                  </a:lnTo>
                  <a:lnTo>
                    <a:pt x="300" y="754"/>
                  </a:lnTo>
                  <a:lnTo>
                    <a:pt x="314" y="752"/>
                  </a:lnTo>
                  <a:lnTo>
                    <a:pt x="326" y="749"/>
                  </a:lnTo>
                  <a:lnTo>
                    <a:pt x="337" y="746"/>
                  </a:lnTo>
                  <a:lnTo>
                    <a:pt x="348" y="743"/>
                  </a:lnTo>
                  <a:lnTo>
                    <a:pt x="359" y="738"/>
                  </a:lnTo>
                  <a:lnTo>
                    <a:pt x="369" y="733"/>
                  </a:lnTo>
                  <a:lnTo>
                    <a:pt x="378" y="728"/>
                  </a:lnTo>
                  <a:lnTo>
                    <a:pt x="388" y="722"/>
                  </a:lnTo>
                  <a:lnTo>
                    <a:pt x="396" y="715"/>
                  </a:lnTo>
                  <a:lnTo>
                    <a:pt x="404" y="708"/>
                  </a:lnTo>
                  <a:lnTo>
                    <a:pt x="413" y="700"/>
                  </a:lnTo>
                  <a:lnTo>
                    <a:pt x="420" y="692"/>
                  </a:lnTo>
                  <a:lnTo>
                    <a:pt x="427" y="684"/>
                  </a:lnTo>
                  <a:lnTo>
                    <a:pt x="434" y="675"/>
                  </a:lnTo>
                  <a:lnTo>
                    <a:pt x="446" y="655"/>
                  </a:lnTo>
                  <a:lnTo>
                    <a:pt x="458" y="635"/>
                  </a:lnTo>
                  <a:lnTo>
                    <a:pt x="468" y="613"/>
                  </a:lnTo>
                  <a:lnTo>
                    <a:pt x="477" y="590"/>
                  </a:lnTo>
                  <a:lnTo>
                    <a:pt x="485" y="566"/>
                  </a:lnTo>
                  <a:lnTo>
                    <a:pt x="491" y="541"/>
                  </a:lnTo>
                  <a:lnTo>
                    <a:pt x="498" y="516"/>
                  </a:lnTo>
                  <a:lnTo>
                    <a:pt x="504" y="489"/>
                  </a:lnTo>
                  <a:lnTo>
                    <a:pt x="571" y="0"/>
                  </a:lnTo>
                  <a:lnTo>
                    <a:pt x="678" y="0"/>
                  </a:lnTo>
                  <a:lnTo>
                    <a:pt x="597" y="532"/>
                  </a:lnTo>
                  <a:lnTo>
                    <a:pt x="595" y="548"/>
                  </a:lnTo>
                  <a:lnTo>
                    <a:pt x="591" y="565"/>
                  </a:lnTo>
                  <a:lnTo>
                    <a:pt x="588" y="581"/>
                  </a:lnTo>
                  <a:lnTo>
                    <a:pt x="583" y="597"/>
                  </a:lnTo>
                  <a:lnTo>
                    <a:pt x="578" y="613"/>
                  </a:lnTo>
                  <a:lnTo>
                    <a:pt x="571" y="629"/>
                  </a:lnTo>
                  <a:lnTo>
                    <a:pt x="565" y="644"/>
                  </a:lnTo>
                  <a:lnTo>
                    <a:pt x="558" y="659"/>
                  </a:lnTo>
                  <a:lnTo>
                    <a:pt x="550" y="673"/>
                  </a:lnTo>
                  <a:lnTo>
                    <a:pt x="542" y="686"/>
                  </a:lnTo>
                  <a:lnTo>
                    <a:pt x="533" y="700"/>
                  </a:lnTo>
                  <a:lnTo>
                    <a:pt x="525" y="713"/>
                  </a:lnTo>
                  <a:lnTo>
                    <a:pt x="515" y="725"/>
                  </a:lnTo>
                  <a:lnTo>
                    <a:pt x="505" y="738"/>
                  </a:lnTo>
                  <a:lnTo>
                    <a:pt x="494" y="749"/>
                  </a:lnTo>
                  <a:lnTo>
                    <a:pt x="483" y="761"/>
                  </a:lnTo>
                  <a:lnTo>
                    <a:pt x="472" y="771"/>
                  </a:lnTo>
                  <a:lnTo>
                    <a:pt x="459" y="781"/>
                  </a:lnTo>
                  <a:lnTo>
                    <a:pt x="447" y="791"/>
                  </a:lnTo>
                  <a:lnTo>
                    <a:pt x="434" y="800"/>
                  </a:lnTo>
                  <a:lnTo>
                    <a:pt x="421" y="808"/>
                  </a:lnTo>
                  <a:lnTo>
                    <a:pt x="406" y="815"/>
                  </a:lnTo>
                  <a:lnTo>
                    <a:pt x="392" y="822"/>
                  </a:lnTo>
                  <a:lnTo>
                    <a:pt x="378" y="828"/>
                  </a:lnTo>
                  <a:lnTo>
                    <a:pt x="362" y="834"/>
                  </a:lnTo>
                  <a:lnTo>
                    <a:pt x="347" y="839"/>
                  </a:lnTo>
                  <a:lnTo>
                    <a:pt x="331" y="843"/>
                  </a:lnTo>
                  <a:lnTo>
                    <a:pt x="315" y="847"/>
                  </a:lnTo>
                  <a:lnTo>
                    <a:pt x="298" y="849"/>
                  </a:lnTo>
                  <a:lnTo>
                    <a:pt x="282" y="851"/>
                  </a:lnTo>
                  <a:lnTo>
                    <a:pt x="265" y="852"/>
                  </a:lnTo>
                  <a:lnTo>
                    <a:pt x="247" y="852"/>
                  </a:lnTo>
                  <a:lnTo>
                    <a:pt x="231" y="852"/>
                  </a:lnTo>
                  <a:lnTo>
                    <a:pt x="215" y="851"/>
                  </a:lnTo>
                  <a:lnTo>
                    <a:pt x="200" y="849"/>
                  </a:lnTo>
                  <a:lnTo>
                    <a:pt x="185" y="847"/>
                  </a:lnTo>
                  <a:lnTo>
                    <a:pt x="171" y="843"/>
                  </a:lnTo>
                  <a:lnTo>
                    <a:pt x="157" y="839"/>
                  </a:lnTo>
                  <a:lnTo>
                    <a:pt x="143" y="834"/>
                  </a:lnTo>
                  <a:lnTo>
                    <a:pt x="131" y="828"/>
                  </a:lnTo>
                  <a:lnTo>
                    <a:pt x="119" y="822"/>
                  </a:lnTo>
                  <a:lnTo>
                    <a:pt x="107" y="815"/>
                  </a:lnTo>
                  <a:lnTo>
                    <a:pt x="96" y="808"/>
                  </a:lnTo>
                  <a:lnTo>
                    <a:pt x="86" y="800"/>
                  </a:lnTo>
                  <a:lnTo>
                    <a:pt x="76" y="791"/>
                  </a:lnTo>
                  <a:lnTo>
                    <a:pt x="66" y="781"/>
                  </a:lnTo>
                  <a:lnTo>
                    <a:pt x="57" y="771"/>
                  </a:lnTo>
                  <a:lnTo>
                    <a:pt x="50" y="761"/>
                  </a:lnTo>
                  <a:lnTo>
                    <a:pt x="42" y="749"/>
                  </a:lnTo>
                  <a:lnTo>
                    <a:pt x="35" y="738"/>
                  </a:lnTo>
                  <a:lnTo>
                    <a:pt x="29" y="725"/>
                  </a:lnTo>
                  <a:lnTo>
                    <a:pt x="23" y="713"/>
                  </a:lnTo>
                  <a:lnTo>
                    <a:pt x="18" y="700"/>
                  </a:lnTo>
                  <a:lnTo>
                    <a:pt x="13" y="686"/>
                  </a:lnTo>
                  <a:lnTo>
                    <a:pt x="9" y="673"/>
                  </a:lnTo>
                  <a:lnTo>
                    <a:pt x="6" y="659"/>
                  </a:lnTo>
                  <a:lnTo>
                    <a:pt x="3" y="644"/>
                  </a:lnTo>
                  <a:lnTo>
                    <a:pt x="1" y="629"/>
                  </a:lnTo>
                  <a:lnTo>
                    <a:pt x="0" y="613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1" y="565"/>
                  </a:lnTo>
                  <a:lnTo>
                    <a:pt x="2" y="548"/>
                  </a:lnTo>
                  <a:lnTo>
                    <a:pt x="4" y="532"/>
                  </a:lnTo>
                  <a:lnTo>
                    <a:pt x="85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3640" y="509400"/>
              <a:ext cx="51840" cy="76320"/>
            </a:xfrm>
            <a:custGeom>
              <a:avLst/>
              <a:gdLst/>
              <a:ahLst/>
              <a:rect l="l" t="t" r="r" b="b"/>
              <a:pathLst>
                <a:path w="499" h="825">
                  <a:moveTo>
                    <a:pt x="176" y="825"/>
                  </a:moveTo>
                  <a:lnTo>
                    <a:pt x="81" y="825"/>
                  </a:lnTo>
                  <a:lnTo>
                    <a:pt x="189" y="98"/>
                  </a:lnTo>
                  <a:lnTo>
                    <a:pt x="0" y="98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8"/>
                  </a:lnTo>
                  <a:lnTo>
                    <a:pt x="297" y="98"/>
                  </a:lnTo>
                  <a:lnTo>
                    <a:pt x="176" y="82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91880" y="509400"/>
              <a:ext cx="89640" cy="77760"/>
            </a:xfrm>
            <a:custGeom>
              <a:avLst/>
              <a:gdLst/>
              <a:ahLst/>
              <a:rect l="l" t="t" r="r" b="b"/>
              <a:pathLst>
                <a:path w="845" h="867">
                  <a:moveTo>
                    <a:pt x="842" y="434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6"/>
                  </a:lnTo>
                  <a:lnTo>
                    <a:pt x="821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9" y="590"/>
                  </a:lnTo>
                  <a:lnTo>
                    <a:pt x="779" y="609"/>
                  </a:lnTo>
                  <a:lnTo>
                    <a:pt x="768" y="626"/>
                  </a:lnTo>
                  <a:lnTo>
                    <a:pt x="757" y="642"/>
                  </a:lnTo>
                  <a:lnTo>
                    <a:pt x="746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4" y="717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6"/>
                  </a:lnTo>
                  <a:lnTo>
                    <a:pt x="634" y="768"/>
                  </a:lnTo>
                  <a:lnTo>
                    <a:pt x="619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7"/>
                  </a:lnTo>
                  <a:lnTo>
                    <a:pt x="535" y="824"/>
                  </a:lnTo>
                  <a:lnTo>
                    <a:pt x="517" y="831"/>
                  </a:lnTo>
                  <a:lnTo>
                    <a:pt x="498" y="838"/>
                  </a:lnTo>
                  <a:lnTo>
                    <a:pt x="480" y="842"/>
                  </a:lnTo>
                  <a:lnTo>
                    <a:pt x="462" y="847"/>
                  </a:lnTo>
                  <a:lnTo>
                    <a:pt x="443" y="851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2" y="763"/>
                  </a:lnTo>
                  <a:lnTo>
                    <a:pt x="465" y="760"/>
                  </a:lnTo>
                  <a:lnTo>
                    <a:pt x="478" y="754"/>
                  </a:lnTo>
                  <a:lnTo>
                    <a:pt x="493" y="749"/>
                  </a:lnTo>
                  <a:lnTo>
                    <a:pt x="506" y="743"/>
                  </a:lnTo>
                  <a:lnTo>
                    <a:pt x="518" y="737"/>
                  </a:lnTo>
                  <a:lnTo>
                    <a:pt x="531" y="730"/>
                  </a:lnTo>
                  <a:lnTo>
                    <a:pt x="557" y="714"/>
                  </a:lnTo>
                  <a:lnTo>
                    <a:pt x="580" y="696"/>
                  </a:lnTo>
                  <a:lnTo>
                    <a:pt x="603" y="676"/>
                  </a:lnTo>
                  <a:lnTo>
                    <a:pt x="624" y="654"/>
                  </a:lnTo>
                  <a:lnTo>
                    <a:pt x="645" y="631"/>
                  </a:lnTo>
                  <a:lnTo>
                    <a:pt x="664" y="607"/>
                  </a:lnTo>
                  <a:lnTo>
                    <a:pt x="680" y="581"/>
                  </a:lnTo>
                  <a:lnTo>
                    <a:pt x="695" y="554"/>
                  </a:lnTo>
                  <a:lnTo>
                    <a:pt x="702" y="540"/>
                  </a:lnTo>
                  <a:lnTo>
                    <a:pt x="708" y="525"/>
                  </a:lnTo>
                  <a:lnTo>
                    <a:pt x="714" y="511"/>
                  </a:lnTo>
                  <a:lnTo>
                    <a:pt x="719" y="496"/>
                  </a:lnTo>
                  <a:lnTo>
                    <a:pt x="723" y="480"/>
                  </a:lnTo>
                  <a:lnTo>
                    <a:pt x="728" y="465"/>
                  </a:lnTo>
                  <a:lnTo>
                    <a:pt x="731" y="450"/>
                  </a:lnTo>
                  <a:lnTo>
                    <a:pt x="735" y="434"/>
                  </a:lnTo>
                  <a:lnTo>
                    <a:pt x="737" y="417"/>
                  </a:lnTo>
                  <a:lnTo>
                    <a:pt x="738" y="401"/>
                  </a:lnTo>
                  <a:lnTo>
                    <a:pt x="738" y="384"/>
                  </a:lnTo>
                  <a:lnTo>
                    <a:pt x="738" y="368"/>
                  </a:lnTo>
                  <a:lnTo>
                    <a:pt x="737" y="352"/>
                  </a:lnTo>
                  <a:lnTo>
                    <a:pt x="736" y="336"/>
                  </a:lnTo>
                  <a:lnTo>
                    <a:pt x="733" y="320"/>
                  </a:lnTo>
                  <a:lnTo>
                    <a:pt x="730" y="305"/>
                  </a:lnTo>
                  <a:lnTo>
                    <a:pt x="726" y="290"/>
                  </a:lnTo>
                  <a:lnTo>
                    <a:pt x="721" y="276"/>
                  </a:lnTo>
                  <a:lnTo>
                    <a:pt x="717" y="261"/>
                  </a:lnTo>
                  <a:lnTo>
                    <a:pt x="710" y="248"/>
                  </a:lnTo>
                  <a:lnTo>
                    <a:pt x="704" y="235"/>
                  </a:lnTo>
                  <a:lnTo>
                    <a:pt x="697" y="222"/>
                  </a:lnTo>
                  <a:lnTo>
                    <a:pt x="689" y="210"/>
                  </a:lnTo>
                  <a:lnTo>
                    <a:pt x="680" y="198"/>
                  </a:lnTo>
                  <a:lnTo>
                    <a:pt x="672" y="187"/>
                  </a:lnTo>
                  <a:lnTo>
                    <a:pt x="662" y="177"/>
                  </a:lnTo>
                  <a:lnTo>
                    <a:pt x="651" y="166"/>
                  </a:lnTo>
                  <a:lnTo>
                    <a:pt x="640" y="157"/>
                  </a:lnTo>
                  <a:lnTo>
                    <a:pt x="628" y="148"/>
                  </a:lnTo>
                  <a:lnTo>
                    <a:pt x="616" y="140"/>
                  </a:lnTo>
                  <a:lnTo>
                    <a:pt x="603" y="132"/>
                  </a:lnTo>
                  <a:lnTo>
                    <a:pt x="590" y="125"/>
                  </a:lnTo>
                  <a:lnTo>
                    <a:pt x="577" y="119"/>
                  </a:lnTo>
                  <a:lnTo>
                    <a:pt x="562" y="114"/>
                  </a:lnTo>
                  <a:lnTo>
                    <a:pt x="547" y="109"/>
                  </a:lnTo>
                  <a:lnTo>
                    <a:pt x="531" y="106"/>
                  </a:lnTo>
                  <a:lnTo>
                    <a:pt x="516" y="102"/>
                  </a:lnTo>
                  <a:lnTo>
                    <a:pt x="499" y="100"/>
                  </a:lnTo>
                  <a:lnTo>
                    <a:pt x="482" y="99"/>
                  </a:lnTo>
                  <a:lnTo>
                    <a:pt x="464" y="99"/>
                  </a:lnTo>
                  <a:lnTo>
                    <a:pt x="454" y="99"/>
                  </a:lnTo>
                  <a:lnTo>
                    <a:pt x="444" y="99"/>
                  </a:lnTo>
                  <a:lnTo>
                    <a:pt x="434" y="99"/>
                  </a:lnTo>
                  <a:lnTo>
                    <a:pt x="424" y="99"/>
                  </a:lnTo>
                  <a:lnTo>
                    <a:pt x="424" y="15"/>
                  </a:lnTo>
                  <a:lnTo>
                    <a:pt x="430" y="11"/>
                  </a:lnTo>
                  <a:lnTo>
                    <a:pt x="436" y="7"/>
                  </a:lnTo>
                  <a:lnTo>
                    <a:pt x="444" y="4"/>
                  </a:lnTo>
                  <a:lnTo>
                    <a:pt x="453" y="3"/>
                  </a:lnTo>
                  <a:lnTo>
                    <a:pt x="472" y="1"/>
                  </a:lnTo>
                  <a:lnTo>
                    <a:pt x="492" y="0"/>
                  </a:lnTo>
                  <a:lnTo>
                    <a:pt x="511" y="1"/>
                  </a:lnTo>
                  <a:lnTo>
                    <a:pt x="531" y="3"/>
                  </a:lnTo>
                  <a:lnTo>
                    <a:pt x="550" y="6"/>
                  </a:lnTo>
                  <a:lnTo>
                    <a:pt x="570" y="9"/>
                  </a:lnTo>
                  <a:lnTo>
                    <a:pt x="588" y="14"/>
                  </a:lnTo>
                  <a:lnTo>
                    <a:pt x="606" y="21"/>
                  </a:lnTo>
                  <a:lnTo>
                    <a:pt x="624" y="28"/>
                  </a:lnTo>
                  <a:lnTo>
                    <a:pt x="641" y="35"/>
                  </a:lnTo>
                  <a:lnTo>
                    <a:pt x="657" y="44"/>
                  </a:lnTo>
                  <a:lnTo>
                    <a:pt x="674" y="53"/>
                  </a:lnTo>
                  <a:lnTo>
                    <a:pt x="689" y="64"/>
                  </a:lnTo>
                  <a:lnTo>
                    <a:pt x="705" y="75"/>
                  </a:lnTo>
                  <a:lnTo>
                    <a:pt x="719" y="87"/>
                  </a:lnTo>
                  <a:lnTo>
                    <a:pt x="732" y="100"/>
                  </a:lnTo>
                  <a:lnTo>
                    <a:pt x="746" y="114"/>
                  </a:lnTo>
                  <a:lnTo>
                    <a:pt x="758" y="129"/>
                  </a:lnTo>
                  <a:lnTo>
                    <a:pt x="770" y="143"/>
                  </a:lnTo>
                  <a:lnTo>
                    <a:pt x="780" y="159"/>
                  </a:lnTo>
                  <a:lnTo>
                    <a:pt x="791" y="176"/>
                  </a:lnTo>
                  <a:lnTo>
                    <a:pt x="800" y="193"/>
                  </a:lnTo>
                  <a:lnTo>
                    <a:pt x="809" y="210"/>
                  </a:lnTo>
                  <a:lnTo>
                    <a:pt x="816" y="228"/>
                  </a:lnTo>
                  <a:lnTo>
                    <a:pt x="823" y="247"/>
                  </a:lnTo>
                  <a:lnTo>
                    <a:pt x="830" y="266"/>
                  </a:lnTo>
                  <a:lnTo>
                    <a:pt x="834" y="285"/>
                  </a:lnTo>
                  <a:lnTo>
                    <a:pt x="838" y="306"/>
                  </a:lnTo>
                  <a:lnTo>
                    <a:pt x="842" y="327"/>
                  </a:lnTo>
                  <a:lnTo>
                    <a:pt x="844" y="347"/>
                  </a:lnTo>
                  <a:lnTo>
                    <a:pt x="845" y="369"/>
                  </a:lnTo>
                  <a:lnTo>
                    <a:pt x="845" y="390"/>
                  </a:lnTo>
                  <a:lnTo>
                    <a:pt x="844" y="413"/>
                  </a:lnTo>
                  <a:lnTo>
                    <a:pt x="842" y="434"/>
                  </a:lnTo>
                  <a:close/>
                  <a:moveTo>
                    <a:pt x="424" y="854"/>
                  </a:moveTo>
                  <a:lnTo>
                    <a:pt x="414" y="858"/>
                  </a:lnTo>
                  <a:lnTo>
                    <a:pt x="404" y="862"/>
                  </a:lnTo>
                  <a:lnTo>
                    <a:pt x="394" y="865"/>
                  </a:lnTo>
                  <a:lnTo>
                    <a:pt x="385" y="866"/>
                  </a:lnTo>
                  <a:lnTo>
                    <a:pt x="369" y="867"/>
                  </a:lnTo>
                  <a:lnTo>
                    <a:pt x="357" y="867"/>
                  </a:lnTo>
                  <a:lnTo>
                    <a:pt x="335" y="867"/>
                  </a:lnTo>
                  <a:lnTo>
                    <a:pt x="315" y="866"/>
                  </a:lnTo>
                  <a:lnTo>
                    <a:pt x="294" y="863"/>
                  </a:lnTo>
                  <a:lnTo>
                    <a:pt x="274" y="859"/>
                  </a:lnTo>
                  <a:lnTo>
                    <a:pt x="254" y="855"/>
                  </a:lnTo>
                  <a:lnTo>
                    <a:pt x="235" y="848"/>
                  </a:lnTo>
                  <a:lnTo>
                    <a:pt x="218" y="841"/>
                  </a:lnTo>
                  <a:lnTo>
                    <a:pt x="199" y="834"/>
                  </a:lnTo>
                  <a:lnTo>
                    <a:pt x="182" y="825"/>
                  </a:lnTo>
                  <a:lnTo>
                    <a:pt x="166" y="816"/>
                  </a:lnTo>
                  <a:lnTo>
                    <a:pt x="149" y="804"/>
                  </a:lnTo>
                  <a:lnTo>
                    <a:pt x="134" y="793"/>
                  </a:lnTo>
                  <a:lnTo>
                    <a:pt x="119" y="782"/>
                  </a:lnTo>
                  <a:lnTo>
                    <a:pt x="106" y="769"/>
                  </a:lnTo>
                  <a:lnTo>
                    <a:pt x="93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6"/>
                  </a:lnTo>
                  <a:lnTo>
                    <a:pt x="30" y="659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7" y="583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9" y="415"/>
                  </a:lnTo>
                  <a:lnTo>
                    <a:pt x="13" y="395"/>
                  </a:lnTo>
                  <a:lnTo>
                    <a:pt x="18" y="376"/>
                  </a:lnTo>
                  <a:lnTo>
                    <a:pt x="23" y="358"/>
                  </a:lnTo>
                  <a:lnTo>
                    <a:pt x="30" y="338"/>
                  </a:lnTo>
                  <a:lnTo>
                    <a:pt x="37" y="320"/>
                  </a:lnTo>
                  <a:lnTo>
                    <a:pt x="45" y="302"/>
                  </a:lnTo>
                  <a:lnTo>
                    <a:pt x="54" y="284"/>
                  </a:lnTo>
                  <a:lnTo>
                    <a:pt x="64" y="267"/>
                  </a:lnTo>
                  <a:lnTo>
                    <a:pt x="74" y="250"/>
                  </a:lnTo>
                  <a:lnTo>
                    <a:pt x="85" y="233"/>
                  </a:lnTo>
                  <a:lnTo>
                    <a:pt x="96" y="217"/>
                  </a:lnTo>
                  <a:lnTo>
                    <a:pt x="109" y="201"/>
                  </a:lnTo>
                  <a:lnTo>
                    <a:pt x="121" y="186"/>
                  </a:lnTo>
                  <a:lnTo>
                    <a:pt x="135" y="171"/>
                  </a:lnTo>
                  <a:lnTo>
                    <a:pt x="149" y="156"/>
                  </a:lnTo>
                  <a:lnTo>
                    <a:pt x="163" y="142"/>
                  </a:lnTo>
                  <a:lnTo>
                    <a:pt x="179" y="130"/>
                  </a:lnTo>
                  <a:lnTo>
                    <a:pt x="194" y="117"/>
                  </a:lnTo>
                  <a:lnTo>
                    <a:pt x="210" y="104"/>
                  </a:lnTo>
                  <a:lnTo>
                    <a:pt x="226" y="93"/>
                  </a:lnTo>
                  <a:lnTo>
                    <a:pt x="243" y="83"/>
                  </a:lnTo>
                  <a:lnTo>
                    <a:pt x="260" y="72"/>
                  </a:lnTo>
                  <a:lnTo>
                    <a:pt x="277" y="62"/>
                  </a:lnTo>
                  <a:lnTo>
                    <a:pt x="295" y="54"/>
                  </a:lnTo>
                  <a:lnTo>
                    <a:pt x="313" y="46"/>
                  </a:lnTo>
                  <a:lnTo>
                    <a:pt x="330" y="38"/>
                  </a:lnTo>
                  <a:lnTo>
                    <a:pt x="349" y="32"/>
                  </a:lnTo>
                  <a:lnTo>
                    <a:pt x="368" y="27"/>
                  </a:lnTo>
                  <a:lnTo>
                    <a:pt x="387" y="22"/>
                  </a:lnTo>
                  <a:lnTo>
                    <a:pt x="405" y="17"/>
                  </a:lnTo>
                  <a:lnTo>
                    <a:pt x="424" y="15"/>
                  </a:lnTo>
                  <a:lnTo>
                    <a:pt x="424" y="99"/>
                  </a:lnTo>
                  <a:lnTo>
                    <a:pt x="409" y="101"/>
                  </a:lnTo>
                  <a:lnTo>
                    <a:pt x="394" y="106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19"/>
                  </a:lnTo>
                  <a:lnTo>
                    <a:pt x="336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3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2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6"/>
                  </a:lnTo>
                  <a:lnTo>
                    <a:pt x="191" y="237"/>
                  </a:lnTo>
                  <a:lnTo>
                    <a:pt x="181" y="249"/>
                  </a:lnTo>
                  <a:lnTo>
                    <a:pt x="172" y="261"/>
                  </a:lnTo>
                  <a:lnTo>
                    <a:pt x="163" y="274"/>
                  </a:lnTo>
                  <a:lnTo>
                    <a:pt x="155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4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7"/>
                  </a:lnTo>
                  <a:lnTo>
                    <a:pt x="106" y="404"/>
                  </a:lnTo>
                  <a:lnTo>
                    <a:pt x="103" y="418"/>
                  </a:lnTo>
                  <a:lnTo>
                    <a:pt x="100" y="434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3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7"/>
                  </a:lnTo>
                  <a:lnTo>
                    <a:pt x="127" y="620"/>
                  </a:lnTo>
                  <a:lnTo>
                    <a:pt x="135" y="634"/>
                  </a:lnTo>
                  <a:lnTo>
                    <a:pt x="142" y="646"/>
                  </a:lnTo>
                  <a:lnTo>
                    <a:pt x="150" y="659"/>
                  </a:lnTo>
                  <a:lnTo>
                    <a:pt x="159" y="670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7" y="737"/>
                  </a:lnTo>
                  <a:lnTo>
                    <a:pt x="250" y="744"/>
                  </a:lnTo>
                  <a:lnTo>
                    <a:pt x="264" y="749"/>
                  </a:lnTo>
                  <a:lnTo>
                    <a:pt x="277" y="755"/>
                  </a:lnTo>
                  <a:lnTo>
                    <a:pt x="292" y="760"/>
                  </a:lnTo>
                  <a:lnTo>
                    <a:pt x="307" y="763"/>
                  </a:lnTo>
                  <a:lnTo>
                    <a:pt x="322" y="767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0" y="770"/>
                  </a:lnTo>
                  <a:lnTo>
                    <a:pt x="392" y="770"/>
                  </a:lnTo>
                  <a:lnTo>
                    <a:pt x="406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7680" y="626760"/>
              <a:ext cx="8784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6" y="0"/>
                  </a:moveTo>
                  <a:lnTo>
                    <a:pt x="634" y="644"/>
                  </a:lnTo>
                  <a:lnTo>
                    <a:pt x="729" y="27"/>
                  </a:lnTo>
                  <a:lnTo>
                    <a:pt x="823" y="27"/>
                  </a:lnTo>
                  <a:lnTo>
                    <a:pt x="701" y="896"/>
                  </a:lnTo>
                  <a:lnTo>
                    <a:pt x="203" y="238"/>
                  </a:lnTo>
                  <a:lnTo>
                    <a:pt x="108" y="853"/>
                  </a:lnTo>
                  <a:lnTo>
                    <a:pt x="0" y="85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8320" y="626760"/>
              <a:ext cx="81720" cy="77760"/>
            </a:xfrm>
            <a:custGeom>
              <a:avLst/>
              <a:gdLst/>
              <a:ahLst/>
              <a:rect l="l" t="t" r="r" b="b"/>
              <a:pathLst>
                <a:path w="769" h="853">
                  <a:moveTo>
                    <a:pt x="432" y="139"/>
                  </a:moveTo>
                  <a:lnTo>
                    <a:pt x="513" y="0"/>
                  </a:lnTo>
                  <a:lnTo>
                    <a:pt x="769" y="853"/>
                  </a:lnTo>
                  <a:lnTo>
                    <a:pt x="662" y="853"/>
                  </a:lnTo>
                  <a:lnTo>
                    <a:pt x="595" y="657"/>
                  </a:lnTo>
                  <a:lnTo>
                    <a:pt x="432" y="657"/>
                  </a:lnTo>
                  <a:lnTo>
                    <a:pt x="432" y="560"/>
                  </a:lnTo>
                  <a:lnTo>
                    <a:pt x="567" y="560"/>
                  </a:lnTo>
                  <a:lnTo>
                    <a:pt x="486" y="223"/>
                  </a:lnTo>
                  <a:lnTo>
                    <a:pt x="432" y="308"/>
                  </a:lnTo>
                  <a:lnTo>
                    <a:pt x="432" y="139"/>
                  </a:lnTo>
                  <a:close/>
                  <a:moveTo>
                    <a:pt x="230" y="657"/>
                  </a:moveTo>
                  <a:lnTo>
                    <a:pt x="109" y="853"/>
                  </a:lnTo>
                  <a:lnTo>
                    <a:pt x="0" y="853"/>
                  </a:lnTo>
                  <a:lnTo>
                    <a:pt x="432" y="139"/>
                  </a:lnTo>
                  <a:lnTo>
                    <a:pt x="432" y="308"/>
                  </a:lnTo>
                  <a:lnTo>
                    <a:pt x="284" y="560"/>
                  </a:lnTo>
                  <a:lnTo>
                    <a:pt x="432" y="560"/>
                  </a:lnTo>
                  <a:lnTo>
                    <a:pt x="432" y="657"/>
                  </a:lnTo>
                  <a:lnTo>
                    <a:pt x="230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97960" y="628560"/>
              <a:ext cx="74160" cy="77760"/>
            </a:xfrm>
            <a:custGeom>
              <a:avLst/>
              <a:gdLst/>
              <a:ahLst/>
              <a:rect l="l" t="t" r="r" b="b"/>
              <a:pathLst>
                <a:path w="694" h="868">
                  <a:moveTo>
                    <a:pt x="668" y="183"/>
                  </a:moveTo>
                  <a:lnTo>
                    <a:pt x="660" y="172"/>
                  </a:lnTo>
                  <a:lnTo>
                    <a:pt x="651" y="163"/>
                  </a:lnTo>
                  <a:lnTo>
                    <a:pt x="641" y="154"/>
                  </a:lnTo>
                  <a:lnTo>
                    <a:pt x="630" y="146"/>
                  </a:lnTo>
                  <a:lnTo>
                    <a:pt x="619" y="138"/>
                  </a:lnTo>
                  <a:lnTo>
                    <a:pt x="608" y="131"/>
                  </a:lnTo>
                  <a:lnTo>
                    <a:pt x="596" y="125"/>
                  </a:lnTo>
                  <a:lnTo>
                    <a:pt x="584" y="120"/>
                  </a:lnTo>
                  <a:lnTo>
                    <a:pt x="570" y="115"/>
                  </a:lnTo>
                  <a:lnTo>
                    <a:pt x="557" y="110"/>
                  </a:lnTo>
                  <a:lnTo>
                    <a:pt x="544" y="107"/>
                  </a:lnTo>
                  <a:lnTo>
                    <a:pt x="531" y="104"/>
                  </a:lnTo>
                  <a:lnTo>
                    <a:pt x="517" y="101"/>
                  </a:lnTo>
                  <a:lnTo>
                    <a:pt x="504" y="100"/>
                  </a:lnTo>
                  <a:lnTo>
                    <a:pt x="492" y="99"/>
                  </a:lnTo>
                  <a:lnTo>
                    <a:pt x="479" y="99"/>
                  </a:lnTo>
                  <a:lnTo>
                    <a:pt x="461" y="99"/>
                  </a:lnTo>
                  <a:lnTo>
                    <a:pt x="443" y="100"/>
                  </a:lnTo>
                  <a:lnTo>
                    <a:pt x="427" y="102"/>
                  </a:lnTo>
                  <a:lnTo>
                    <a:pt x="409" y="106"/>
                  </a:lnTo>
                  <a:lnTo>
                    <a:pt x="393" y="109"/>
                  </a:lnTo>
                  <a:lnTo>
                    <a:pt x="376" y="114"/>
                  </a:lnTo>
                  <a:lnTo>
                    <a:pt x="359" y="120"/>
                  </a:lnTo>
                  <a:lnTo>
                    <a:pt x="344" y="125"/>
                  </a:lnTo>
                  <a:lnTo>
                    <a:pt x="328" y="132"/>
                  </a:lnTo>
                  <a:lnTo>
                    <a:pt x="313" y="140"/>
                  </a:lnTo>
                  <a:lnTo>
                    <a:pt x="298" y="148"/>
                  </a:lnTo>
                  <a:lnTo>
                    <a:pt x="283" y="157"/>
                  </a:lnTo>
                  <a:lnTo>
                    <a:pt x="269" y="167"/>
                  </a:lnTo>
                  <a:lnTo>
                    <a:pt x="256" y="177"/>
                  </a:lnTo>
                  <a:lnTo>
                    <a:pt x="242" y="187"/>
                  </a:lnTo>
                  <a:lnTo>
                    <a:pt x="229" y="199"/>
                  </a:lnTo>
                  <a:lnTo>
                    <a:pt x="217" y="210"/>
                  </a:lnTo>
                  <a:lnTo>
                    <a:pt x="205" y="223"/>
                  </a:lnTo>
                  <a:lnTo>
                    <a:pt x="194" y="235"/>
                  </a:lnTo>
                  <a:lnTo>
                    <a:pt x="183" y="248"/>
                  </a:lnTo>
                  <a:lnTo>
                    <a:pt x="173" y="262"/>
                  </a:lnTo>
                  <a:lnTo>
                    <a:pt x="163" y="277"/>
                  </a:lnTo>
                  <a:lnTo>
                    <a:pt x="153" y="290"/>
                  </a:lnTo>
                  <a:lnTo>
                    <a:pt x="145" y="305"/>
                  </a:lnTo>
                  <a:lnTo>
                    <a:pt x="137" y="320"/>
                  </a:lnTo>
                  <a:lnTo>
                    <a:pt x="130" y="336"/>
                  </a:lnTo>
                  <a:lnTo>
                    <a:pt x="123" y="352"/>
                  </a:lnTo>
                  <a:lnTo>
                    <a:pt x="117" y="368"/>
                  </a:lnTo>
                  <a:lnTo>
                    <a:pt x="112" y="384"/>
                  </a:lnTo>
                  <a:lnTo>
                    <a:pt x="108" y="400"/>
                  </a:lnTo>
                  <a:lnTo>
                    <a:pt x="104" y="417"/>
                  </a:lnTo>
                  <a:lnTo>
                    <a:pt x="101" y="435"/>
                  </a:lnTo>
                  <a:lnTo>
                    <a:pt x="99" y="452"/>
                  </a:lnTo>
                  <a:lnTo>
                    <a:pt x="98" y="468"/>
                  </a:lnTo>
                  <a:lnTo>
                    <a:pt x="98" y="485"/>
                  </a:lnTo>
                  <a:lnTo>
                    <a:pt x="98" y="501"/>
                  </a:lnTo>
                  <a:lnTo>
                    <a:pt x="99" y="517"/>
                  </a:lnTo>
                  <a:lnTo>
                    <a:pt x="101" y="533"/>
                  </a:lnTo>
                  <a:lnTo>
                    <a:pt x="103" y="548"/>
                  </a:lnTo>
                  <a:lnTo>
                    <a:pt x="108" y="564"/>
                  </a:lnTo>
                  <a:lnTo>
                    <a:pt x="111" y="579"/>
                  </a:lnTo>
                  <a:lnTo>
                    <a:pt x="116" y="593"/>
                  </a:lnTo>
                  <a:lnTo>
                    <a:pt x="122" y="606"/>
                  </a:lnTo>
                  <a:lnTo>
                    <a:pt x="129" y="620"/>
                  </a:lnTo>
                  <a:lnTo>
                    <a:pt x="135" y="634"/>
                  </a:lnTo>
                  <a:lnTo>
                    <a:pt x="143" y="647"/>
                  </a:lnTo>
                  <a:lnTo>
                    <a:pt x="151" y="659"/>
                  </a:lnTo>
                  <a:lnTo>
                    <a:pt x="161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90" y="703"/>
                  </a:lnTo>
                  <a:lnTo>
                    <a:pt x="201" y="712"/>
                  </a:lnTo>
                  <a:lnTo>
                    <a:pt x="212" y="721"/>
                  </a:lnTo>
                  <a:lnTo>
                    <a:pt x="225" y="729"/>
                  </a:lnTo>
                  <a:lnTo>
                    <a:pt x="238" y="736"/>
                  </a:lnTo>
                  <a:lnTo>
                    <a:pt x="251" y="743"/>
                  </a:lnTo>
                  <a:lnTo>
                    <a:pt x="264" y="750"/>
                  </a:lnTo>
                  <a:lnTo>
                    <a:pt x="279" y="754"/>
                  </a:lnTo>
                  <a:lnTo>
                    <a:pt x="293" y="759"/>
                  </a:lnTo>
                  <a:lnTo>
                    <a:pt x="307" y="763"/>
                  </a:lnTo>
                  <a:lnTo>
                    <a:pt x="323" y="766"/>
                  </a:lnTo>
                  <a:lnTo>
                    <a:pt x="338" y="768"/>
                  </a:lnTo>
                  <a:lnTo>
                    <a:pt x="355" y="770"/>
                  </a:lnTo>
                  <a:lnTo>
                    <a:pt x="370" y="770"/>
                  </a:lnTo>
                  <a:lnTo>
                    <a:pt x="386" y="770"/>
                  </a:lnTo>
                  <a:lnTo>
                    <a:pt x="400" y="769"/>
                  </a:lnTo>
                  <a:lnTo>
                    <a:pt x="415" y="767"/>
                  </a:lnTo>
                  <a:lnTo>
                    <a:pt x="429" y="765"/>
                  </a:lnTo>
                  <a:lnTo>
                    <a:pt x="443" y="762"/>
                  </a:lnTo>
                  <a:lnTo>
                    <a:pt x="457" y="759"/>
                  </a:lnTo>
                  <a:lnTo>
                    <a:pt x="470" y="754"/>
                  </a:lnTo>
                  <a:lnTo>
                    <a:pt x="484" y="750"/>
                  </a:lnTo>
                  <a:lnTo>
                    <a:pt x="497" y="744"/>
                  </a:lnTo>
                  <a:lnTo>
                    <a:pt x="510" y="737"/>
                  </a:lnTo>
                  <a:lnTo>
                    <a:pt x="523" y="730"/>
                  </a:lnTo>
                  <a:lnTo>
                    <a:pt x="536" y="723"/>
                  </a:lnTo>
                  <a:lnTo>
                    <a:pt x="562" y="706"/>
                  </a:lnTo>
                  <a:lnTo>
                    <a:pt x="587" y="687"/>
                  </a:lnTo>
                  <a:lnTo>
                    <a:pt x="574" y="813"/>
                  </a:lnTo>
                  <a:lnTo>
                    <a:pt x="547" y="823"/>
                  </a:lnTo>
                  <a:lnTo>
                    <a:pt x="521" y="832"/>
                  </a:lnTo>
                  <a:lnTo>
                    <a:pt x="493" y="842"/>
                  </a:lnTo>
                  <a:lnTo>
                    <a:pt x="465" y="851"/>
                  </a:lnTo>
                  <a:lnTo>
                    <a:pt x="438" y="857"/>
                  </a:lnTo>
                  <a:lnTo>
                    <a:pt x="410" y="863"/>
                  </a:lnTo>
                  <a:lnTo>
                    <a:pt x="384" y="867"/>
                  </a:lnTo>
                  <a:lnTo>
                    <a:pt x="357" y="868"/>
                  </a:lnTo>
                  <a:lnTo>
                    <a:pt x="336" y="868"/>
                  </a:lnTo>
                  <a:lnTo>
                    <a:pt x="315" y="865"/>
                  </a:lnTo>
                  <a:lnTo>
                    <a:pt x="294" y="863"/>
                  </a:lnTo>
                  <a:lnTo>
                    <a:pt x="274" y="860"/>
                  </a:lnTo>
                  <a:lnTo>
                    <a:pt x="256" y="854"/>
                  </a:lnTo>
                  <a:lnTo>
                    <a:pt x="237" y="848"/>
                  </a:lnTo>
                  <a:lnTo>
                    <a:pt x="218" y="841"/>
                  </a:lnTo>
                  <a:lnTo>
                    <a:pt x="200" y="833"/>
                  </a:lnTo>
                  <a:lnTo>
                    <a:pt x="183" y="825"/>
                  </a:lnTo>
                  <a:lnTo>
                    <a:pt x="166" y="815"/>
                  </a:lnTo>
                  <a:lnTo>
                    <a:pt x="151" y="805"/>
                  </a:lnTo>
                  <a:lnTo>
                    <a:pt x="135" y="793"/>
                  </a:lnTo>
                  <a:lnTo>
                    <a:pt x="121" y="782"/>
                  </a:lnTo>
                  <a:lnTo>
                    <a:pt x="106" y="768"/>
                  </a:lnTo>
                  <a:lnTo>
                    <a:pt x="93" y="755"/>
                  </a:lnTo>
                  <a:lnTo>
                    <a:pt x="81" y="741"/>
                  </a:lnTo>
                  <a:lnTo>
                    <a:pt x="69" y="726"/>
                  </a:lnTo>
                  <a:lnTo>
                    <a:pt x="58" y="710"/>
                  </a:lnTo>
                  <a:lnTo>
                    <a:pt x="48" y="694"/>
                  </a:lnTo>
                  <a:lnTo>
                    <a:pt x="39" y="676"/>
                  </a:lnTo>
                  <a:lnTo>
                    <a:pt x="31" y="658"/>
                  </a:lnTo>
                  <a:lnTo>
                    <a:pt x="24" y="641"/>
                  </a:lnTo>
                  <a:lnTo>
                    <a:pt x="17" y="621"/>
                  </a:lnTo>
                  <a:lnTo>
                    <a:pt x="13" y="603"/>
                  </a:lnTo>
                  <a:lnTo>
                    <a:pt x="8" y="582"/>
                  </a:lnTo>
                  <a:lnTo>
                    <a:pt x="5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1" y="478"/>
                  </a:lnTo>
                  <a:lnTo>
                    <a:pt x="4" y="456"/>
                  </a:lnTo>
                  <a:lnTo>
                    <a:pt x="7" y="435"/>
                  </a:lnTo>
                  <a:lnTo>
                    <a:pt x="11" y="412"/>
                  </a:lnTo>
                  <a:lnTo>
                    <a:pt x="16" y="390"/>
                  </a:lnTo>
                  <a:lnTo>
                    <a:pt x="22" y="369"/>
                  </a:lnTo>
                  <a:lnTo>
                    <a:pt x="29" y="348"/>
                  </a:lnTo>
                  <a:lnTo>
                    <a:pt x="38" y="327"/>
                  </a:lnTo>
                  <a:lnTo>
                    <a:pt x="47" y="306"/>
                  </a:lnTo>
                  <a:lnTo>
                    <a:pt x="57" y="286"/>
                  </a:lnTo>
                  <a:lnTo>
                    <a:pt x="68" y="266"/>
                  </a:lnTo>
                  <a:lnTo>
                    <a:pt x="79" y="247"/>
                  </a:lnTo>
                  <a:lnTo>
                    <a:pt x="91" y="228"/>
                  </a:lnTo>
                  <a:lnTo>
                    <a:pt x="104" y="210"/>
                  </a:lnTo>
                  <a:lnTo>
                    <a:pt x="117" y="193"/>
                  </a:lnTo>
                  <a:lnTo>
                    <a:pt x="132" y="176"/>
                  </a:lnTo>
                  <a:lnTo>
                    <a:pt x="147" y="160"/>
                  </a:lnTo>
                  <a:lnTo>
                    <a:pt x="163" y="144"/>
                  </a:lnTo>
                  <a:lnTo>
                    <a:pt x="178" y="129"/>
                  </a:lnTo>
                  <a:lnTo>
                    <a:pt x="195" y="114"/>
                  </a:lnTo>
                  <a:lnTo>
                    <a:pt x="212" y="100"/>
                  </a:lnTo>
                  <a:lnTo>
                    <a:pt x="230" y="88"/>
                  </a:lnTo>
                  <a:lnTo>
                    <a:pt x="249" y="75"/>
                  </a:lnTo>
                  <a:lnTo>
                    <a:pt x="267" y="63"/>
                  </a:lnTo>
                  <a:lnTo>
                    <a:pt x="286" y="53"/>
                  </a:lnTo>
                  <a:lnTo>
                    <a:pt x="305" y="44"/>
                  </a:lnTo>
                  <a:lnTo>
                    <a:pt x="325" y="35"/>
                  </a:lnTo>
                  <a:lnTo>
                    <a:pt x="345" y="27"/>
                  </a:lnTo>
                  <a:lnTo>
                    <a:pt x="366" y="20"/>
                  </a:lnTo>
                  <a:lnTo>
                    <a:pt x="386" y="14"/>
                  </a:lnTo>
                  <a:lnTo>
                    <a:pt x="407" y="10"/>
                  </a:lnTo>
                  <a:lnTo>
                    <a:pt x="428" y="6"/>
                  </a:lnTo>
                  <a:lnTo>
                    <a:pt x="449" y="3"/>
                  </a:lnTo>
                  <a:lnTo>
                    <a:pt x="471" y="2"/>
                  </a:lnTo>
                  <a:lnTo>
                    <a:pt x="492" y="0"/>
                  </a:lnTo>
                  <a:lnTo>
                    <a:pt x="518" y="2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8" y="13"/>
                  </a:lnTo>
                  <a:lnTo>
                    <a:pt x="611" y="16"/>
                  </a:lnTo>
                  <a:lnTo>
                    <a:pt x="625" y="21"/>
                  </a:lnTo>
                  <a:lnTo>
                    <a:pt x="638" y="26"/>
                  </a:lnTo>
                  <a:lnTo>
                    <a:pt x="650" y="30"/>
                  </a:lnTo>
                  <a:lnTo>
                    <a:pt x="662" y="36"/>
                  </a:lnTo>
                  <a:lnTo>
                    <a:pt x="673" y="43"/>
                  </a:lnTo>
                  <a:lnTo>
                    <a:pt x="684" y="50"/>
                  </a:lnTo>
                  <a:lnTo>
                    <a:pt x="694" y="57"/>
                  </a:lnTo>
                  <a:lnTo>
                    <a:pt x="668" y="18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70680" y="63000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108" y="826"/>
                  </a:moveTo>
                  <a:lnTo>
                    <a:pt x="0" y="826"/>
                  </a:lnTo>
                  <a:lnTo>
                    <a:pt x="135" y="0"/>
                  </a:lnTo>
                  <a:lnTo>
                    <a:pt x="230" y="0"/>
                  </a:lnTo>
                  <a:lnTo>
                    <a:pt x="108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6600" y="628560"/>
              <a:ext cx="91440" cy="77760"/>
            </a:xfrm>
            <a:custGeom>
              <a:avLst/>
              <a:gdLst/>
              <a:ahLst/>
              <a:rect l="l" t="t" r="r" b="b"/>
              <a:pathLst>
                <a:path w="848" h="868">
                  <a:moveTo>
                    <a:pt x="841" y="435"/>
                  </a:moveTo>
                  <a:lnTo>
                    <a:pt x="838" y="455"/>
                  </a:lnTo>
                  <a:lnTo>
                    <a:pt x="833" y="476"/>
                  </a:lnTo>
                  <a:lnTo>
                    <a:pt x="827" y="495"/>
                  </a:lnTo>
                  <a:lnTo>
                    <a:pt x="820" y="516"/>
                  </a:lnTo>
                  <a:lnTo>
                    <a:pt x="814" y="535"/>
                  </a:lnTo>
                  <a:lnTo>
                    <a:pt x="806" y="554"/>
                  </a:lnTo>
                  <a:lnTo>
                    <a:pt x="797" y="572"/>
                  </a:lnTo>
                  <a:lnTo>
                    <a:pt x="788" y="590"/>
                  </a:lnTo>
                  <a:lnTo>
                    <a:pt x="778" y="608"/>
                  </a:lnTo>
                  <a:lnTo>
                    <a:pt x="767" y="625"/>
                  </a:lnTo>
                  <a:lnTo>
                    <a:pt x="756" y="642"/>
                  </a:lnTo>
                  <a:lnTo>
                    <a:pt x="745" y="658"/>
                  </a:lnTo>
                  <a:lnTo>
                    <a:pt x="733" y="674"/>
                  </a:lnTo>
                  <a:lnTo>
                    <a:pt x="720" y="689"/>
                  </a:lnTo>
                  <a:lnTo>
                    <a:pt x="707" y="704"/>
                  </a:lnTo>
                  <a:lnTo>
                    <a:pt x="693" y="718"/>
                  </a:lnTo>
                  <a:lnTo>
                    <a:pt x="679" y="731"/>
                  </a:lnTo>
                  <a:lnTo>
                    <a:pt x="665" y="744"/>
                  </a:lnTo>
                  <a:lnTo>
                    <a:pt x="649" y="757"/>
                  </a:lnTo>
                  <a:lnTo>
                    <a:pt x="634" y="768"/>
                  </a:lnTo>
                  <a:lnTo>
                    <a:pt x="618" y="779"/>
                  </a:lnTo>
                  <a:lnTo>
                    <a:pt x="602" y="790"/>
                  </a:lnTo>
                  <a:lnTo>
                    <a:pt x="585" y="799"/>
                  </a:lnTo>
                  <a:lnTo>
                    <a:pt x="569" y="808"/>
                  </a:lnTo>
                  <a:lnTo>
                    <a:pt x="551" y="816"/>
                  </a:lnTo>
                  <a:lnTo>
                    <a:pt x="534" y="824"/>
                  </a:lnTo>
                  <a:lnTo>
                    <a:pt x="516" y="831"/>
                  </a:lnTo>
                  <a:lnTo>
                    <a:pt x="498" y="837"/>
                  </a:lnTo>
                  <a:lnTo>
                    <a:pt x="480" y="842"/>
                  </a:lnTo>
                  <a:lnTo>
                    <a:pt x="461" y="847"/>
                  </a:lnTo>
                  <a:lnTo>
                    <a:pt x="443" y="852"/>
                  </a:lnTo>
                  <a:lnTo>
                    <a:pt x="424" y="854"/>
                  </a:lnTo>
                  <a:lnTo>
                    <a:pt x="424" y="770"/>
                  </a:lnTo>
                  <a:lnTo>
                    <a:pt x="437" y="767"/>
                  </a:lnTo>
                  <a:lnTo>
                    <a:pt x="451" y="763"/>
                  </a:lnTo>
                  <a:lnTo>
                    <a:pt x="465" y="760"/>
                  </a:lnTo>
                  <a:lnTo>
                    <a:pt x="479" y="754"/>
                  </a:lnTo>
                  <a:lnTo>
                    <a:pt x="492" y="750"/>
                  </a:lnTo>
                  <a:lnTo>
                    <a:pt x="507" y="743"/>
                  </a:lnTo>
                  <a:lnTo>
                    <a:pt x="520" y="737"/>
                  </a:lnTo>
                  <a:lnTo>
                    <a:pt x="533" y="729"/>
                  </a:lnTo>
                  <a:lnTo>
                    <a:pt x="559" y="714"/>
                  </a:lnTo>
                  <a:lnTo>
                    <a:pt x="584" y="696"/>
                  </a:lnTo>
                  <a:lnTo>
                    <a:pt x="608" y="676"/>
                  </a:lnTo>
                  <a:lnTo>
                    <a:pt x="632" y="655"/>
                  </a:lnTo>
                  <a:lnTo>
                    <a:pt x="653" y="632"/>
                  </a:lnTo>
                  <a:lnTo>
                    <a:pt x="672" y="608"/>
                  </a:lnTo>
                  <a:lnTo>
                    <a:pt x="681" y="594"/>
                  </a:lnTo>
                  <a:lnTo>
                    <a:pt x="690" y="581"/>
                  </a:lnTo>
                  <a:lnTo>
                    <a:pt x="699" y="568"/>
                  </a:lnTo>
                  <a:lnTo>
                    <a:pt x="707" y="554"/>
                  </a:lnTo>
                  <a:lnTo>
                    <a:pt x="713" y="540"/>
                  </a:lnTo>
                  <a:lnTo>
                    <a:pt x="720" y="525"/>
                  </a:lnTo>
                  <a:lnTo>
                    <a:pt x="727" y="510"/>
                  </a:lnTo>
                  <a:lnTo>
                    <a:pt x="732" y="495"/>
                  </a:lnTo>
                  <a:lnTo>
                    <a:pt x="736" y="480"/>
                  </a:lnTo>
                  <a:lnTo>
                    <a:pt x="741" y="466"/>
                  </a:lnTo>
                  <a:lnTo>
                    <a:pt x="744" y="450"/>
                  </a:lnTo>
                  <a:lnTo>
                    <a:pt x="748" y="435"/>
                  </a:lnTo>
                  <a:lnTo>
                    <a:pt x="750" y="417"/>
                  </a:lnTo>
                  <a:lnTo>
                    <a:pt x="751" y="400"/>
                  </a:lnTo>
                  <a:lnTo>
                    <a:pt x="752" y="384"/>
                  </a:lnTo>
                  <a:lnTo>
                    <a:pt x="751" y="368"/>
                  </a:lnTo>
                  <a:lnTo>
                    <a:pt x="751" y="352"/>
                  </a:lnTo>
                  <a:lnTo>
                    <a:pt x="749" y="336"/>
                  </a:lnTo>
                  <a:lnTo>
                    <a:pt x="746" y="320"/>
                  </a:lnTo>
                  <a:lnTo>
                    <a:pt x="743" y="305"/>
                  </a:lnTo>
                  <a:lnTo>
                    <a:pt x="740" y="290"/>
                  </a:lnTo>
                  <a:lnTo>
                    <a:pt x="734" y="277"/>
                  </a:lnTo>
                  <a:lnTo>
                    <a:pt x="730" y="262"/>
                  </a:lnTo>
                  <a:lnTo>
                    <a:pt x="723" y="248"/>
                  </a:lnTo>
                  <a:lnTo>
                    <a:pt x="717" y="235"/>
                  </a:lnTo>
                  <a:lnTo>
                    <a:pt x="710" y="223"/>
                  </a:lnTo>
                  <a:lnTo>
                    <a:pt x="702" y="210"/>
                  </a:lnTo>
                  <a:lnTo>
                    <a:pt x="693" y="199"/>
                  </a:lnTo>
                  <a:lnTo>
                    <a:pt x="685" y="187"/>
                  </a:lnTo>
                  <a:lnTo>
                    <a:pt x="675" y="177"/>
                  </a:lnTo>
                  <a:lnTo>
                    <a:pt x="664" y="167"/>
                  </a:lnTo>
                  <a:lnTo>
                    <a:pt x="653" y="157"/>
                  </a:lnTo>
                  <a:lnTo>
                    <a:pt x="641" y="148"/>
                  </a:lnTo>
                  <a:lnTo>
                    <a:pt x="629" y="140"/>
                  </a:lnTo>
                  <a:lnTo>
                    <a:pt x="616" y="132"/>
                  </a:lnTo>
                  <a:lnTo>
                    <a:pt x="603" y="125"/>
                  </a:lnTo>
                  <a:lnTo>
                    <a:pt x="590" y="120"/>
                  </a:lnTo>
                  <a:lnTo>
                    <a:pt x="575" y="114"/>
                  </a:lnTo>
                  <a:lnTo>
                    <a:pt x="560" y="109"/>
                  </a:lnTo>
                  <a:lnTo>
                    <a:pt x="544" y="106"/>
                  </a:lnTo>
                  <a:lnTo>
                    <a:pt x="529" y="102"/>
                  </a:lnTo>
                  <a:lnTo>
                    <a:pt x="512" y="100"/>
                  </a:lnTo>
                  <a:lnTo>
                    <a:pt x="495" y="99"/>
                  </a:lnTo>
                  <a:lnTo>
                    <a:pt x="478" y="99"/>
                  </a:lnTo>
                  <a:lnTo>
                    <a:pt x="466" y="99"/>
                  </a:lnTo>
                  <a:lnTo>
                    <a:pt x="450" y="99"/>
                  </a:lnTo>
                  <a:lnTo>
                    <a:pt x="436" y="99"/>
                  </a:lnTo>
                  <a:lnTo>
                    <a:pt x="424" y="99"/>
                  </a:lnTo>
                  <a:lnTo>
                    <a:pt x="424" y="14"/>
                  </a:lnTo>
                  <a:lnTo>
                    <a:pt x="433" y="10"/>
                  </a:lnTo>
                  <a:lnTo>
                    <a:pt x="442" y="6"/>
                  </a:lnTo>
                  <a:lnTo>
                    <a:pt x="449" y="4"/>
                  </a:lnTo>
                  <a:lnTo>
                    <a:pt x="457" y="3"/>
                  </a:lnTo>
                  <a:lnTo>
                    <a:pt x="472" y="0"/>
                  </a:lnTo>
                  <a:lnTo>
                    <a:pt x="491" y="0"/>
                  </a:lnTo>
                  <a:lnTo>
                    <a:pt x="512" y="2"/>
                  </a:lnTo>
                  <a:lnTo>
                    <a:pt x="533" y="3"/>
                  </a:lnTo>
                  <a:lnTo>
                    <a:pt x="554" y="6"/>
                  </a:lnTo>
                  <a:lnTo>
                    <a:pt x="574" y="10"/>
                  </a:lnTo>
                  <a:lnTo>
                    <a:pt x="593" y="14"/>
                  </a:lnTo>
                  <a:lnTo>
                    <a:pt x="612" y="20"/>
                  </a:lnTo>
                  <a:lnTo>
                    <a:pt x="630" y="27"/>
                  </a:lnTo>
                  <a:lnTo>
                    <a:pt x="648" y="35"/>
                  </a:lnTo>
                  <a:lnTo>
                    <a:pt x="666" y="44"/>
                  </a:lnTo>
                  <a:lnTo>
                    <a:pt x="682" y="53"/>
                  </a:lnTo>
                  <a:lnTo>
                    <a:pt x="698" y="63"/>
                  </a:lnTo>
                  <a:lnTo>
                    <a:pt x="713" y="75"/>
                  </a:lnTo>
                  <a:lnTo>
                    <a:pt x="728" y="88"/>
                  </a:lnTo>
                  <a:lnTo>
                    <a:pt x="742" y="100"/>
                  </a:lnTo>
                  <a:lnTo>
                    <a:pt x="755" y="114"/>
                  </a:lnTo>
                  <a:lnTo>
                    <a:pt x="767" y="129"/>
                  </a:lnTo>
                  <a:lnTo>
                    <a:pt x="780" y="144"/>
                  </a:lnTo>
                  <a:lnTo>
                    <a:pt x="789" y="160"/>
                  </a:lnTo>
                  <a:lnTo>
                    <a:pt x="799" y="176"/>
                  </a:lnTo>
                  <a:lnTo>
                    <a:pt x="809" y="193"/>
                  </a:lnTo>
                  <a:lnTo>
                    <a:pt x="817" y="210"/>
                  </a:lnTo>
                  <a:lnTo>
                    <a:pt x="825" y="228"/>
                  </a:lnTo>
                  <a:lnTo>
                    <a:pt x="831" y="247"/>
                  </a:lnTo>
                  <a:lnTo>
                    <a:pt x="836" y="266"/>
                  </a:lnTo>
                  <a:lnTo>
                    <a:pt x="840" y="286"/>
                  </a:lnTo>
                  <a:lnTo>
                    <a:pt x="844" y="306"/>
                  </a:lnTo>
                  <a:lnTo>
                    <a:pt x="847" y="327"/>
                  </a:lnTo>
                  <a:lnTo>
                    <a:pt x="848" y="348"/>
                  </a:lnTo>
                  <a:lnTo>
                    <a:pt x="848" y="369"/>
                  </a:lnTo>
                  <a:lnTo>
                    <a:pt x="847" y="390"/>
                  </a:lnTo>
                  <a:lnTo>
                    <a:pt x="845" y="412"/>
                  </a:lnTo>
                  <a:lnTo>
                    <a:pt x="841" y="435"/>
                  </a:lnTo>
                  <a:close/>
                  <a:moveTo>
                    <a:pt x="424" y="854"/>
                  </a:moveTo>
                  <a:lnTo>
                    <a:pt x="414" y="859"/>
                  </a:lnTo>
                  <a:lnTo>
                    <a:pt x="405" y="862"/>
                  </a:lnTo>
                  <a:lnTo>
                    <a:pt x="397" y="864"/>
                  </a:lnTo>
                  <a:lnTo>
                    <a:pt x="390" y="867"/>
                  </a:lnTo>
                  <a:lnTo>
                    <a:pt x="374" y="868"/>
                  </a:lnTo>
                  <a:lnTo>
                    <a:pt x="356" y="868"/>
                  </a:lnTo>
                  <a:lnTo>
                    <a:pt x="334" y="868"/>
                  </a:lnTo>
                  <a:lnTo>
                    <a:pt x="314" y="865"/>
                  </a:lnTo>
                  <a:lnTo>
                    <a:pt x="293" y="863"/>
                  </a:lnTo>
                  <a:lnTo>
                    <a:pt x="274" y="860"/>
                  </a:lnTo>
                  <a:lnTo>
                    <a:pt x="254" y="854"/>
                  </a:lnTo>
                  <a:lnTo>
                    <a:pt x="235" y="848"/>
                  </a:lnTo>
                  <a:lnTo>
                    <a:pt x="217" y="841"/>
                  </a:lnTo>
                  <a:lnTo>
                    <a:pt x="198" y="833"/>
                  </a:lnTo>
                  <a:lnTo>
                    <a:pt x="182" y="825"/>
                  </a:lnTo>
                  <a:lnTo>
                    <a:pt x="165" y="815"/>
                  </a:lnTo>
                  <a:lnTo>
                    <a:pt x="149" y="805"/>
                  </a:lnTo>
                  <a:lnTo>
                    <a:pt x="133" y="793"/>
                  </a:lnTo>
                  <a:lnTo>
                    <a:pt x="119" y="782"/>
                  </a:lnTo>
                  <a:lnTo>
                    <a:pt x="106" y="768"/>
                  </a:lnTo>
                  <a:lnTo>
                    <a:pt x="92" y="755"/>
                  </a:lnTo>
                  <a:lnTo>
                    <a:pt x="79" y="741"/>
                  </a:lnTo>
                  <a:lnTo>
                    <a:pt x="68" y="726"/>
                  </a:lnTo>
                  <a:lnTo>
                    <a:pt x="57" y="710"/>
                  </a:lnTo>
                  <a:lnTo>
                    <a:pt x="47" y="694"/>
                  </a:lnTo>
                  <a:lnTo>
                    <a:pt x="38" y="676"/>
                  </a:lnTo>
                  <a:lnTo>
                    <a:pt x="29" y="658"/>
                  </a:lnTo>
                  <a:lnTo>
                    <a:pt x="23" y="641"/>
                  </a:lnTo>
                  <a:lnTo>
                    <a:pt x="16" y="621"/>
                  </a:lnTo>
                  <a:lnTo>
                    <a:pt x="11" y="603"/>
                  </a:lnTo>
                  <a:lnTo>
                    <a:pt x="6" y="582"/>
                  </a:lnTo>
                  <a:lnTo>
                    <a:pt x="3" y="563"/>
                  </a:lnTo>
                  <a:lnTo>
                    <a:pt x="1" y="542"/>
                  </a:lnTo>
                  <a:lnTo>
                    <a:pt x="0" y="522"/>
                  </a:lnTo>
                  <a:lnTo>
                    <a:pt x="0" y="500"/>
                  </a:lnTo>
                  <a:lnTo>
                    <a:pt x="0" y="478"/>
                  </a:lnTo>
                  <a:lnTo>
                    <a:pt x="2" y="456"/>
                  </a:lnTo>
                  <a:lnTo>
                    <a:pt x="5" y="435"/>
                  </a:lnTo>
                  <a:lnTo>
                    <a:pt x="10" y="415"/>
                  </a:lnTo>
                  <a:lnTo>
                    <a:pt x="14" y="396"/>
                  </a:lnTo>
                  <a:lnTo>
                    <a:pt x="21" y="376"/>
                  </a:lnTo>
                  <a:lnTo>
                    <a:pt x="26" y="357"/>
                  </a:lnTo>
                  <a:lnTo>
                    <a:pt x="34" y="338"/>
                  </a:lnTo>
                  <a:lnTo>
                    <a:pt x="42" y="320"/>
                  </a:lnTo>
                  <a:lnTo>
                    <a:pt x="50" y="302"/>
                  </a:lnTo>
                  <a:lnTo>
                    <a:pt x="59" y="285"/>
                  </a:lnTo>
                  <a:lnTo>
                    <a:pt x="69" y="267"/>
                  </a:lnTo>
                  <a:lnTo>
                    <a:pt x="79" y="250"/>
                  </a:lnTo>
                  <a:lnTo>
                    <a:pt x="90" y="233"/>
                  </a:lnTo>
                  <a:lnTo>
                    <a:pt x="102" y="217"/>
                  </a:lnTo>
                  <a:lnTo>
                    <a:pt x="115" y="201"/>
                  </a:lnTo>
                  <a:lnTo>
                    <a:pt x="127" y="186"/>
                  </a:lnTo>
                  <a:lnTo>
                    <a:pt x="140" y="171"/>
                  </a:lnTo>
                  <a:lnTo>
                    <a:pt x="154" y="156"/>
                  </a:lnTo>
                  <a:lnTo>
                    <a:pt x="168" y="142"/>
                  </a:lnTo>
                  <a:lnTo>
                    <a:pt x="183" y="129"/>
                  </a:lnTo>
                  <a:lnTo>
                    <a:pt x="197" y="116"/>
                  </a:lnTo>
                  <a:lnTo>
                    <a:pt x="213" y="105"/>
                  </a:lnTo>
                  <a:lnTo>
                    <a:pt x="228" y="93"/>
                  </a:lnTo>
                  <a:lnTo>
                    <a:pt x="245" y="82"/>
                  </a:lnTo>
                  <a:lnTo>
                    <a:pt x="261" y="73"/>
                  </a:lnTo>
                  <a:lnTo>
                    <a:pt x="279" y="62"/>
                  </a:lnTo>
                  <a:lnTo>
                    <a:pt x="296" y="54"/>
                  </a:lnTo>
                  <a:lnTo>
                    <a:pt x="313" y="46"/>
                  </a:lnTo>
                  <a:lnTo>
                    <a:pt x="331" y="38"/>
                  </a:lnTo>
                  <a:lnTo>
                    <a:pt x="349" y="33"/>
                  </a:lnTo>
                  <a:lnTo>
                    <a:pt x="367" y="27"/>
                  </a:lnTo>
                  <a:lnTo>
                    <a:pt x="386" y="22"/>
                  </a:lnTo>
                  <a:lnTo>
                    <a:pt x="405" y="18"/>
                  </a:lnTo>
                  <a:lnTo>
                    <a:pt x="424" y="14"/>
                  </a:lnTo>
                  <a:lnTo>
                    <a:pt x="424" y="99"/>
                  </a:lnTo>
                  <a:lnTo>
                    <a:pt x="408" y="101"/>
                  </a:lnTo>
                  <a:lnTo>
                    <a:pt x="394" y="105"/>
                  </a:lnTo>
                  <a:lnTo>
                    <a:pt x="379" y="109"/>
                  </a:lnTo>
                  <a:lnTo>
                    <a:pt x="364" y="114"/>
                  </a:lnTo>
                  <a:lnTo>
                    <a:pt x="350" y="120"/>
                  </a:lnTo>
                  <a:lnTo>
                    <a:pt x="335" y="125"/>
                  </a:lnTo>
                  <a:lnTo>
                    <a:pt x="322" y="132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82" y="155"/>
                  </a:lnTo>
                  <a:lnTo>
                    <a:pt x="269" y="164"/>
                  </a:lnTo>
                  <a:lnTo>
                    <a:pt x="257" y="173"/>
                  </a:lnTo>
                  <a:lnTo>
                    <a:pt x="245" y="183"/>
                  </a:lnTo>
                  <a:lnTo>
                    <a:pt x="234" y="193"/>
                  </a:lnTo>
                  <a:lnTo>
                    <a:pt x="222" y="203"/>
                  </a:lnTo>
                  <a:lnTo>
                    <a:pt x="211" y="214"/>
                  </a:lnTo>
                  <a:lnTo>
                    <a:pt x="201" y="225"/>
                  </a:lnTo>
                  <a:lnTo>
                    <a:pt x="191" y="238"/>
                  </a:lnTo>
                  <a:lnTo>
                    <a:pt x="181" y="249"/>
                  </a:lnTo>
                  <a:lnTo>
                    <a:pt x="172" y="262"/>
                  </a:lnTo>
                  <a:lnTo>
                    <a:pt x="163" y="274"/>
                  </a:lnTo>
                  <a:lnTo>
                    <a:pt x="154" y="288"/>
                  </a:lnTo>
                  <a:lnTo>
                    <a:pt x="147" y="302"/>
                  </a:lnTo>
                  <a:lnTo>
                    <a:pt x="139" y="315"/>
                  </a:lnTo>
                  <a:lnTo>
                    <a:pt x="132" y="329"/>
                  </a:lnTo>
                  <a:lnTo>
                    <a:pt x="126" y="343"/>
                  </a:lnTo>
                  <a:lnTo>
                    <a:pt x="120" y="358"/>
                  </a:lnTo>
                  <a:lnTo>
                    <a:pt x="115" y="373"/>
                  </a:lnTo>
                  <a:lnTo>
                    <a:pt x="110" y="388"/>
                  </a:lnTo>
                  <a:lnTo>
                    <a:pt x="106" y="404"/>
                  </a:lnTo>
                  <a:lnTo>
                    <a:pt x="102" y="419"/>
                  </a:lnTo>
                  <a:lnTo>
                    <a:pt x="100" y="435"/>
                  </a:lnTo>
                  <a:lnTo>
                    <a:pt x="98" y="452"/>
                  </a:lnTo>
                  <a:lnTo>
                    <a:pt x="97" y="468"/>
                  </a:lnTo>
                  <a:lnTo>
                    <a:pt x="96" y="485"/>
                  </a:lnTo>
                  <a:lnTo>
                    <a:pt x="97" y="501"/>
                  </a:lnTo>
                  <a:lnTo>
                    <a:pt x="98" y="517"/>
                  </a:lnTo>
                  <a:lnTo>
                    <a:pt x="100" y="533"/>
                  </a:lnTo>
                  <a:lnTo>
                    <a:pt x="102" y="548"/>
                  </a:lnTo>
                  <a:lnTo>
                    <a:pt x="106" y="564"/>
                  </a:lnTo>
                  <a:lnTo>
                    <a:pt x="110" y="579"/>
                  </a:lnTo>
                  <a:lnTo>
                    <a:pt x="116" y="593"/>
                  </a:lnTo>
                  <a:lnTo>
                    <a:pt x="121" y="606"/>
                  </a:lnTo>
                  <a:lnTo>
                    <a:pt x="127" y="620"/>
                  </a:lnTo>
                  <a:lnTo>
                    <a:pt x="134" y="634"/>
                  </a:lnTo>
                  <a:lnTo>
                    <a:pt x="142" y="647"/>
                  </a:lnTo>
                  <a:lnTo>
                    <a:pt x="150" y="659"/>
                  </a:lnTo>
                  <a:lnTo>
                    <a:pt x="159" y="671"/>
                  </a:lnTo>
                  <a:lnTo>
                    <a:pt x="169" y="682"/>
                  </a:lnTo>
                  <a:lnTo>
                    <a:pt x="179" y="692"/>
                  </a:lnTo>
                  <a:lnTo>
                    <a:pt x="189" y="703"/>
                  </a:lnTo>
                  <a:lnTo>
                    <a:pt x="200" y="712"/>
                  </a:lnTo>
                  <a:lnTo>
                    <a:pt x="212" y="721"/>
                  </a:lnTo>
                  <a:lnTo>
                    <a:pt x="224" y="729"/>
                  </a:lnTo>
                  <a:lnTo>
                    <a:pt x="236" y="736"/>
                  </a:lnTo>
                  <a:lnTo>
                    <a:pt x="249" y="743"/>
                  </a:lnTo>
                  <a:lnTo>
                    <a:pt x="264" y="750"/>
                  </a:lnTo>
                  <a:lnTo>
                    <a:pt x="277" y="754"/>
                  </a:lnTo>
                  <a:lnTo>
                    <a:pt x="291" y="759"/>
                  </a:lnTo>
                  <a:lnTo>
                    <a:pt x="307" y="763"/>
                  </a:lnTo>
                  <a:lnTo>
                    <a:pt x="322" y="766"/>
                  </a:lnTo>
                  <a:lnTo>
                    <a:pt x="338" y="768"/>
                  </a:lnTo>
                  <a:lnTo>
                    <a:pt x="353" y="770"/>
                  </a:lnTo>
                  <a:lnTo>
                    <a:pt x="370" y="770"/>
                  </a:lnTo>
                  <a:lnTo>
                    <a:pt x="382" y="770"/>
                  </a:lnTo>
                  <a:lnTo>
                    <a:pt x="396" y="770"/>
                  </a:lnTo>
                  <a:lnTo>
                    <a:pt x="412" y="770"/>
                  </a:lnTo>
                  <a:lnTo>
                    <a:pt x="424" y="770"/>
                  </a:lnTo>
                  <a:lnTo>
                    <a:pt x="424" y="854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89840" y="626760"/>
              <a:ext cx="87480" cy="81000"/>
            </a:xfrm>
            <a:custGeom>
              <a:avLst/>
              <a:gdLst/>
              <a:ahLst/>
              <a:rect l="l" t="t" r="r" b="b"/>
              <a:pathLst>
                <a:path w="823" h="896">
                  <a:moveTo>
                    <a:pt x="135" y="0"/>
                  </a:moveTo>
                  <a:lnTo>
                    <a:pt x="621" y="644"/>
                  </a:lnTo>
                  <a:lnTo>
                    <a:pt x="715" y="27"/>
                  </a:lnTo>
                  <a:lnTo>
                    <a:pt x="823" y="27"/>
                  </a:lnTo>
                  <a:lnTo>
                    <a:pt x="688" y="896"/>
                  </a:lnTo>
                  <a:lnTo>
                    <a:pt x="189" y="238"/>
                  </a:lnTo>
                  <a:lnTo>
                    <a:pt x="94" y="853"/>
                  </a:lnTo>
                  <a:lnTo>
                    <a:pt x="0" y="85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70120" y="62676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17" y="139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17" y="657"/>
                  </a:lnTo>
                  <a:lnTo>
                    <a:pt x="417" y="560"/>
                  </a:lnTo>
                  <a:lnTo>
                    <a:pt x="566" y="560"/>
                  </a:lnTo>
                  <a:lnTo>
                    <a:pt x="471" y="223"/>
                  </a:lnTo>
                  <a:lnTo>
                    <a:pt x="417" y="308"/>
                  </a:lnTo>
                  <a:lnTo>
                    <a:pt x="417" y="139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17" y="139"/>
                  </a:lnTo>
                  <a:lnTo>
                    <a:pt x="417" y="308"/>
                  </a:lnTo>
                  <a:lnTo>
                    <a:pt x="282" y="560"/>
                  </a:lnTo>
                  <a:lnTo>
                    <a:pt x="417" y="560"/>
                  </a:lnTo>
                  <a:lnTo>
                    <a:pt x="417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57960" y="630000"/>
              <a:ext cx="37080" cy="74520"/>
            </a:xfrm>
            <a:custGeom>
              <a:avLst/>
              <a:gdLst/>
              <a:ahLst/>
              <a:rect l="l" t="t" r="r" b="b"/>
              <a:pathLst>
                <a:path w="350" h="826">
                  <a:moveTo>
                    <a:pt x="107" y="743"/>
                  </a:moveTo>
                  <a:lnTo>
                    <a:pt x="350" y="743"/>
                  </a:lnTo>
                  <a:lnTo>
                    <a:pt x="337" y="826"/>
                  </a:lnTo>
                  <a:lnTo>
                    <a:pt x="0" y="826"/>
                  </a:lnTo>
                  <a:lnTo>
                    <a:pt x="120" y="0"/>
                  </a:lnTo>
                  <a:lnTo>
                    <a:pt x="228" y="0"/>
                  </a:lnTo>
                  <a:lnTo>
                    <a:pt x="107" y="74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32480" y="630000"/>
              <a:ext cx="72720" cy="7452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350" y="15"/>
                  </a:moveTo>
                  <a:lnTo>
                    <a:pt x="370" y="16"/>
                  </a:lnTo>
                  <a:lnTo>
                    <a:pt x="390" y="19"/>
                  </a:lnTo>
                  <a:lnTo>
                    <a:pt x="409" y="22"/>
                  </a:lnTo>
                  <a:lnTo>
                    <a:pt x="428" y="25"/>
                  </a:lnTo>
                  <a:lnTo>
                    <a:pt x="446" y="30"/>
                  </a:lnTo>
                  <a:lnTo>
                    <a:pt x="464" y="36"/>
                  </a:lnTo>
                  <a:lnTo>
                    <a:pt x="481" y="41"/>
                  </a:lnTo>
                  <a:lnTo>
                    <a:pt x="497" y="48"/>
                  </a:lnTo>
                  <a:lnTo>
                    <a:pt x="514" y="56"/>
                  </a:lnTo>
                  <a:lnTo>
                    <a:pt x="529" y="64"/>
                  </a:lnTo>
                  <a:lnTo>
                    <a:pt x="544" y="74"/>
                  </a:lnTo>
                  <a:lnTo>
                    <a:pt x="558" y="83"/>
                  </a:lnTo>
                  <a:lnTo>
                    <a:pt x="572" y="93"/>
                  </a:lnTo>
                  <a:lnTo>
                    <a:pt x="584" y="104"/>
                  </a:lnTo>
                  <a:lnTo>
                    <a:pt x="597" y="116"/>
                  </a:lnTo>
                  <a:lnTo>
                    <a:pt x="609" y="128"/>
                  </a:lnTo>
                  <a:lnTo>
                    <a:pt x="619" y="141"/>
                  </a:lnTo>
                  <a:lnTo>
                    <a:pt x="629" y="155"/>
                  </a:lnTo>
                  <a:lnTo>
                    <a:pt x="639" y="170"/>
                  </a:lnTo>
                  <a:lnTo>
                    <a:pt x="646" y="185"/>
                  </a:lnTo>
                  <a:lnTo>
                    <a:pt x="654" y="201"/>
                  </a:lnTo>
                  <a:lnTo>
                    <a:pt x="661" y="218"/>
                  </a:lnTo>
                  <a:lnTo>
                    <a:pt x="666" y="235"/>
                  </a:lnTo>
                  <a:lnTo>
                    <a:pt x="671" y="252"/>
                  </a:lnTo>
                  <a:lnTo>
                    <a:pt x="675" y="272"/>
                  </a:lnTo>
                  <a:lnTo>
                    <a:pt x="677" y="291"/>
                  </a:lnTo>
                  <a:lnTo>
                    <a:pt x="679" y="311"/>
                  </a:lnTo>
                  <a:lnTo>
                    <a:pt x="681" y="331"/>
                  </a:lnTo>
                  <a:lnTo>
                    <a:pt x="681" y="353"/>
                  </a:lnTo>
                  <a:lnTo>
                    <a:pt x="679" y="375"/>
                  </a:lnTo>
                  <a:lnTo>
                    <a:pt x="677" y="398"/>
                  </a:lnTo>
                  <a:lnTo>
                    <a:pt x="674" y="421"/>
                  </a:lnTo>
                  <a:lnTo>
                    <a:pt x="672" y="440"/>
                  </a:lnTo>
                  <a:lnTo>
                    <a:pt x="667" y="458"/>
                  </a:lnTo>
                  <a:lnTo>
                    <a:pt x="664" y="477"/>
                  </a:lnTo>
                  <a:lnTo>
                    <a:pt x="660" y="495"/>
                  </a:lnTo>
                  <a:lnTo>
                    <a:pt x="654" y="512"/>
                  </a:lnTo>
                  <a:lnTo>
                    <a:pt x="649" y="529"/>
                  </a:lnTo>
                  <a:lnTo>
                    <a:pt x="642" y="547"/>
                  </a:lnTo>
                  <a:lnTo>
                    <a:pt x="635" y="563"/>
                  </a:lnTo>
                  <a:lnTo>
                    <a:pt x="628" y="578"/>
                  </a:lnTo>
                  <a:lnTo>
                    <a:pt x="620" y="592"/>
                  </a:lnTo>
                  <a:lnTo>
                    <a:pt x="611" y="607"/>
                  </a:lnTo>
                  <a:lnTo>
                    <a:pt x="602" y="622"/>
                  </a:lnTo>
                  <a:lnTo>
                    <a:pt x="593" y="636"/>
                  </a:lnTo>
                  <a:lnTo>
                    <a:pt x="583" y="649"/>
                  </a:lnTo>
                  <a:lnTo>
                    <a:pt x="573" y="661"/>
                  </a:lnTo>
                  <a:lnTo>
                    <a:pt x="562" y="674"/>
                  </a:lnTo>
                  <a:lnTo>
                    <a:pt x="552" y="686"/>
                  </a:lnTo>
                  <a:lnTo>
                    <a:pt x="540" y="698"/>
                  </a:lnTo>
                  <a:lnTo>
                    <a:pt x="529" y="708"/>
                  </a:lnTo>
                  <a:lnTo>
                    <a:pt x="517" y="719"/>
                  </a:lnTo>
                  <a:lnTo>
                    <a:pt x="492" y="739"/>
                  </a:lnTo>
                  <a:lnTo>
                    <a:pt x="465" y="756"/>
                  </a:lnTo>
                  <a:lnTo>
                    <a:pt x="438" y="773"/>
                  </a:lnTo>
                  <a:lnTo>
                    <a:pt x="410" y="788"/>
                  </a:lnTo>
                  <a:lnTo>
                    <a:pt x="380" y="801"/>
                  </a:lnTo>
                  <a:lnTo>
                    <a:pt x="350" y="812"/>
                  </a:lnTo>
                  <a:lnTo>
                    <a:pt x="350" y="700"/>
                  </a:lnTo>
                  <a:lnTo>
                    <a:pt x="370" y="692"/>
                  </a:lnTo>
                  <a:lnTo>
                    <a:pt x="390" y="683"/>
                  </a:lnTo>
                  <a:lnTo>
                    <a:pt x="409" y="672"/>
                  </a:lnTo>
                  <a:lnTo>
                    <a:pt x="428" y="660"/>
                  </a:lnTo>
                  <a:lnTo>
                    <a:pt x="446" y="647"/>
                  </a:lnTo>
                  <a:lnTo>
                    <a:pt x="463" y="634"/>
                  </a:lnTo>
                  <a:lnTo>
                    <a:pt x="480" y="619"/>
                  </a:lnTo>
                  <a:lnTo>
                    <a:pt x="495" y="603"/>
                  </a:lnTo>
                  <a:lnTo>
                    <a:pt x="510" y="584"/>
                  </a:lnTo>
                  <a:lnTo>
                    <a:pt x="524" y="565"/>
                  </a:lnTo>
                  <a:lnTo>
                    <a:pt x="536" y="546"/>
                  </a:lnTo>
                  <a:lnTo>
                    <a:pt x="548" y="524"/>
                  </a:lnTo>
                  <a:lnTo>
                    <a:pt x="558" y="500"/>
                  </a:lnTo>
                  <a:lnTo>
                    <a:pt x="567" y="474"/>
                  </a:lnTo>
                  <a:lnTo>
                    <a:pt x="573" y="448"/>
                  </a:lnTo>
                  <a:lnTo>
                    <a:pt x="580" y="421"/>
                  </a:lnTo>
                  <a:lnTo>
                    <a:pt x="582" y="402"/>
                  </a:lnTo>
                  <a:lnTo>
                    <a:pt x="583" y="385"/>
                  </a:lnTo>
                  <a:lnTo>
                    <a:pt x="583" y="368"/>
                  </a:lnTo>
                  <a:lnTo>
                    <a:pt x="583" y="352"/>
                  </a:lnTo>
                  <a:lnTo>
                    <a:pt x="582" y="336"/>
                  </a:lnTo>
                  <a:lnTo>
                    <a:pt x="581" y="321"/>
                  </a:lnTo>
                  <a:lnTo>
                    <a:pt x="579" y="306"/>
                  </a:lnTo>
                  <a:lnTo>
                    <a:pt x="576" y="291"/>
                  </a:lnTo>
                  <a:lnTo>
                    <a:pt x="572" y="279"/>
                  </a:lnTo>
                  <a:lnTo>
                    <a:pt x="568" y="265"/>
                  </a:lnTo>
                  <a:lnTo>
                    <a:pt x="563" y="252"/>
                  </a:lnTo>
                  <a:lnTo>
                    <a:pt x="558" y="241"/>
                  </a:lnTo>
                  <a:lnTo>
                    <a:pt x="552" y="229"/>
                  </a:lnTo>
                  <a:lnTo>
                    <a:pt x="546" y="219"/>
                  </a:lnTo>
                  <a:lnTo>
                    <a:pt x="538" y="209"/>
                  </a:lnTo>
                  <a:lnTo>
                    <a:pt x="530" y="198"/>
                  </a:lnTo>
                  <a:lnTo>
                    <a:pt x="523" y="189"/>
                  </a:lnTo>
                  <a:lnTo>
                    <a:pt x="514" y="180"/>
                  </a:lnTo>
                  <a:lnTo>
                    <a:pt x="505" y="172"/>
                  </a:lnTo>
                  <a:lnTo>
                    <a:pt x="495" y="164"/>
                  </a:lnTo>
                  <a:lnTo>
                    <a:pt x="485" y="157"/>
                  </a:lnTo>
                  <a:lnTo>
                    <a:pt x="475" y="150"/>
                  </a:lnTo>
                  <a:lnTo>
                    <a:pt x="464" y="145"/>
                  </a:lnTo>
                  <a:lnTo>
                    <a:pt x="453" y="139"/>
                  </a:lnTo>
                  <a:lnTo>
                    <a:pt x="441" y="134"/>
                  </a:lnTo>
                  <a:lnTo>
                    <a:pt x="429" y="130"/>
                  </a:lnTo>
                  <a:lnTo>
                    <a:pt x="417" y="125"/>
                  </a:lnTo>
                  <a:lnTo>
                    <a:pt x="404" y="122"/>
                  </a:lnTo>
                  <a:lnTo>
                    <a:pt x="378" y="116"/>
                  </a:lnTo>
                  <a:lnTo>
                    <a:pt x="350" y="112"/>
                  </a:lnTo>
                  <a:lnTo>
                    <a:pt x="350" y="15"/>
                  </a:lnTo>
                  <a:close/>
                  <a:moveTo>
                    <a:pt x="121" y="0"/>
                  </a:moveTo>
                  <a:lnTo>
                    <a:pt x="296" y="0"/>
                  </a:lnTo>
                  <a:lnTo>
                    <a:pt x="307" y="1"/>
                  </a:lnTo>
                  <a:lnTo>
                    <a:pt x="318" y="2"/>
                  </a:lnTo>
                  <a:lnTo>
                    <a:pt x="325" y="4"/>
                  </a:lnTo>
                  <a:lnTo>
                    <a:pt x="333" y="7"/>
                  </a:lnTo>
                  <a:lnTo>
                    <a:pt x="340" y="10"/>
                  </a:lnTo>
                  <a:lnTo>
                    <a:pt x="350" y="15"/>
                  </a:lnTo>
                  <a:lnTo>
                    <a:pt x="350" y="112"/>
                  </a:lnTo>
                  <a:lnTo>
                    <a:pt x="336" y="108"/>
                  </a:lnTo>
                  <a:lnTo>
                    <a:pt x="323" y="104"/>
                  </a:lnTo>
                  <a:lnTo>
                    <a:pt x="309" y="102"/>
                  </a:lnTo>
                  <a:lnTo>
                    <a:pt x="296" y="100"/>
                  </a:lnTo>
                  <a:lnTo>
                    <a:pt x="271" y="99"/>
                  </a:lnTo>
                  <a:lnTo>
                    <a:pt x="242" y="99"/>
                  </a:lnTo>
                  <a:lnTo>
                    <a:pt x="216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4" y="741"/>
                  </a:lnTo>
                  <a:lnTo>
                    <a:pt x="199" y="739"/>
                  </a:lnTo>
                  <a:lnTo>
                    <a:pt x="224" y="737"/>
                  </a:lnTo>
                  <a:lnTo>
                    <a:pt x="249" y="732"/>
                  </a:lnTo>
                  <a:lnTo>
                    <a:pt x="274" y="725"/>
                  </a:lnTo>
                  <a:lnTo>
                    <a:pt x="299" y="719"/>
                  </a:lnTo>
                  <a:lnTo>
                    <a:pt x="325" y="710"/>
                  </a:lnTo>
                  <a:lnTo>
                    <a:pt x="350" y="700"/>
                  </a:lnTo>
                  <a:lnTo>
                    <a:pt x="350" y="812"/>
                  </a:lnTo>
                  <a:lnTo>
                    <a:pt x="326" y="817"/>
                  </a:lnTo>
                  <a:lnTo>
                    <a:pt x="302" y="820"/>
                  </a:lnTo>
                  <a:lnTo>
                    <a:pt x="278" y="823"/>
                  </a:lnTo>
                  <a:lnTo>
                    <a:pt x="256" y="824"/>
                  </a:lnTo>
                  <a:lnTo>
                    <a:pt x="233" y="825"/>
                  </a:lnTo>
                  <a:lnTo>
                    <a:pt x="210" y="826"/>
                  </a:lnTo>
                  <a:lnTo>
                    <a:pt x="186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08800" y="630000"/>
              <a:ext cx="59400" cy="74520"/>
            </a:xfrm>
            <a:custGeom>
              <a:avLst/>
              <a:gdLst/>
              <a:ahLst/>
              <a:rect l="l" t="t" r="r" b="b"/>
              <a:pathLst>
                <a:path w="552" h="826">
                  <a:moveTo>
                    <a:pt x="121" y="0"/>
                  </a:moveTo>
                  <a:lnTo>
                    <a:pt x="552" y="0"/>
                  </a:lnTo>
                  <a:lnTo>
                    <a:pt x="539" y="99"/>
                  </a:lnTo>
                  <a:lnTo>
                    <a:pt x="202" y="99"/>
                  </a:lnTo>
                  <a:lnTo>
                    <a:pt x="175" y="337"/>
                  </a:lnTo>
                  <a:lnTo>
                    <a:pt x="485" y="337"/>
                  </a:lnTo>
                  <a:lnTo>
                    <a:pt x="472" y="421"/>
                  </a:lnTo>
                  <a:lnTo>
                    <a:pt x="161" y="421"/>
                  </a:lnTo>
                  <a:lnTo>
                    <a:pt x="107" y="743"/>
                  </a:lnTo>
                  <a:lnTo>
                    <a:pt x="445" y="743"/>
                  </a:lnTo>
                  <a:lnTo>
                    <a:pt x="417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12920" y="749160"/>
              <a:ext cx="59400" cy="74520"/>
            </a:xfrm>
            <a:custGeom>
              <a:avLst/>
              <a:gdLst/>
              <a:ahLst/>
              <a:rect l="l" t="t" r="r" b="b"/>
              <a:pathLst>
                <a:path w="553" h="826">
                  <a:moveTo>
                    <a:pt x="122" y="0"/>
                  </a:moveTo>
                  <a:lnTo>
                    <a:pt x="553" y="0"/>
                  </a:lnTo>
                  <a:lnTo>
                    <a:pt x="540" y="99"/>
                  </a:lnTo>
                  <a:lnTo>
                    <a:pt x="217" y="99"/>
                  </a:lnTo>
                  <a:lnTo>
                    <a:pt x="176" y="336"/>
                  </a:lnTo>
                  <a:lnTo>
                    <a:pt x="499" y="336"/>
                  </a:lnTo>
                  <a:lnTo>
                    <a:pt x="486" y="421"/>
                  </a:lnTo>
                  <a:lnTo>
                    <a:pt x="162" y="421"/>
                  </a:lnTo>
                  <a:lnTo>
                    <a:pt x="108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0880" y="747360"/>
              <a:ext cx="594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72" y="182"/>
                  </a:moveTo>
                  <a:lnTo>
                    <a:pt x="466" y="171"/>
                  </a:lnTo>
                  <a:lnTo>
                    <a:pt x="461" y="162"/>
                  </a:lnTo>
                  <a:lnTo>
                    <a:pt x="455" y="153"/>
                  </a:lnTo>
                  <a:lnTo>
                    <a:pt x="450" y="145"/>
                  </a:lnTo>
                  <a:lnTo>
                    <a:pt x="443" y="137"/>
                  </a:lnTo>
                  <a:lnTo>
                    <a:pt x="437" y="130"/>
                  </a:lnTo>
                  <a:lnTo>
                    <a:pt x="429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6" y="110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79" y="100"/>
                  </a:lnTo>
                  <a:lnTo>
                    <a:pt x="370" y="99"/>
                  </a:lnTo>
                  <a:lnTo>
                    <a:pt x="360" y="98"/>
                  </a:lnTo>
                  <a:lnTo>
                    <a:pt x="350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2"/>
                  </a:lnTo>
                  <a:lnTo>
                    <a:pt x="301" y="105"/>
                  </a:lnTo>
                  <a:lnTo>
                    <a:pt x="290" y="110"/>
                  </a:lnTo>
                  <a:lnTo>
                    <a:pt x="277" y="114"/>
                  </a:lnTo>
                  <a:lnTo>
                    <a:pt x="266" y="121"/>
                  </a:lnTo>
                  <a:lnTo>
                    <a:pt x="256" y="128"/>
                  </a:lnTo>
                  <a:lnTo>
                    <a:pt x="247" y="135"/>
                  </a:lnTo>
                  <a:lnTo>
                    <a:pt x="238" y="144"/>
                  </a:lnTo>
                  <a:lnTo>
                    <a:pt x="229" y="153"/>
                  </a:lnTo>
                  <a:lnTo>
                    <a:pt x="221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2" y="209"/>
                  </a:lnTo>
                  <a:lnTo>
                    <a:pt x="200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3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4" y="288"/>
                  </a:lnTo>
                  <a:lnTo>
                    <a:pt x="231" y="295"/>
                  </a:lnTo>
                  <a:lnTo>
                    <a:pt x="240" y="302"/>
                  </a:lnTo>
                  <a:lnTo>
                    <a:pt x="248" y="308"/>
                  </a:lnTo>
                  <a:lnTo>
                    <a:pt x="258" y="314"/>
                  </a:lnTo>
                  <a:lnTo>
                    <a:pt x="276" y="325"/>
                  </a:lnTo>
                  <a:lnTo>
                    <a:pt x="296" y="335"/>
                  </a:lnTo>
                  <a:lnTo>
                    <a:pt x="350" y="364"/>
                  </a:lnTo>
                  <a:lnTo>
                    <a:pt x="368" y="372"/>
                  </a:lnTo>
                  <a:lnTo>
                    <a:pt x="386" y="380"/>
                  </a:lnTo>
                  <a:lnTo>
                    <a:pt x="401" y="389"/>
                  </a:lnTo>
                  <a:lnTo>
                    <a:pt x="418" y="398"/>
                  </a:lnTo>
                  <a:lnTo>
                    <a:pt x="432" y="409"/>
                  </a:lnTo>
                  <a:lnTo>
                    <a:pt x="447" y="420"/>
                  </a:lnTo>
                  <a:lnTo>
                    <a:pt x="459" y="433"/>
                  </a:lnTo>
                  <a:lnTo>
                    <a:pt x="471" y="445"/>
                  </a:lnTo>
                  <a:lnTo>
                    <a:pt x="481" y="460"/>
                  </a:lnTo>
                  <a:lnTo>
                    <a:pt x="488" y="476"/>
                  </a:lnTo>
                  <a:lnTo>
                    <a:pt x="495" y="492"/>
                  </a:lnTo>
                  <a:lnTo>
                    <a:pt x="501" y="511"/>
                  </a:lnTo>
                  <a:lnTo>
                    <a:pt x="502" y="521"/>
                  </a:lnTo>
                  <a:lnTo>
                    <a:pt x="504" y="531"/>
                  </a:lnTo>
                  <a:lnTo>
                    <a:pt x="504" y="542"/>
                  </a:lnTo>
                  <a:lnTo>
                    <a:pt x="504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2" y="643"/>
                  </a:lnTo>
                  <a:lnTo>
                    <a:pt x="488" y="657"/>
                  </a:lnTo>
                  <a:lnTo>
                    <a:pt x="484" y="670"/>
                  </a:lnTo>
                  <a:lnTo>
                    <a:pt x="480" y="684"/>
                  </a:lnTo>
                  <a:lnTo>
                    <a:pt x="474" y="695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1" y="764"/>
                  </a:lnTo>
                  <a:lnTo>
                    <a:pt x="422" y="773"/>
                  </a:lnTo>
                  <a:lnTo>
                    <a:pt x="412" y="783"/>
                  </a:lnTo>
                  <a:lnTo>
                    <a:pt x="403" y="792"/>
                  </a:lnTo>
                  <a:lnTo>
                    <a:pt x="393" y="800"/>
                  </a:lnTo>
                  <a:lnTo>
                    <a:pt x="382" y="808"/>
                  </a:lnTo>
                  <a:lnTo>
                    <a:pt x="372" y="816"/>
                  </a:lnTo>
                  <a:lnTo>
                    <a:pt x="361" y="823"/>
                  </a:lnTo>
                  <a:lnTo>
                    <a:pt x="350" y="830"/>
                  </a:lnTo>
                  <a:lnTo>
                    <a:pt x="338" y="836"/>
                  </a:lnTo>
                  <a:lnTo>
                    <a:pt x="327" y="842"/>
                  </a:lnTo>
                  <a:lnTo>
                    <a:pt x="315" y="847"/>
                  </a:lnTo>
                  <a:lnTo>
                    <a:pt x="303" y="852"/>
                  </a:lnTo>
                  <a:lnTo>
                    <a:pt x="291" y="855"/>
                  </a:lnTo>
                  <a:lnTo>
                    <a:pt x="279" y="859"/>
                  </a:lnTo>
                  <a:lnTo>
                    <a:pt x="266" y="862"/>
                  </a:lnTo>
                  <a:lnTo>
                    <a:pt x="253" y="865"/>
                  </a:lnTo>
                  <a:lnTo>
                    <a:pt x="241" y="866"/>
                  </a:lnTo>
                  <a:lnTo>
                    <a:pt x="229" y="867"/>
                  </a:lnTo>
                  <a:lnTo>
                    <a:pt x="216" y="867"/>
                  </a:lnTo>
                  <a:lnTo>
                    <a:pt x="203" y="867"/>
                  </a:lnTo>
                  <a:lnTo>
                    <a:pt x="191" y="866"/>
                  </a:lnTo>
                  <a:lnTo>
                    <a:pt x="179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8"/>
                  </a:lnTo>
                  <a:lnTo>
                    <a:pt x="135" y="853"/>
                  </a:lnTo>
                  <a:lnTo>
                    <a:pt x="125" y="850"/>
                  </a:lnTo>
                  <a:lnTo>
                    <a:pt x="115" y="845"/>
                  </a:lnTo>
                  <a:lnTo>
                    <a:pt x="106" y="841"/>
                  </a:lnTo>
                  <a:lnTo>
                    <a:pt x="96" y="835"/>
                  </a:lnTo>
                  <a:lnTo>
                    <a:pt x="89" y="829"/>
                  </a:lnTo>
                  <a:lnTo>
                    <a:pt x="80" y="822"/>
                  </a:lnTo>
                  <a:lnTo>
                    <a:pt x="72" y="815"/>
                  </a:lnTo>
                  <a:lnTo>
                    <a:pt x="64" y="808"/>
                  </a:lnTo>
                  <a:lnTo>
                    <a:pt x="58" y="800"/>
                  </a:lnTo>
                  <a:lnTo>
                    <a:pt x="51" y="792"/>
                  </a:lnTo>
                  <a:lnTo>
                    <a:pt x="44" y="784"/>
                  </a:lnTo>
                  <a:lnTo>
                    <a:pt x="38" y="775"/>
                  </a:lnTo>
                  <a:lnTo>
                    <a:pt x="32" y="766"/>
                  </a:lnTo>
                  <a:lnTo>
                    <a:pt x="22" y="747"/>
                  </a:lnTo>
                  <a:lnTo>
                    <a:pt x="15" y="726"/>
                  </a:lnTo>
                  <a:lnTo>
                    <a:pt x="8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107" y="615"/>
                  </a:lnTo>
                  <a:lnTo>
                    <a:pt x="106" y="631"/>
                  </a:lnTo>
                  <a:lnTo>
                    <a:pt x="106" y="646"/>
                  </a:lnTo>
                  <a:lnTo>
                    <a:pt x="107" y="661"/>
                  </a:lnTo>
                  <a:lnTo>
                    <a:pt x="110" y="674"/>
                  </a:lnTo>
                  <a:lnTo>
                    <a:pt x="114" y="688"/>
                  </a:lnTo>
                  <a:lnTo>
                    <a:pt x="120" y="701"/>
                  </a:lnTo>
                  <a:lnTo>
                    <a:pt x="125" y="713"/>
                  </a:lnTo>
                  <a:lnTo>
                    <a:pt x="133" y="724"/>
                  </a:lnTo>
                  <a:lnTo>
                    <a:pt x="142" y="734"/>
                  </a:lnTo>
                  <a:lnTo>
                    <a:pt x="152" y="743"/>
                  </a:lnTo>
                  <a:lnTo>
                    <a:pt x="163" y="750"/>
                  </a:lnTo>
                  <a:lnTo>
                    <a:pt x="175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29" y="770"/>
                  </a:lnTo>
                  <a:lnTo>
                    <a:pt x="247" y="768"/>
                  </a:lnTo>
                  <a:lnTo>
                    <a:pt x="263" y="765"/>
                  </a:lnTo>
                  <a:lnTo>
                    <a:pt x="280" y="760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5" y="728"/>
                  </a:lnTo>
                  <a:lnTo>
                    <a:pt x="347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1" y="648"/>
                  </a:lnTo>
                  <a:lnTo>
                    <a:pt x="397" y="633"/>
                  </a:lnTo>
                  <a:lnTo>
                    <a:pt x="401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6" y="571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6" y="504"/>
                  </a:lnTo>
                  <a:lnTo>
                    <a:pt x="367" y="495"/>
                  </a:lnTo>
                  <a:lnTo>
                    <a:pt x="358" y="487"/>
                  </a:lnTo>
                  <a:lnTo>
                    <a:pt x="348" y="479"/>
                  </a:lnTo>
                  <a:lnTo>
                    <a:pt x="338" y="472"/>
                  </a:lnTo>
                  <a:lnTo>
                    <a:pt x="317" y="459"/>
                  </a:lnTo>
                  <a:lnTo>
                    <a:pt x="296" y="448"/>
                  </a:lnTo>
                  <a:lnTo>
                    <a:pt x="243" y="419"/>
                  </a:lnTo>
                  <a:lnTo>
                    <a:pt x="212" y="404"/>
                  </a:lnTo>
                  <a:lnTo>
                    <a:pt x="184" y="387"/>
                  </a:lnTo>
                  <a:lnTo>
                    <a:pt x="169" y="378"/>
                  </a:lnTo>
                  <a:lnTo>
                    <a:pt x="157" y="367"/>
                  </a:lnTo>
                  <a:lnTo>
                    <a:pt x="145" y="357"/>
                  </a:lnTo>
                  <a:lnTo>
                    <a:pt x="133" y="346"/>
                  </a:lnTo>
                  <a:lnTo>
                    <a:pt x="123" y="334"/>
                  </a:lnTo>
                  <a:lnTo>
                    <a:pt x="114" y="320"/>
                  </a:lnTo>
                  <a:lnTo>
                    <a:pt x="106" y="306"/>
                  </a:lnTo>
                  <a:lnTo>
                    <a:pt x="101" y="289"/>
                  </a:lnTo>
                  <a:lnTo>
                    <a:pt x="96" y="272"/>
                  </a:lnTo>
                  <a:lnTo>
                    <a:pt x="94" y="253"/>
                  </a:lnTo>
                  <a:lnTo>
                    <a:pt x="93" y="232"/>
                  </a:lnTo>
                  <a:lnTo>
                    <a:pt x="94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4" y="175"/>
                  </a:lnTo>
                  <a:lnTo>
                    <a:pt x="108" y="165"/>
                  </a:lnTo>
                  <a:lnTo>
                    <a:pt x="118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59" y="88"/>
                  </a:lnTo>
                  <a:lnTo>
                    <a:pt x="176" y="72"/>
                  </a:lnTo>
                  <a:lnTo>
                    <a:pt x="194" y="58"/>
                  </a:lnTo>
                  <a:lnTo>
                    <a:pt x="212" y="44"/>
                  </a:lnTo>
                  <a:lnTo>
                    <a:pt x="232" y="33"/>
                  </a:lnTo>
                  <a:lnTo>
                    <a:pt x="253" y="24"/>
                  </a:lnTo>
                  <a:lnTo>
                    <a:pt x="274" y="15"/>
                  </a:lnTo>
                  <a:lnTo>
                    <a:pt x="296" y="9"/>
                  </a:lnTo>
                  <a:lnTo>
                    <a:pt x="318" y="4"/>
                  </a:lnTo>
                  <a:lnTo>
                    <a:pt x="342" y="1"/>
                  </a:lnTo>
                  <a:lnTo>
                    <a:pt x="364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4" y="4"/>
                  </a:lnTo>
                  <a:lnTo>
                    <a:pt x="430" y="8"/>
                  </a:lnTo>
                  <a:lnTo>
                    <a:pt x="444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4" y="32"/>
                  </a:lnTo>
                  <a:lnTo>
                    <a:pt x="495" y="40"/>
                  </a:lnTo>
                  <a:lnTo>
                    <a:pt x="506" y="49"/>
                  </a:lnTo>
                  <a:lnTo>
                    <a:pt x="516" y="59"/>
                  </a:lnTo>
                  <a:lnTo>
                    <a:pt x="525" y="71"/>
                  </a:lnTo>
                  <a:lnTo>
                    <a:pt x="534" y="83"/>
                  </a:lnTo>
                  <a:lnTo>
                    <a:pt x="542" y="96"/>
                  </a:lnTo>
                  <a:lnTo>
                    <a:pt x="547" y="111"/>
                  </a:lnTo>
                  <a:lnTo>
                    <a:pt x="553" y="126"/>
                  </a:lnTo>
                  <a:lnTo>
                    <a:pt x="472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36040" y="749160"/>
              <a:ext cx="52200" cy="74520"/>
            </a:xfrm>
            <a:custGeom>
              <a:avLst/>
              <a:gdLst/>
              <a:ahLst/>
              <a:rect l="l" t="t" r="r" b="b"/>
              <a:pathLst>
                <a:path w="485" h="826">
                  <a:moveTo>
                    <a:pt x="175" y="826"/>
                  </a:moveTo>
                  <a:lnTo>
                    <a:pt x="67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85" y="0"/>
                  </a:lnTo>
                  <a:lnTo>
                    <a:pt x="472" y="99"/>
                  </a:lnTo>
                  <a:lnTo>
                    <a:pt x="283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66280" y="745920"/>
              <a:ext cx="79920" cy="77760"/>
            </a:xfrm>
            <a:custGeom>
              <a:avLst/>
              <a:gdLst/>
              <a:ahLst/>
              <a:rect l="l" t="t" r="r" b="b"/>
              <a:pathLst>
                <a:path w="755" h="853">
                  <a:moveTo>
                    <a:pt x="432" y="140"/>
                  </a:moveTo>
                  <a:lnTo>
                    <a:pt x="512" y="0"/>
                  </a:lnTo>
                  <a:lnTo>
                    <a:pt x="755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2" y="657"/>
                  </a:lnTo>
                  <a:lnTo>
                    <a:pt x="432" y="559"/>
                  </a:lnTo>
                  <a:lnTo>
                    <a:pt x="566" y="559"/>
                  </a:lnTo>
                  <a:lnTo>
                    <a:pt x="471" y="223"/>
                  </a:lnTo>
                  <a:lnTo>
                    <a:pt x="432" y="308"/>
                  </a:lnTo>
                  <a:lnTo>
                    <a:pt x="432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2" y="140"/>
                  </a:lnTo>
                  <a:lnTo>
                    <a:pt x="432" y="308"/>
                  </a:lnTo>
                  <a:lnTo>
                    <a:pt x="282" y="559"/>
                  </a:lnTo>
                  <a:lnTo>
                    <a:pt x="432" y="559"/>
                  </a:lnTo>
                  <a:lnTo>
                    <a:pt x="432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853760" y="749160"/>
              <a:ext cx="72720" cy="74520"/>
            </a:xfrm>
            <a:custGeom>
              <a:avLst/>
              <a:gdLst/>
              <a:ahLst/>
              <a:rect l="l" t="t" r="r" b="b"/>
              <a:pathLst>
                <a:path w="680" h="826">
                  <a:moveTo>
                    <a:pt x="337" y="15"/>
                  </a:moveTo>
                  <a:lnTo>
                    <a:pt x="356" y="16"/>
                  </a:lnTo>
                  <a:lnTo>
                    <a:pt x="376" y="19"/>
                  </a:lnTo>
                  <a:lnTo>
                    <a:pt x="395" y="22"/>
                  </a:lnTo>
                  <a:lnTo>
                    <a:pt x="415" y="26"/>
                  </a:lnTo>
                  <a:lnTo>
                    <a:pt x="433" y="30"/>
                  </a:lnTo>
                  <a:lnTo>
                    <a:pt x="451" y="36"/>
                  </a:lnTo>
                  <a:lnTo>
                    <a:pt x="469" y="42"/>
                  </a:lnTo>
                  <a:lnTo>
                    <a:pt x="486" y="49"/>
                  </a:lnTo>
                  <a:lnTo>
                    <a:pt x="502" y="57"/>
                  </a:lnTo>
                  <a:lnTo>
                    <a:pt x="519" y="65"/>
                  </a:lnTo>
                  <a:lnTo>
                    <a:pt x="534" y="74"/>
                  </a:lnTo>
                  <a:lnTo>
                    <a:pt x="549" y="83"/>
                  </a:lnTo>
                  <a:lnTo>
                    <a:pt x="563" y="93"/>
                  </a:lnTo>
                  <a:lnTo>
                    <a:pt x="576" y="105"/>
                  </a:lnTo>
                  <a:lnTo>
                    <a:pt x="589" y="116"/>
                  </a:lnTo>
                  <a:lnTo>
                    <a:pt x="602" y="129"/>
                  </a:lnTo>
                  <a:lnTo>
                    <a:pt x="613" y="141"/>
                  </a:lnTo>
                  <a:lnTo>
                    <a:pt x="623" y="155"/>
                  </a:lnTo>
                  <a:lnTo>
                    <a:pt x="633" y="170"/>
                  </a:lnTo>
                  <a:lnTo>
                    <a:pt x="641" y="185"/>
                  </a:lnTo>
                  <a:lnTo>
                    <a:pt x="650" y="201"/>
                  </a:lnTo>
                  <a:lnTo>
                    <a:pt x="657" y="218"/>
                  </a:lnTo>
                  <a:lnTo>
                    <a:pt x="663" y="235"/>
                  </a:lnTo>
                  <a:lnTo>
                    <a:pt x="668" y="252"/>
                  </a:lnTo>
                  <a:lnTo>
                    <a:pt x="672" y="272"/>
                  </a:lnTo>
                  <a:lnTo>
                    <a:pt x="676" y="290"/>
                  </a:lnTo>
                  <a:lnTo>
                    <a:pt x="678" y="311"/>
                  </a:lnTo>
                  <a:lnTo>
                    <a:pt x="680" y="331"/>
                  </a:lnTo>
                  <a:lnTo>
                    <a:pt x="680" y="352"/>
                  </a:lnTo>
                  <a:lnTo>
                    <a:pt x="679" y="375"/>
                  </a:lnTo>
                  <a:lnTo>
                    <a:pt x="677" y="397"/>
                  </a:lnTo>
                  <a:lnTo>
                    <a:pt x="673" y="421"/>
                  </a:lnTo>
                  <a:lnTo>
                    <a:pt x="670" y="440"/>
                  </a:lnTo>
                  <a:lnTo>
                    <a:pt x="666" y="459"/>
                  </a:lnTo>
                  <a:lnTo>
                    <a:pt x="660" y="477"/>
                  </a:lnTo>
                  <a:lnTo>
                    <a:pt x="655" y="495"/>
                  </a:lnTo>
                  <a:lnTo>
                    <a:pt x="649" y="512"/>
                  </a:lnTo>
                  <a:lnTo>
                    <a:pt x="643" y="530"/>
                  </a:lnTo>
                  <a:lnTo>
                    <a:pt x="636" y="547"/>
                  </a:lnTo>
                  <a:lnTo>
                    <a:pt x="628" y="563"/>
                  </a:lnTo>
                  <a:lnTo>
                    <a:pt x="620" y="578"/>
                  </a:lnTo>
                  <a:lnTo>
                    <a:pt x="613" y="593"/>
                  </a:lnTo>
                  <a:lnTo>
                    <a:pt x="604" y="608"/>
                  </a:lnTo>
                  <a:lnTo>
                    <a:pt x="595" y="621"/>
                  </a:lnTo>
                  <a:lnTo>
                    <a:pt x="586" y="635"/>
                  </a:lnTo>
                  <a:lnTo>
                    <a:pt x="576" y="649"/>
                  </a:lnTo>
                  <a:lnTo>
                    <a:pt x="566" y="661"/>
                  </a:lnTo>
                  <a:lnTo>
                    <a:pt x="555" y="674"/>
                  </a:lnTo>
                  <a:lnTo>
                    <a:pt x="544" y="685"/>
                  </a:lnTo>
                  <a:lnTo>
                    <a:pt x="533" y="697"/>
                  </a:lnTo>
                  <a:lnTo>
                    <a:pt x="522" y="708"/>
                  </a:lnTo>
                  <a:lnTo>
                    <a:pt x="510" y="719"/>
                  </a:lnTo>
                  <a:lnTo>
                    <a:pt x="497" y="729"/>
                  </a:lnTo>
                  <a:lnTo>
                    <a:pt x="485" y="739"/>
                  </a:lnTo>
                  <a:lnTo>
                    <a:pt x="471" y="748"/>
                  </a:lnTo>
                  <a:lnTo>
                    <a:pt x="457" y="757"/>
                  </a:lnTo>
                  <a:lnTo>
                    <a:pt x="429" y="774"/>
                  </a:lnTo>
                  <a:lnTo>
                    <a:pt x="399" y="787"/>
                  </a:lnTo>
                  <a:lnTo>
                    <a:pt x="369" y="801"/>
                  </a:lnTo>
                  <a:lnTo>
                    <a:pt x="337" y="813"/>
                  </a:lnTo>
                  <a:lnTo>
                    <a:pt x="337" y="700"/>
                  </a:lnTo>
                  <a:lnTo>
                    <a:pt x="359" y="692"/>
                  </a:lnTo>
                  <a:lnTo>
                    <a:pt x="380" y="682"/>
                  </a:lnTo>
                  <a:lnTo>
                    <a:pt x="401" y="672"/>
                  </a:lnTo>
                  <a:lnTo>
                    <a:pt x="419" y="660"/>
                  </a:lnTo>
                  <a:lnTo>
                    <a:pt x="438" y="648"/>
                  </a:lnTo>
                  <a:lnTo>
                    <a:pt x="455" y="634"/>
                  </a:lnTo>
                  <a:lnTo>
                    <a:pt x="471" y="619"/>
                  </a:lnTo>
                  <a:lnTo>
                    <a:pt x="487" y="602"/>
                  </a:lnTo>
                  <a:lnTo>
                    <a:pt x="500" y="585"/>
                  </a:lnTo>
                  <a:lnTo>
                    <a:pt x="513" y="565"/>
                  </a:lnTo>
                  <a:lnTo>
                    <a:pt x="525" y="545"/>
                  </a:lnTo>
                  <a:lnTo>
                    <a:pt x="535" y="523"/>
                  </a:lnTo>
                  <a:lnTo>
                    <a:pt x="545" y="500"/>
                  </a:lnTo>
                  <a:lnTo>
                    <a:pt x="553" y="475"/>
                  </a:lnTo>
                  <a:lnTo>
                    <a:pt x="560" y="448"/>
                  </a:lnTo>
                  <a:lnTo>
                    <a:pt x="566" y="421"/>
                  </a:lnTo>
                  <a:lnTo>
                    <a:pt x="570" y="403"/>
                  </a:lnTo>
                  <a:lnTo>
                    <a:pt x="572" y="385"/>
                  </a:lnTo>
                  <a:lnTo>
                    <a:pt x="573" y="368"/>
                  </a:lnTo>
                  <a:lnTo>
                    <a:pt x="574" y="352"/>
                  </a:lnTo>
                  <a:lnTo>
                    <a:pt x="574" y="336"/>
                  </a:lnTo>
                  <a:lnTo>
                    <a:pt x="574" y="320"/>
                  </a:lnTo>
                  <a:lnTo>
                    <a:pt x="572" y="306"/>
                  </a:lnTo>
                  <a:lnTo>
                    <a:pt x="570" y="291"/>
                  </a:lnTo>
                  <a:lnTo>
                    <a:pt x="566" y="278"/>
                  </a:lnTo>
                  <a:lnTo>
                    <a:pt x="563" y="265"/>
                  </a:lnTo>
                  <a:lnTo>
                    <a:pt x="559" y="252"/>
                  </a:lnTo>
                  <a:lnTo>
                    <a:pt x="554" y="241"/>
                  </a:lnTo>
                  <a:lnTo>
                    <a:pt x="548" y="230"/>
                  </a:lnTo>
                  <a:lnTo>
                    <a:pt x="542" y="218"/>
                  </a:lnTo>
                  <a:lnTo>
                    <a:pt x="534" y="208"/>
                  </a:lnTo>
                  <a:lnTo>
                    <a:pt x="527" y="199"/>
                  </a:lnTo>
                  <a:lnTo>
                    <a:pt x="519" y="189"/>
                  </a:lnTo>
                  <a:lnTo>
                    <a:pt x="510" y="180"/>
                  </a:lnTo>
                  <a:lnTo>
                    <a:pt x="501" y="172"/>
                  </a:lnTo>
                  <a:lnTo>
                    <a:pt x="491" y="164"/>
                  </a:lnTo>
                  <a:lnTo>
                    <a:pt x="480" y="157"/>
                  </a:lnTo>
                  <a:lnTo>
                    <a:pt x="469" y="150"/>
                  </a:lnTo>
                  <a:lnTo>
                    <a:pt x="458" y="145"/>
                  </a:lnTo>
                  <a:lnTo>
                    <a:pt x="446" y="139"/>
                  </a:lnTo>
                  <a:lnTo>
                    <a:pt x="434" y="134"/>
                  </a:lnTo>
                  <a:lnTo>
                    <a:pt x="422" y="130"/>
                  </a:lnTo>
                  <a:lnTo>
                    <a:pt x="408" y="125"/>
                  </a:lnTo>
                  <a:lnTo>
                    <a:pt x="394" y="122"/>
                  </a:lnTo>
                  <a:lnTo>
                    <a:pt x="366" y="116"/>
                  </a:lnTo>
                  <a:lnTo>
                    <a:pt x="337" y="113"/>
                  </a:lnTo>
                  <a:lnTo>
                    <a:pt x="337" y="15"/>
                  </a:lnTo>
                  <a:close/>
                  <a:moveTo>
                    <a:pt x="121" y="0"/>
                  </a:moveTo>
                  <a:lnTo>
                    <a:pt x="282" y="0"/>
                  </a:lnTo>
                  <a:lnTo>
                    <a:pt x="300" y="2"/>
                  </a:lnTo>
                  <a:lnTo>
                    <a:pt x="314" y="3"/>
                  </a:lnTo>
                  <a:lnTo>
                    <a:pt x="321" y="4"/>
                  </a:lnTo>
                  <a:lnTo>
                    <a:pt x="327" y="6"/>
                  </a:lnTo>
                  <a:lnTo>
                    <a:pt x="331" y="11"/>
                  </a:lnTo>
                  <a:lnTo>
                    <a:pt x="337" y="15"/>
                  </a:lnTo>
                  <a:lnTo>
                    <a:pt x="337" y="113"/>
                  </a:lnTo>
                  <a:lnTo>
                    <a:pt x="325" y="108"/>
                  </a:lnTo>
                  <a:lnTo>
                    <a:pt x="314" y="105"/>
                  </a:lnTo>
                  <a:lnTo>
                    <a:pt x="302" y="102"/>
                  </a:lnTo>
                  <a:lnTo>
                    <a:pt x="289" y="100"/>
                  </a:lnTo>
                  <a:lnTo>
                    <a:pt x="265" y="99"/>
                  </a:lnTo>
                  <a:lnTo>
                    <a:pt x="242" y="99"/>
                  </a:lnTo>
                  <a:lnTo>
                    <a:pt x="202" y="99"/>
                  </a:lnTo>
                  <a:lnTo>
                    <a:pt x="107" y="743"/>
                  </a:lnTo>
                  <a:lnTo>
                    <a:pt x="148" y="743"/>
                  </a:lnTo>
                  <a:lnTo>
                    <a:pt x="173" y="742"/>
                  </a:lnTo>
                  <a:lnTo>
                    <a:pt x="198" y="739"/>
                  </a:lnTo>
                  <a:lnTo>
                    <a:pt x="223" y="736"/>
                  </a:lnTo>
                  <a:lnTo>
                    <a:pt x="247" y="731"/>
                  </a:lnTo>
                  <a:lnTo>
                    <a:pt x="270" y="726"/>
                  </a:lnTo>
                  <a:lnTo>
                    <a:pt x="293" y="719"/>
                  </a:lnTo>
                  <a:lnTo>
                    <a:pt x="316" y="711"/>
                  </a:lnTo>
                  <a:lnTo>
                    <a:pt x="337" y="700"/>
                  </a:lnTo>
                  <a:lnTo>
                    <a:pt x="337" y="813"/>
                  </a:lnTo>
                  <a:lnTo>
                    <a:pt x="316" y="817"/>
                  </a:lnTo>
                  <a:lnTo>
                    <a:pt x="293" y="821"/>
                  </a:lnTo>
                  <a:lnTo>
                    <a:pt x="271" y="823"/>
                  </a:lnTo>
                  <a:lnTo>
                    <a:pt x="249" y="824"/>
                  </a:lnTo>
                  <a:lnTo>
                    <a:pt x="226" y="825"/>
                  </a:lnTo>
                  <a:lnTo>
                    <a:pt x="204" y="826"/>
                  </a:lnTo>
                  <a:lnTo>
                    <a:pt x="182" y="826"/>
                  </a:lnTo>
                  <a:lnTo>
                    <a:pt x="161" y="826"/>
                  </a:lnTo>
                  <a:lnTo>
                    <a:pt x="0" y="826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8280" y="749160"/>
              <a:ext cx="24480" cy="74520"/>
            </a:xfrm>
            <a:custGeom>
              <a:avLst/>
              <a:gdLst/>
              <a:ahLst/>
              <a:rect l="l" t="t" r="r" b="b"/>
              <a:pathLst>
                <a:path w="229" h="826">
                  <a:moveTo>
                    <a:pt x="94" y="826"/>
                  </a:moveTo>
                  <a:lnTo>
                    <a:pt x="0" y="826"/>
                  </a:lnTo>
                  <a:lnTo>
                    <a:pt x="122" y="0"/>
                  </a:lnTo>
                  <a:lnTo>
                    <a:pt x="229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54200" y="747360"/>
              <a:ext cx="57600" cy="79560"/>
            </a:xfrm>
            <a:custGeom>
              <a:avLst/>
              <a:gdLst/>
              <a:ahLst/>
              <a:rect l="l" t="t" r="r" b="b"/>
              <a:pathLst>
                <a:path w="553" h="867">
                  <a:moveTo>
                    <a:pt x="460" y="182"/>
                  </a:moveTo>
                  <a:lnTo>
                    <a:pt x="456" y="171"/>
                  </a:lnTo>
                  <a:lnTo>
                    <a:pt x="453" y="162"/>
                  </a:lnTo>
                  <a:lnTo>
                    <a:pt x="448" y="153"/>
                  </a:lnTo>
                  <a:lnTo>
                    <a:pt x="444" y="145"/>
                  </a:lnTo>
                  <a:lnTo>
                    <a:pt x="439" y="137"/>
                  </a:lnTo>
                  <a:lnTo>
                    <a:pt x="433" y="130"/>
                  </a:lnTo>
                  <a:lnTo>
                    <a:pt x="427" y="125"/>
                  </a:lnTo>
                  <a:lnTo>
                    <a:pt x="421" y="119"/>
                  </a:lnTo>
                  <a:lnTo>
                    <a:pt x="413" y="114"/>
                  </a:lnTo>
                  <a:lnTo>
                    <a:pt x="405" y="110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1" y="99"/>
                  </a:lnTo>
                  <a:lnTo>
                    <a:pt x="361" y="98"/>
                  </a:lnTo>
                  <a:lnTo>
                    <a:pt x="351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3" y="102"/>
                  </a:lnTo>
                  <a:lnTo>
                    <a:pt x="299" y="105"/>
                  </a:lnTo>
                  <a:lnTo>
                    <a:pt x="287" y="110"/>
                  </a:lnTo>
                  <a:lnTo>
                    <a:pt x="275" y="114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2" y="135"/>
                  </a:lnTo>
                  <a:lnTo>
                    <a:pt x="232" y="144"/>
                  </a:lnTo>
                  <a:lnTo>
                    <a:pt x="224" y="153"/>
                  </a:lnTo>
                  <a:lnTo>
                    <a:pt x="217" y="162"/>
                  </a:lnTo>
                  <a:lnTo>
                    <a:pt x="211" y="174"/>
                  </a:lnTo>
                  <a:lnTo>
                    <a:pt x="207" y="185"/>
                  </a:lnTo>
                  <a:lnTo>
                    <a:pt x="203" y="197"/>
                  </a:lnTo>
                  <a:lnTo>
                    <a:pt x="203" y="209"/>
                  </a:lnTo>
                  <a:lnTo>
                    <a:pt x="201" y="222"/>
                  </a:lnTo>
                  <a:lnTo>
                    <a:pt x="201" y="234"/>
                  </a:lnTo>
                  <a:lnTo>
                    <a:pt x="202" y="245"/>
                  </a:lnTo>
                  <a:lnTo>
                    <a:pt x="204" y="255"/>
                  </a:lnTo>
                  <a:lnTo>
                    <a:pt x="208" y="264"/>
                  </a:lnTo>
                  <a:lnTo>
                    <a:pt x="212" y="272"/>
                  </a:lnTo>
                  <a:lnTo>
                    <a:pt x="218" y="280"/>
                  </a:lnTo>
                  <a:lnTo>
                    <a:pt x="223" y="288"/>
                  </a:lnTo>
                  <a:lnTo>
                    <a:pt x="236" y="302"/>
                  </a:lnTo>
                  <a:lnTo>
                    <a:pt x="252" y="314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8" y="364"/>
                  </a:lnTo>
                  <a:lnTo>
                    <a:pt x="358" y="372"/>
                  </a:lnTo>
                  <a:lnTo>
                    <a:pt x="377" y="380"/>
                  </a:lnTo>
                  <a:lnTo>
                    <a:pt x="395" y="389"/>
                  </a:lnTo>
                  <a:lnTo>
                    <a:pt x="412" y="398"/>
                  </a:lnTo>
                  <a:lnTo>
                    <a:pt x="429" y="409"/>
                  </a:lnTo>
                  <a:lnTo>
                    <a:pt x="444" y="420"/>
                  </a:lnTo>
                  <a:lnTo>
                    <a:pt x="457" y="433"/>
                  </a:lnTo>
                  <a:lnTo>
                    <a:pt x="469" y="445"/>
                  </a:lnTo>
                  <a:lnTo>
                    <a:pt x="479" y="460"/>
                  </a:lnTo>
                  <a:lnTo>
                    <a:pt x="488" y="476"/>
                  </a:lnTo>
                  <a:lnTo>
                    <a:pt x="493" y="484"/>
                  </a:lnTo>
                  <a:lnTo>
                    <a:pt x="496" y="492"/>
                  </a:lnTo>
                  <a:lnTo>
                    <a:pt x="498" y="501"/>
                  </a:lnTo>
                  <a:lnTo>
                    <a:pt x="500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2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499" y="601"/>
                  </a:lnTo>
                  <a:lnTo>
                    <a:pt x="497" y="616"/>
                  </a:lnTo>
                  <a:lnTo>
                    <a:pt x="494" y="630"/>
                  </a:lnTo>
                  <a:lnTo>
                    <a:pt x="489" y="643"/>
                  </a:lnTo>
                  <a:lnTo>
                    <a:pt x="485" y="657"/>
                  </a:lnTo>
                  <a:lnTo>
                    <a:pt x="481" y="670"/>
                  </a:lnTo>
                  <a:lnTo>
                    <a:pt x="475" y="684"/>
                  </a:lnTo>
                  <a:lnTo>
                    <a:pt x="469" y="695"/>
                  </a:lnTo>
                  <a:lnTo>
                    <a:pt x="463" y="708"/>
                  </a:lnTo>
                  <a:lnTo>
                    <a:pt x="456" y="720"/>
                  </a:lnTo>
                  <a:lnTo>
                    <a:pt x="448" y="732"/>
                  </a:lnTo>
                  <a:lnTo>
                    <a:pt x="441" y="742"/>
                  </a:lnTo>
                  <a:lnTo>
                    <a:pt x="433" y="753"/>
                  </a:lnTo>
                  <a:lnTo>
                    <a:pt x="424" y="764"/>
                  </a:lnTo>
                  <a:lnTo>
                    <a:pt x="415" y="773"/>
                  </a:lnTo>
                  <a:lnTo>
                    <a:pt x="407" y="783"/>
                  </a:lnTo>
                  <a:lnTo>
                    <a:pt x="397" y="792"/>
                  </a:lnTo>
                  <a:lnTo>
                    <a:pt x="387" y="800"/>
                  </a:lnTo>
                  <a:lnTo>
                    <a:pt x="377" y="808"/>
                  </a:lnTo>
                  <a:lnTo>
                    <a:pt x="366" y="816"/>
                  </a:lnTo>
                  <a:lnTo>
                    <a:pt x="355" y="823"/>
                  </a:lnTo>
                  <a:lnTo>
                    <a:pt x="344" y="830"/>
                  </a:lnTo>
                  <a:lnTo>
                    <a:pt x="332" y="836"/>
                  </a:lnTo>
                  <a:lnTo>
                    <a:pt x="320" y="842"/>
                  </a:lnTo>
                  <a:lnTo>
                    <a:pt x="308" y="847"/>
                  </a:lnTo>
                  <a:lnTo>
                    <a:pt x="296" y="852"/>
                  </a:lnTo>
                  <a:lnTo>
                    <a:pt x="283" y="855"/>
                  </a:lnTo>
                  <a:lnTo>
                    <a:pt x="271" y="859"/>
                  </a:lnTo>
                  <a:lnTo>
                    <a:pt x="257" y="862"/>
                  </a:lnTo>
                  <a:lnTo>
                    <a:pt x="244" y="865"/>
                  </a:lnTo>
                  <a:lnTo>
                    <a:pt x="231" y="866"/>
                  </a:lnTo>
                  <a:lnTo>
                    <a:pt x="217" y="867"/>
                  </a:lnTo>
                  <a:lnTo>
                    <a:pt x="203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70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8"/>
                  </a:lnTo>
                  <a:lnTo>
                    <a:pt x="129" y="853"/>
                  </a:lnTo>
                  <a:lnTo>
                    <a:pt x="120" y="850"/>
                  </a:lnTo>
                  <a:lnTo>
                    <a:pt x="110" y="845"/>
                  </a:lnTo>
                  <a:lnTo>
                    <a:pt x="102" y="841"/>
                  </a:lnTo>
                  <a:lnTo>
                    <a:pt x="94" y="835"/>
                  </a:lnTo>
                  <a:lnTo>
                    <a:pt x="85" y="829"/>
                  </a:lnTo>
                  <a:lnTo>
                    <a:pt x="71" y="815"/>
                  </a:lnTo>
                  <a:lnTo>
                    <a:pt x="56" y="800"/>
                  </a:lnTo>
                  <a:lnTo>
                    <a:pt x="43" y="784"/>
                  </a:lnTo>
                  <a:lnTo>
                    <a:pt x="32" y="766"/>
                  </a:lnTo>
                  <a:lnTo>
                    <a:pt x="23" y="747"/>
                  </a:lnTo>
                  <a:lnTo>
                    <a:pt x="15" y="726"/>
                  </a:lnTo>
                  <a:lnTo>
                    <a:pt x="9" y="703"/>
                  </a:lnTo>
                  <a:lnTo>
                    <a:pt x="4" y="680"/>
                  </a:lnTo>
                  <a:lnTo>
                    <a:pt x="1" y="655"/>
                  </a:lnTo>
                  <a:lnTo>
                    <a:pt x="0" y="630"/>
                  </a:lnTo>
                  <a:lnTo>
                    <a:pt x="95" y="615"/>
                  </a:lnTo>
                  <a:lnTo>
                    <a:pt x="94" y="631"/>
                  </a:lnTo>
                  <a:lnTo>
                    <a:pt x="94" y="646"/>
                  </a:lnTo>
                  <a:lnTo>
                    <a:pt x="95" y="661"/>
                  </a:lnTo>
                  <a:lnTo>
                    <a:pt x="99" y="674"/>
                  </a:lnTo>
                  <a:lnTo>
                    <a:pt x="104" y="688"/>
                  </a:lnTo>
                  <a:lnTo>
                    <a:pt x="110" y="701"/>
                  </a:lnTo>
                  <a:lnTo>
                    <a:pt x="118" y="713"/>
                  </a:lnTo>
                  <a:lnTo>
                    <a:pt x="127" y="724"/>
                  </a:lnTo>
                  <a:lnTo>
                    <a:pt x="137" y="734"/>
                  </a:lnTo>
                  <a:lnTo>
                    <a:pt x="148" y="743"/>
                  </a:lnTo>
                  <a:lnTo>
                    <a:pt x="160" y="750"/>
                  </a:lnTo>
                  <a:lnTo>
                    <a:pt x="172" y="757"/>
                  </a:lnTo>
                  <a:lnTo>
                    <a:pt x="187" y="763"/>
                  </a:lnTo>
                  <a:lnTo>
                    <a:pt x="200" y="766"/>
                  </a:lnTo>
                  <a:lnTo>
                    <a:pt x="214" y="768"/>
                  </a:lnTo>
                  <a:lnTo>
                    <a:pt x="230" y="770"/>
                  </a:lnTo>
                  <a:lnTo>
                    <a:pt x="245" y="768"/>
                  </a:lnTo>
                  <a:lnTo>
                    <a:pt x="260" y="765"/>
                  </a:lnTo>
                  <a:lnTo>
                    <a:pt x="275" y="760"/>
                  </a:lnTo>
                  <a:lnTo>
                    <a:pt x="289" y="755"/>
                  </a:lnTo>
                  <a:lnTo>
                    <a:pt x="304" y="748"/>
                  </a:lnTo>
                  <a:lnTo>
                    <a:pt x="317" y="739"/>
                  </a:lnTo>
                  <a:lnTo>
                    <a:pt x="330" y="728"/>
                  </a:lnTo>
                  <a:lnTo>
                    <a:pt x="342" y="717"/>
                  </a:lnTo>
                  <a:lnTo>
                    <a:pt x="355" y="704"/>
                  </a:lnTo>
                  <a:lnTo>
                    <a:pt x="366" y="692"/>
                  </a:lnTo>
                  <a:lnTo>
                    <a:pt x="374" y="678"/>
                  </a:lnTo>
                  <a:lnTo>
                    <a:pt x="383" y="663"/>
                  </a:lnTo>
                  <a:lnTo>
                    <a:pt x="391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1"/>
                  </a:lnTo>
                  <a:lnTo>
                    <a:pt x="404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1" y="523"/>
                  </a:lnTo>
                  <a:lnTo>
                    <a:pt x="383" y="513"/>
                  </a:lnTo>
                  <a:lnTo>
                    <a:pt x="374" y="504"/>
                  </a:lnTo>
                  <a:lnTo>
                    <a:pt x="366" y="495"/>
                  </a:lnTo>
                  <a:lnTo>
                    <a:pt x="356" y="487"/>
                  </a:lnTo>
                  <a:lnTo>
                    <a:pt x="345" y="479"/>
                  </a:lnTo>
                  <a:lnTo>
                    <a:pt x="334" y="472"/>
                  </a:lnTo>
                  <a:lnTo>
                    <a:pt x="309" y="459"/>
                  </a:lnTo>
                  <a:lnTo>
                    <a:pt x="284" y="448"/>
                  </a:lnTo>
                  <a:lnTo>
                    <a:pt x="243" y="419"/>
                  </a:lnTo>
                  <a:lnTo>
                    <a:pt x="226" y="412"/>
                  </a:lnTo>
                  <a:lnTo>
                    <a:pt x="209" y="404"/>
                  </a:lnTo>
                  <a:lnTo>
                    <a:pt x="193" y="395"/>
                  </a:lnTo>
                  <a:lnTo>
                    <a:pt x="179" y="387"/>
                  </a:lnTo>
                  <a:lnTo>
                    <a:pt x="165" y="378"/>
                  </a:lnTo>
                  <a:lnTo>
                    <a:pt x="151" y="367"/>
                  </a:lnTo>
                  <a:lnTo>
                    <a:pt x="139" y="357"/>
                  </a:lnTo>
                  <a:lnTo>
                    <a:pt x="129" y="346"/>
                  </a:lnTo>
                  <a:lnTo>
                    <a:pt x="119" y="334"/>
                  </a:lnTo>
                  <a:lnTo>
                    <a:pt x="112" y="320"/>
                  </a:lnTo>
                  <a:lnTo>
                    <a:pt x="104" y="306"/>
                  </a:lnTo>
                  <a:lnTo>
                    <a:pt x="99" y="289"/>
                  </a:lnTo>
                  <a:lnTo>
                    <a:pt x="95" y="272"/>
                  </a:lnTo>
                  <a:lnTo>
                    <a:pt x="94" y="253"/>
                  </a:lnTo>
                  <a:lnTo>
                    <a:pt x="94" y="232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2" y="186"/>
                  </a:lnTo>
                  <a:lnTo>
                    <a:pt x="105" y="175"/>
                  </a:lnTo>
                  <a:lnTo>
                    <a:pt x="109" y="165"/>
                  </a:lnTo>
                  <a:lnTo>
                    <a:pt x="119" y="144"/>
                  </a:lnTo>
                  <a:lnTo>
                    <a:pt x="131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4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4" y="24"/>
                  </a:lnTo>
                  <a:lnTo>
                    <a:pt x="275" y="15"/>
                  </a:lnTo>
                  <a:lnTo>
                    <a:pt x="297" y="9"/>
                  </a:lnTo>
                  <a:lnTo>
                    <a:pt x="319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2" y="1"/>
                  </a:lnTo>
                  <a:lnTo>
                    <a:pt x="399" y="2"/>
                  </a:lnTo>
                  <a:lnTo>
                    <a:pt x="414" y="4"/>
                  </a:lnTo>
                  <a:lnTo>
                    <a:pt x="429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7" y="24"/>
                  </a:lnTo>
                  <a:lnTo>
                    <a:pt x="479" y="32"/>
                  </a:lnTo>
                  <a:lnTo>
                    <a:pt x="490" y="40"/>
                  </a:lnTo>
                  <a:lnTo>
                    <a:pt x="502" y="49"/>
                  </a:lnTo>
                  <a:lnTo>
                    <a:pt x="510" y="59"/>
                  </a:lnTo>
                  <a:lnTo>
                    <a:pt x="520" y="71"/>
                  </a:lnTo>
                  <a:lnTo>
                    <a:pt x="529" y="83"/>
                  </a:lnTo>
                  <a:lnTo>
                    <a:pt x="538" y="96"/>
                  </a:lnTo>
                  <a:lnTo>
                    <a:pt x="546" y="111"/>
                  </a:lnTo>
                  <a:lnTo>
                    <a:pt x="553" y="126"/>
                  </a:lnTo>
                  <a:lnTo>
                    <a:pt x="460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20080" y="749160"/>
              <a:ext cx="51840" cy="74520"/>
            </a:xfrm>
            <a:custGeom>
              <a:avLst/>
              <a:gdLst/>
              <a:ahLst/>
              <a:rect l="l" t="t" r="r" b="b"/>
              <a:pathLst>
                <a:path w="499" h="826">
                  <a:moveTo>
                    <a:pt x="175" y="826"/>
                  </a:moveTo>
                  <a:lnTo>
                    <a:pt x="80" y="826"/>
                  </a:lnTo>
                  <a:lnTo>
                    <a:pt x="188" y="99"/>
                  </a:lnTo>
                  <a:lnTo>
                    <a:pt x="0" y="99"/>
                  </a:lnTo>
                  <a:lnTo>
                    <a:pt x="13" y="0"/>
                  </a:lnTo>
                  <a:lnTo>
                    <a:pt x="499" y="0"/>
                  </a:lnTo>
                  <a:lnTo>
                    <a:pt x="486" y="99"/>
                  </a:lnTo>
                  <a:lnTo>
                    <a:pt x="297" y="99"/>
                  </a:lnTo>
                  <a:lnTo>
                    <a:pt x="175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66520" y="749160"/>
              <a:ext cx="23760" cy="74520"/>
            </a:xfrm>
            <a:custGeom>
              <a:avLst/>
              <a:gdLst/>
              <a:ahLst/>
              <a:rect l="l" t="t" r="r" b="b"/>
              <a:pathLst>
                <a:path w="230" h="826">
                  <a:moveTo>
                    <a:pt x="94" y="826"/>
                  </a:moveTo>
                  <a:lnTo>
                    <a:pt x="0" y="826"/>
                  </a:lnTo>
                  <a:lnTo>
                    <a:pt x="121" y="0"/>
                  </a:lnTo>
                  <a:lnTo>
                    <a:pt x="230" y="0"/>
                  </a:lnTo>
                  <a:lnTo>
                    <a:pt x="94" y="826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94240" y="747360"/>
              <a:ext cx="72720" cy="79560"/>
            </a:xfrm>
            <a:custGeom>
              <a:avLst/>
              <a:gdLst/>
              <a:ahLst/>
              <a:rect l="l" t="t" r="r" b="b"/>
              <a:pathLst>
                <a:path w="680" h="867">
                  <a:moveTo>
                    <a:pt x="667" y="182"/>
                  </a:moveTo>
                  <a:lnTo>
                    <a:pt x="656" y="171"/>
                  </a:lnTo>
                  <a:lnTo>
                    <a:pt x="646" y="162"/>
                  </a:lnTo>
                  <a:lnTo>
                    <a:pt x="635" y="153"/>
                  </a:lnTo>
                  <a:lnTo>
                    <a:pt x="624" y="145"/>
                  </a:lnTo>
                  <a:lnTo>
                    <a:pt x="612" y="137"/>
                  </a:lnTo>
                  <a:lnTo>
                    <a:pt x="601" y="130"/>
                  </a:lnTo>
                  <a:lnTo>
                    <a:pt x="587" y="125"/>
                  </a:lnTo>
                  <a:lnTo>
                    <a:pt x="575" y="119"/>
                  </a:lnTo>
                  <a:lnTo>
                    <a:pt x="563" y="114"/>
                  </a:lnTo>
                  <a:lnTo>
                    <a:pt x="550" y="110"/>
                  </a:lnTo>
                  <a:lnTo>
                    <a:pt x="537" y="106"/>
                  </a:lnTo>
                  <a:lnTo>
                    <a:pt x="522" y="103"/>
                  </a:lnTo>
                  <a:lnTo>
                    <a:pt x="508" y="100"/>
                  </a:lnTo>
                  <a:lnTo>
                    <a:pt x="494" y="99"/>
                  </a:lnTo>
                  <a:lnTo>
                    <a:pt x="479" y="98"/>
                  </a:lnTo>
                  <a:lnTo>
                    <a:pt x="464" y="98"/>
                  </a:lnTo>
                  <a:lnTo>
                    <a:pt x="448" y="98"/>
                  </a:lnTo>
                  <a:lnTo>
                    <a:pt x="432" y="99"/>
                  </a:lnTo>
                  <a:lnTo>
                    <a:pt x="415" y="102"/>
                  </a:lnTo>
                  <a:lnTo>
                    <a:pt x="400" y="105"/>
                  </a:lnTo>
                  <a:lnTo>
                    <a:pt x="383" y="108"/>
                  </a:lnTo>
                  <a:lnTo>
                    <a:pt x="368" y="113"/>
                  </a:lnTo>
                  <a:lnTo>
                    <a:pt x="352" y="119"/>
                  </a:lnTo>
                  <a:lnTo>
                    <a:pt x="337" y="125"/>
                  </a:lnTo>
                  <a:lnTo>
                    <a:pt x="322" y="131"/>
                  </a:lnTo>
                  <a:lnTo>
                    <a:pt x="308" y="139"/>
                  </a:lnTo>
                  <a:lnTo>
                    <a:pt x="294" y="147"/>
                  </a:lnTo>
                  <a:lnTo>
                    <a:pt x="279" y="155"/>
                  </a:lnTo>
                  <a:lnTo>
                    <a:pt x="265" y="166"/>
                  </a:lnTo>
                  <a:lnTo>
                    <a:pt x="252" y="176"/>
                  </a:lnTo>
                  <a:lnTo>
                    <a:pt x="239" y="186"/>
                  </a:lnTo>
                  <a:lnTo>
                    <a:pt x="226" y="198"/>
                  </a:lnTo>
                  <a:lnTo>
                    <a:pt x="214" y="209"/>
                  </a:lnTo>
                  <a:lnTo>
                    <a:pt x="203" y="222"/>
                  </a:lnTo>
                  <a:lnTo>
                    <a:pt x="192" y="234"/>
                  </a:lnTo>
                  <a:lnTo>
                    <a:pt x="181" y="247"/>
                  </a:lnTo>
                  <a:lnTo>
                    <a:pt x="171" y="261"/>
                  </a:lnTo>
                  <a:lnTo>
                    <a:pt x="161" y="275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0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3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6" y="500"/>
                  </a:lnTo>
                  <a:lnTo>
                    <a:pt x="97" y="516"/>
                  </a:lnTo>
                  <a:lnTo>
                    <a:pt x="99" y="532"/>
                  </a:lnTo>
                  <a:lnTo>
                    <a:pt x="101" y="547"/>
                  </a:lnTo>
                  <a:lnTo>
                    <a:pt x="105" y="562"/>
                  </a:lnTo>
                  <a:lnTo>
                    <a:pt x="108" y="577"/>
                  </a:lnTo>
                  <a:lnTo>
                    <a:pt x="112" y="592"/>
                  </a:lnTo>
                  <a:lnTo>
                    <a:pt x="118" y="606"/>
                  </a:lnTo>
                  <a:lnTo>
                    <a:pt x="123" y="619"/>
                  </a:lnTo>
                  <a:lnTo>
                    <a:pt x="130" y="633"/>
                  </a:lnTo>
                  <a:lnTo>
                    <a:pt x="138" y="646"/>
                  </a:lnTo>
                  <a:lnTo>
                    <a:pt x="146" y="657"/>
                  </a:lnTo>
                  <a:lnTo>
                    <a:pt x="154" y="670"/>
                  </a:lnTo>
                  <a:lnTo>
                    <a:pt x="163" y="681"/>
                  </a:lnTo>
                  <a:lnTo>
                    <a:pt x="173" y="692"/>
                  </a:lnTo>
                  <a:lnTo>
                    <a:pt x="183" y="702"/>
                  </a:lnTo>
                  <a:lnTo>
                    <a:pt x="194" y="711"/>
                  </a:lnTo>
                  <a:lnTo>
                    <a:pt x="206" y="720"/>
                  </a:lnTo>
                  <a:lnTo>
                    <a:pt x="219" y="728"/>
                  </a:lnTo>
                  <a:lnTo>
                    <a:pt x="231" y="735"/>
                  </a:lnTo>
                  <a:lnTo>
                    <a:pt x="244" y="742"/>
                  </a:lnTo>
                  <a:lnTo>
                    <a:pt x="258" y="749"/>
                  </a:lnTo>
                  <a:lnTo>
                    <a:pt x="273" y="753"/>
                  </a:lnTo>
                  <a:lnTo>
                    <a:pt x="287" y="758"/>
                  </a:lnTo>
                  <a:lnTo>
                    <a:pt x="302" y="763"/>
                  </a:lnTo>
                  <a:lnTo>
                    <a:pt x="319" y="765"/>
                  </a:lnTo>
                  <a:lnTo>
                    <a:pt x="336" y="767"/>
                  </a:lnTo>
                  <a:lnTo>
                    <a:pt x="352" y="768"/>
                  </a:lnTo>
                  <a:lnTo>
                    <a:pt x="370" y="770"/>
                  </a:lnTo>
                  <a:lnTo>
                    <a:pt x="383" y="768"/>
                  </a:lnTo>
                  <a:lnTo>
                    <a:pt x="395" y="768"/>
                  </a:lnTo>
                  <a:lnTo>
                    <a:pt x="409" y="766"/>
                  </a:lnTo>
                  <a:lnTo>
                    <a:pt x="423" y="764"/>
                  </a:lnTo>
                  <a:lnTo>
                    <a:pt x="436" y="761"/>
                  </a:lnTo>
                  <a:lnTo>
                    <a:pt x="450" y="757"/>
                  </a:lnTo>
                  <a:lnTo>
                    <a:pt x="464" y="753"/>
                  </a:lnTo>
                  <a:lnTo>
                    <a:pt x="478" y="748"/>
                  </a:lnTo>
                  <a:lnTo>
                    <a:pt x="491" y="743"/>
                  </a:lnTo>
                  <a:lnTo>
                    <a:pt x="506" y="736"/>
                  </a:lnTo>
                  <a:lnTo>
                    <a:pt x="519" y="729"/>
                  </a:lnTo>
                  <a:lnTo>
                    <a:pt x="533" y="723"/>
                  </a:lnTo>
                  <a:lnTo>
                    <a:pt x="547" y="713"/>
                  </a:lnTo>
                  <a:lnTo>
                    <a:pt x="560" y="705"/>
                  </a:lnTo>
                  <a:lnTo>
                    <a:pt x="573" y="695"/>
                  </a:lnTo>
                  <a:lnTo>
                    <a:pt x="585" y="685"/>
                  </a:lnTo>
                  <a:lnTo>
                    <a:pt x="572" y="811"/>
                  </a:lnTo>
                  <a:lnTo>
                    <a:pt x="547" y="821"/>
                  </a:lnTo>
                  <a:lnTo>
                    <a:pt x="519" y="831"/>
                  </a:lnTo>
                  <a:lnTo>
                    <a:pt x="492" y="842"/>
                  </a:lnTo>
                  <a:lnTo>
                    <a:pt x="464" y="850"/>
                  </a:lnTo>
                  <a:lnTo>
                    <a:pt x="436" y="857"/>
                  </a:lnTo>
                  <a:lnTo>
                    <a:pt x="409" y="862"/>
                  </a:lnTo>
                  <a:lnTo>
                    <a:pt x="382" y="866"/>
                  </a:lnTo>
                  <a:lnTo>
                    <a:pt x="357" y="867"/>
                  </a:lnTo>
                  <a:lnTo>
                    <a:pt x="334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8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1"/>
                  </a:lnTo>
                  <a:lnTo>
                    <a:pt x="199" y="833"/>
                  </a:lnTo>
                  <a:lnTo>
                    <a:pt x="182" y="825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3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6"/>
                  </a:lnTo>
                  <a:lnTo>
                    <a:pt x="30" y="657"/>
                  </a:lnTo>
                  <a:lnTo>
                    <a:pt x="23" y="639"/>
                  </a:lnTo>
                  <a:lnTo>
                    <a:pt x="16" y="621"/>
                  </a:lnTo>
                  <a:lnTo>
                    <a:pt x="11" y="601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2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7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6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3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6" y="159"/>
                  </a:lnTo>
                  <a:lnTo>
                    <a:pt x="161" y="143"/>
                  </a:lnTo>
                  <a:lnTo>
                    <a:pt x="178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30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5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1" y="3"/>
                  </a:lnTo>
                  <a:lnTo>
                    <a:pt x="566" y="7"/>
                  </a:lnTo>
                  <a:lnTo>
                    <a:pt x="591" y="12"/>
                  </a:lnTo>
                  <a:lnTo>
                    <a:pt x="614" y="19"/>
                  </a:lnTo>
                  <a:lnTo>
                    <a:pt x="637" y="29"/>
                  </a:lnTo>
                  <a:lnTo>
                    <a:pt x="648" y="35"/>
                  </a:lnTo>
                  <a:lnTo>
                    <a:pt x="659" y="41"/>
                  </a:lnTo>
                  <a:lnTo>
                    <a:pt x="670" y="48"/>
                  </a:lnTo>
                  <a:lnTo>
                    <a:pt x="680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57960" y="745920"/>
              <a:ext cx="81720" cy="77760"/>
            </a:xfrm>
            <a:custGeom>
              <a:avLst/>
              <a:gdLst/>
              <a:ahLst/>
              <a:rect l="l" t="t" r="r" b="b"/>
              <a:pathLst>
                <a:path w="754" h="853">
                  <a:moveTo>
                    <a:pt x="430" y="140"/>
                  </a:moveTo>
                  <a:lnTo>
                    <a:pt x="512" y="0"/>
                  </a:lnTo>
                  <a:lnTo>
                    <a:pt x="754" y="853"/>
                  </a:lnTo>
                  <a:lnTo>
                    <a:pt x="647" y="853"/>
                  </a:lnTo>
                  <a:lnTo>
                    <a:pt x="593" y="657"/>
                  </a:lnTo>
                  <a:lnTo>
                    <a:pt x="430" y="657"/>
                  </a:lnTo>
                  <a:lnTo>
                    <a:pt x="430" y="559"/>
                  </a:lnTo>
                  <a:lnTo>
                    <a:pt x="565" y="559"/>
                  </a:lnTo>
                  <a:lnTo>
                    <a:pt x="471" y="223"/>
                  </a:lnTo>
                  <a:lnTo>
                    <a:pt x="430" y="308"/>
                  </a:lnTo>
                  <a:lnTo>
                    <a:pt x="430" y="140"/>
                  </a:lnTo>
                  <a:close/>
                  <a:moveTo>
                    <a:pt x="228" y="657"/>
                  </a:moveTo>
                  <a:lnTo>
                    <a:pt x="107" y="853"/>
                  </a:lnTo>
                  <a:lnTo>
                    <a:pt x="0" y="853"/>
                  </a:lnTo>
                  <a:lnTo>
                    <a:pt x="430" y="140"/>
                  </a:lnTo>
                  <a:lnTo>
                    <a:pt x="430" y="308"/>
                  </a:lnTo>
                  <a:lnTo>
                    <a:pt x="282" y="559"/>
                  </a:lnTo>
                  <a:lnTo>
                    <a:pt x="430" y="559"/>
                  </a:lnTo>
                  <a:lnTo>
                    <a:pt x="430" y="657"/>
                  </a:lnTo>
                  <a:lnTo>
                    <a:pt x="228" y="657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84680" y="749160"/>
              <a:ext cx="64800" cy="74520"/>
            </a:xfrm>
            <a:custGeom>
              <a:avLst/>
              <a:gdLst/>
              <a:ahLst/>
              <a:rect l="l" t="t" r="r" b="b"/>
              <a:pathLst>
                <a:path w="621" h="826">
                  <a:moveTo>
                    <a:pt x="0" y="0"/>
                  </a:moveTo>
                  <a:lnTo>
                    <a:pt x="121" y="0"/>
                  </a:lnTo>
                  <a:lnTo>
                    <a:pt x="256" y="365"/>
                  </a:lnTo>
                  <a:lnTo>
                    <a:pt x="512" y="0"/>
                  </a:lnTo>
                  <a:lnTo>
                    <a:pt x="621" y="0"/>
                  </a:lnTo>
                  <a:lnTo>
                    <a:pt x="283" y="477"/>
                  </a:lnTo>
                  <a:lnTo>
                    <a:pt x="230" y="826"/>
                  </a:lnTo>
                  <a:lnTo>
                    <a:pt x="135" y="826"/>
                  </a:lnTo>
                  <a:lnTo>
                    <a:pt x="189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96600" y="857160"/>
              <a:ext cx="74520" cy="77760"/>
            </a:xfrm>
            <a:custGeom>
              <a:avLst/>
              <a:gdLst/>
              <a:ahLst/>
              <a:rect l="l" t="t" r="r" b="b"/>
              <a:pathLst>
                <a:path w="693" h="867">
                  <a:moveTo>
                    <a:pt x="667" y="182"/>
                  </a:moveTo>
                  <a:lnTo>
                    <a:pt x="658" y="171"/>
                  </a:lnTo>
                  <a:lnTo>
                    <a:pt x="649" y="162"/>
                  </a:lnTo>
                  <a:lnTo>
                    <a:pt x="639" y="153"/>
                  </a:lnTo>
                  <a:lnTo>
                    <a:pt x="629" y="145"/>
                  </a:lnTo>
                  <a:lnTo>
                    <a:pt x="618" y="137"/>
                  </a:lnTo>
                  <a:lnTo>
                    <a:pt x="607" y="130"/>
                  </a:lnTo>
                  <a:lnTo>
                    <a:pt x="595" y="124"/>
                  </a:lnTo>
                  <a:lnTo>
                    <a:pt x="582" y="119"/>
                  </a:lnTo>
                  <a:lnTo>
                    <a:pt x="570" y="114"/>
                  </a:lnTo>
                  <a:lnTo>
                    <a:pt x="556" y="110"/>
                  </a:lnTo>
                  <a:lnTo>
                    <a:pt x="543" y="106"/>
                  </a:lnTo>
                  <a:lnTo>
                    <a:pt x="530" y="103"/>
                  </a:lnTo>
                  <a:lnTo>
                    <a:pt x="517" y="100"/>
                  </a:lnTo>
                  <a:lnTo>
                    <a:pt x="503" y="99"/>
                  </a:lnTo>
                  <a:lnTo>
                    <a:pt x="490" y="98"/>
                  </a:lnTo>
                  <a:lnTo>
                    <a:pt x="478" y="98"/>
                  </a:lnTo>
                  <a:lnTo>
                    <a:pt x="460" y="98"/>
                  </a:lnTo>
                  <a:lnTo>
                    <a:pt x="443" y="99"/>
                  </a:lnTo>
                  <a:lnTo>
                    <a:pt x="425" y="102"/>
                  </a:lnTo>
                  <a:lnTo>
                    <a:pt x="408" y="105"/>
                  </a:lnTo>
                  <a:lnTo>
                    <a:pt x="392" y="108"/>
                  </a:lnTo>
                  <a:lnTo>
                    <a:pt x="375" y="113"/>
                  </a:lnTo>
                  <a:lnTo>
                    <a:pt x="359" y="119"/>
                  </a:lnTo>
                  <a:lnTo>
                    <a:pt x="343" y="124"/>
                  </a:lnTo>
                  <a:lnTo>
                    <a:pt x="327" y="131"/>
                  </a:lnTo>
                  <a:lnTo>
                    <a:pt x="311" y="139"/>
                  </a:lnTo>
                  <a:lnTo>
                    <a:pt x="297" y="147"/>
                  </a:lnTo>
                  <a:lnTo>
                    <a:pt x="282" y="157"/>
                  </a:lnTo>
                  <a:lnTo>
                    <a:pt x="268" y="166"/>
                  </a:lnTo>
                  <a:lnTo>
                    <a:pt x="254" y="176"/>
                  </a:lnTo>
                  <a:lnTo>
                    <a:pt x="240" y="186"/>
                  </a:lnTo>
                  <a:lnTo>
                    <a:pt x="228" y="198"/>
                  </a:lnTo>
                  <a:lnTo>
                    <a:pt x="215" y="209"/>
                  </a:lnTo>
                  <a:lnTo>
                    <a:pt x="204" y="222"/>
                  </a:lnTo>
                  <a:lnTo>
                    <a:pt x="192" y="234"/>
                  </a:lnTo>
                  <a:lnTo>
                    <a:pt x="182" y="247"/>
                  </a:lnTo>
                  <a:lnTo>
                    <a:pt x="171" y="261"/>
                  </a:lnTo>
                  <a:lnTo>
                    <a:pt x="161" y="276"/>
                  </a:lnTo>
                  <a:lnTo>
                    <a:pt x="152" y="289"/>
                  </a:lnTo>
                  <a:lnTo>
                    <a:pt x="143" y="304"/>
                  </a:lnTo>
                  <a:lnTo>
                    <a:pt x="136" y="319"/>
                  </a:lnTo>
                  <a:lnTo>
                    <a:pt x="129" y="335"/>
                  </a:lnTo>
                  <a:lnTo>
                    <a:pt x="122" y="351"/>
                  </a:lnTo>
                  <a:lnTo>
                    <a:pt x="116" y="367"/>
                  </a:lnTo>
                  <a:lnTo>
                    <a:pt x="111" y="383"/>
                  </a:lnTo>
                  <a:lnTo>
                    <a:pt x="107" y="399"/>
                  </a:lnTo>
                  <a:lnTo>
                    <a:pt x="102" y="417"/>
                  </a:lnTo>
                  <a:lnTo>
                    <a:pt x="100" y="434"/>
                  </a:lnTo>
                  <a:lnTo>
                    <a:pt x="98" y="451"/>
                  </a:lnTo>
                  <a:lnTo>
                    <a:pt x="97" y="467"/>
                  </a:lnTo>
                  <a:lnTo>
                    <a:pt x="96" y="484"/>
                  </a:lnTo>
                  <a:lnTo>
                    <a:pt x="97" y="500"/>
                  </a:lnTo>
                  <a:lnTo>
                    <a:pt x="98" y="516"/>
                  </a:lnTo>
                  <a:lnTo>
                    <a:pt x="100" y="532"/>
                  </a:lnTo>
                  <a:lnTo>
                    <a:pt x="102" y="547"/>
                  </a:lnTo>
                  <a:lnTo>
                    <a:pt x="106" y="563"/>
                  </a:lnTo>
                  <a:lnTo>
                    <a:pt x="110" y="578"/>
                  </a:lnTo>
                  <a:lnTo>
                    <a:pt x="116" y="592"/>
                  </a:lnTo>
                  <a:lnTo>
                    <a:pt x="121" y="606"/>
                  </a:lnTo>
                  <a:lnTo>
                    <a:pt x="127" y="619"/>
                  </a:lnTo>
                  <a:lnTo>
                    <a:pt x="134" y="633"/>
                  </a:lnTo>
                  <a:lnTo>
                    <a:pt x="142" y="646"/>
                  </a:lnTo>
                  <a:lnTo>
                    <a:pt x="150" y="658"/>
                  </a:lnTo>
                  <a:lnTo>
                    <a:pt x="159" y="670"/>
                  </a:lnTo>
                  <a:lnTo>
                    <a:pt x="169" y="681"/>
                  </a:lnTo>
                  <a:lnTo>
                    <a:pt x="179" y="692"/>
                  </a:lnTo>
                  <a:lnTo>
                    <a:pt x="189" y="702"/>
                  </a:lnTo>
                  <a:lnTo>
                    <a:pt x="200" y="711"/>
                  </a:lnTo>
                  <a:lnTo>
                    <a:pt x="212" y="720"/>
                  </a:lnTo>
                  <a:lnTo>
                    <a:pt x="224" y="728"/>
                  </a:lnTo>
                  <a:lnTo>
                    <a:pt x="236" y="735"/>
                  </a:lnTo>
                  <a:lnTo>
                    <a:pt x="249" y="742"/>
                  </a:lnTo>
                  <a:lnTo>
                    <a:pt x="264" y="749"/>
                  </a:lnTo>
                  <a:lnTo>
                    <a:pt x="277" y="753"/>
                  </a:lnTo>
                  <a:lnTo>
                    <a:pt x="291" y="758"/>
                  </a:lnTo>
                  <a:lnTo>
                    <a:pt x="307" y="763"/>
                  </a:lnTo>
                  <a:lnTo>
                    <a:pt x="322" y="765"/>
                  </a:lnTo>
                  <a:lnTo>
                    <a:pt x="338" y="767"/>
                  </a:lnTo>
                  <a:lnTo>
                    <a:pt x="353" y="769"/>
                  </a:lnTo>
                  <a:lnTo>
                    <a:pt x="370" y="769"/>
                  </a:lnTo>
                  <a:lnTo>
                    <a:pt x="385" y="769"/>
                  </a:lnTo>
                  <a:lnTo>
                    <a:pt x="400" y="768"/>
                  </a:lnTo>
                  <a:lnTo>
                    <a:pt x="414" y="766"/>
                  </a:lnTo>
                  <a:lnTo>
                    <a:pt x="428" y="764"/>
                  </a:lnTo>
                  <a:lnTo>
                    <a:pt x="442" y="761"/>
                  </a:lnTo>
                  <a:lnTo>
                    <a:pt x="456" y="758"/>
                  </a:lnTo>
                  <a:lnTo>
                    <a:pt x="469" y="753"/>
                  </a:lnTo>
                  <a:lnTo>
                    <a:pt x="482" y="749"/>
                  </a:lnTo>
                  <a:lnTo>
                    <a:pt x="496" y="743"/>
                  </a:lnTo>
                  <a:lnTo>
                    <a:pt x="509" y="736"/>
                  </a:lnTo>
                  <a:lnTo>
                    <a:pt x="522" y="729"/>
                  </a:lnTo>
                  <a:lnTo>
                    <a:pt x="534" y="722"/>
                  </a:lnTo>
                  <a:lnTo>
                    <a:pt x="560" y="705"/>
                  </a:lnTo>
                  <a:lnTo>
                    <a:pt x="585" y="686"/>
                  </a:lnTo>
                  <a:lnTo>
                    <a:pt x="572" y="797"/>
                  </a:lnTo>
                  <a:lnTo>
                    <a:pt x="546" y="812"/>
                  </a:lnTo>
                  <a:lnTo>
                    <a:pt x="519" y="826"/>
                  </a:lnTo>
                  <a:lnTo>
                    <a:pt x="492" y="838"/>
                  </a:lnTo>
                  <a:lnTo>
                    <a:pt x="464" y="848"/>
                  </a:lnTo>
                  <a:lnTo>
                    <a:pt x="436" y="857"/>
                  </a:lnTo>
                  <a:lnTo>
                    <a:pt x="408" y="862"/>
                  </a:lnTo>
                  <a:lnTo>
                    <a:pt x="395" y="865"/>
                  </a:lnTo>
                  <a:lnTo>
                    <a:pt x="382" y="866"/>
                  </a:lnTo>
                  <a:lnTo>
                    <a:pt x="369" y="867"/>
                  </a:lnTo>
                  <a:lnTo>
                    <a:pt x="356" y="867"/>
                  </a:lnTo>
                  <a:lnTo>
                    <a:pt x="334" y="867"/>
                  </a:lnTo>
                  <a:lnTo>
                    <a:pt x="314" y="865"/>
                  </a:lnTo>
                  <a:lnTo>
                    <a:pt x="293" y="862"/>
                  </a:lnTo>
                  <a:lnTo>
                    <a:pt x="274" y="859"/>
                  </a:lnTo>
                  <a:lnTo>
                    <a:pt x="254" y="853"/>
                  </a:lnTo>
                  <a:lnTo>
                    <a:pt x="235" y="847"/>
                  </a:lnTo>
                  <a:lnTo>
                    <a:pt x="217" y="840"/>
                  </a:lnTo>
                  <a:lnTo>
                    <a:pt x="198" y="832"/>
                  </a:lnTo>
                  <a:lnTo>
                    <a:pt x="182" y="824"/>
                  </a:lnTo>
                  <a:lnTo>
                    <a:pt x="165" y="814"/>
                  </a:lnTo>
                  <a:lnTo>
                    <a:pt x="149" y="804"/>
                  </a:lnTo>
                  <a:lnTo>
                    <a:pt x="133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2" y="755"/>
                  </a:lnTo>
                  <a:lnTo>
                    <a:pt x="79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8" y="675"/>
                  </a:lnTo>
                  <a:lnTo>
                    <a:pt x="29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6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0" y="477"/>
                  </a:lnTo>
                  <a:lnTo>
                    <a:pt x="2" y="456"/>
                  </a:lnTo>
                  <a:lnTo>
                    <a:pt x="5" y="434"/>
                  </a:lnTo>
                  <a:lnTo>
                    <a:pt x="10" y="411"/>
                  </a:lnTo>
                  <a:lnTo>
                    <a:pt x="15" y="389"/>
                  </a:lnTo>
                  <a:lnTo>
                    <a:pt x="22" y="368"/>
                  </a:lnTo>
                  <a:lnTo>
                    <a:pt x="28" y="347"/>
                  </a:lnTo>
                  <a:lnTo>
                    <a:pt x="36" y="326"/>
                  </a:lnTo>
                  <a:lnTo>
                    <a:pt x="46" y="305"/>
                  </a:lnTo>
                  <a:lnTo>
                    <a:pt x="56" y="285"/>
                  </a:lnTo>
                  <a:lnTo>
                    <a:pt x="66" y="265"/>
                  </a:lnTo>
                  <a:lnTo>
                    <a:pt x="78" y="246"/>
                  </a:lnTo>
                  <a:lnTo>
                    <a:pt x="90" y="228"/>
                  </a:lnTo>
                  <a:lnTo>
                    <a:pt x="102" y="209"/>
                  </a:lnTo>
                  <a:lnTo>
                    <a:pt x="117" y="192"/>
                  </a:lnTo>
                  <a:lnTo>
                    <a:pt x="131" y="175"/>
                  </a:lnTo>
                  <a:lnTo>
                    <a:pt x="145" y="159"/>
                  </a:lnTo>
                  <a:lnTo>
                    <a:pt x="161" y="143"/>
                  </a:lnTo>
                  <a:lnTo>
                    <a:pt x="177" y="128"/>
                  </a:lnTo>
                  <a:lnTo>
                    <a:pt x="194" y="113"/>
                  </a:lnTo>
                  <a:lnTo>
                    <a:pt x="212" y="99"/>
                  </a:lnTo>
                  <a:lnTo>
                    <a:pt x="229" y="87"/>
                  </a:lnTo>
                  <a:lnTo>
                    <a:pt x="247" y="74"/>
                  </a:lnTo>
                  <a:lnTo>
                    <a:pt x="266" y="63"/>
                  </a:lnTo>
                  <a:lnTo>
                    <a:pt x="285" y="52"/>
                  </a:lnTo>
                  <a:lnTo>
                    <a:pt x="305" y="43"/>
                  </a:lnTo>
                  <a:lnTo>
                    <a:pt x="324" y="34"/>
                  </a:lnTo>
                  <a:lnTo>
                    <a:pt x="344" y="26"/>
                  </a:lnTo>
                  <a:lnTo>
                    <a:pt x="364" y="19"/>
                  </a:lnTo>
                  <a:lnTo>
                    <a:pt x="385" y="13"/>
                  </a:lnTo>
                  <a:lnTo>
                    <a:pt x="406" y="9"/>
                  </a:lnTo>
                  <a:lnTo>
                    <a:pt x="427" y="5"/>
                  </a:lnTo>
                  <a:lnTo>
                    <a:pt x="448" y="2"/>
                  </a:lnTo>
                  <a:lnTo>
                    <a:pt x="469" y="1"/>
                  </a:lnTo>
                  <a:lnTo>
                    <a:pt x="491" y="0"/>
                  </a:lnTo>
                  <a:lnTo>
                    <a:pt x="517" y="1"/>
                  </a:lnTo>
                  <a:lnTo>
                    <a:pt x="543" y="3"/>
                  </a:lnTo>
                  <a:lnTo>
                    <a:pt x="571" y="6"/>
                  </a:lnTo>
                  <a:lnTo>
                    <a:pt x="597" y="12"/>
                  </a:lnTo>
                  <a:lnTo>
                    <a:pt x="611" y="16"/>
                  </a:lnTo>
                  <a:lnTo>
                    <a:pt x="624" y="20"/>
                  </a:lnTo>
                  <a:lnTo>
                    <a:pt x="636" y="25"/>
                  </a:lnTo>
                  <a:lnTo>
                    <a:pt x="648" y="29"/>
                  </a:lnTo>
                  <a:lnTo>
                    <a:pt x="660" y="35"/>
                  </a:lnTo>
                  <a:lnTo>
                    <a:pt x="672" y="41"/>
                  </a:lnTo>
                  <a:lnTo>
                    <a:pt x="683" y="49"/>
                  </a:lnTo>
                  <a:lnTo>
                    <a:pt x="693" y="56"/>
                  </a:lnTo>
                  <a:lnTo>
                    <a:pt x="667" y="182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969320" y="857160"/>
              <a:ext cx="59760" cy="74520"/>
            </a:xfrm>
            <a:custGeom>
              <a:avLst/>
              <a:gdLst/>
              <a:ahLst/>
              <a:rect l="l" t="t" r="r" b="b"/>
              <a:pathLst>
                <a:path w="554" h="826">
                  <a:moveTo>
                    <a:pt x="135" y="0"/>
                  </a:moveTo>
                  <a:lnTo>
                    <a:pt x="554" y="0"/>
                  </a:lnTo>
                  <a:lnTo>
                    <a:pt x="539" y="99"/>
                  </a:lnTo>
                  <a:lnTo>
                    <a:pt x="216" y="99"/>
                  </a:lnTo>
                  <a:lnTo>
                    <a:pt x="176" y="322"/>
                  </a:lnTo>
                  <a:lnTo>
                    <a:pt x="499" y="322"/>
                  </a:lnTo>
                  <a:lnTo>
                    <a:pt x="485" y="421"/>
                  </a:lnTo>
                  <a:lnTo>
                    <a:pt x="161" y="421"/>
                  </a:lnTo>
                  <a:lnTo>
                    <a:pt x="122" y="743"/>
                  </a:lnTo>
                  <a:lnTo>
                    <a:pt x="445" y="743"/>
                  </a:lnTo>
                  <a:lnTo>
                    <a:pt x="432" y="826"/>
                  </a:lnTo>
                  <a:lnTo>
                    <a:pt x="0" y="82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7280" y="853920"/>
              <a:ext cx="89640" cy="82440"/>
            </a:xfrm>
            <a:custGeom>
              <a:avLst/>
              <a:gdLst/>
              <a:ahLst/>
              <a:rect l="l" t="t" r="r" b="b"/>
              <a:pathLst>
                <a:path w="836" h="910">
                  <a:moveTo>
                    <a:pt x="135" y="0"/>
                  </a:moveTo>
                  <a:lnTo>
                    <a:pt x="634" y="658"/>
                  </a:lnTo>
                  <a:lnTo>
                    <a:pt x="729" y="41"/>
                  </a:lnTo>
                  <a:lnTo>
                    <a:pt x="836" y="41"/>
                  </a:lnTo>
                  <a:lnTo>
                    <a:pt x="702" y="910"/>
                  </a:lnTo>
                  <a:lnTo>
                    <a:pt x="202" y="252"/>
                  </a:lnTo>
                  <a:lnTo>
                    <a:pt x="108" y="867"/>
                  </a:lnTo>
                  <a:lnTo>
                    <a:pt x="0" y="867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6920" y="857160"/>
              <a:ext cx="5940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60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5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8" y="122"/>
                  </a:lnTo>
                  <a:lnTo>
                    <a:pt x="421" y="118"/>
                  </a:lnTo>
                  <a:lnTo>
                    <a:pt x="414" y="113"/>
                  </a:lnTo>
                  <a:lnTo>
                    <a:pt x="406" y="108"/>
                  </a:lnTo>
                  <a:lnTo>
                    <a:pt x="398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2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6" y="99"/>
                  </a:lnTo>
                  <a:lnTo>
                    <a:pt x="314" y="103"/>
                  </a:lnTo>
                  <a:lnTo>
                    <a:pt x="302" y="105"/>
                  </a:lnTo>
                  <a:lnTo>
                    <a:pt x="290" y="110"/>
                  </a:lnTo>
                  <a:lnTo>
                    <a:pt x="279" y="115"/>
                  </a:lnTo>
                  <a:lnTo>
                    <a:pt x="268" y="121"/>
                  </a:lnTo>
                  <a:lnTo>
                    <a:pt x="257" y="128"/>
                  </a:lnTo>
                  <a:lnTo>
                    <a:pt x="248" y="135"/>
                  </a:lnTo>
                  <a:lnTo>
                    <a:pt x="238" y="144"/>
                  </a:lnTo>
                  <a:lnTo>
                    <a:pt x="230" y="153"/>
                  </a:lnTo>
                  <a:lnTo>
                    <a:pt x="222" y="162"/>
                  </a:lnTo>
                  <a:lnTo>
                    <a:pt x="216" y="174"/>
                  </a:lnTo>
                  <a:lnTo>
                    <a:pt x="210" y="185"/>
                  </a:lnTo>
                  <a:lnTo>
                    <a:pt x="206" y="197"/>
                  </a:lnTo>
                  <a:lnTo>
                    <a:pt x="204" y="209"/>
                  </a:lnTo>
                  <a:lnTo>
                    <a:pt x="202" y="222"/>
                  </a:lnTo>
                  <a:lnTo>
                    <a:pt x="202" y="234"/>
                  </a:lnTo>
                  <a:lnTo>
                    <a:pt x="203" y="245"/>
                  </a:lnTo>
                  <a:lnTo>
                    <a:pt x="205" y="255"/>
                  </a:lnTo>
                  <a:lnTo>
                    <a:pt x="208" y="264"/>
                  </a:lnTo>
                  <a:lnTo>
                    <a:pt x="213" y="273"/>
                  </a:lnTo>
                  <a:lnTo>
                    <a:pt x="219" y="281"/>
                  </a:lnTo>
                  <a:lnTo>
                    <a:pt x="225" y="288"/>
                  </a:lnTo>
                  <a:lnTo>
                    <a:pt x="232" y="295"/>
                  </a:lnTo>
                  <a:lnTo>
                    <a:pt x="240" y="302"/>
                  </a:lnTo>
                  <a:lnTo>
                    <a:pt x="249" y="308"/>
                  </a:lnTo>
                  <a:lnTo>
                    <a:pt x="258" y="313"/>
                  </a:lnTo>
                  <a:lnTo>
                    <a:pt x="278" y="325"/>
                  </a:lnTo>
                  <a:lnTo>
                    <a:pt x="298" y="335"/>
                  </a:lnTo>
                  <a:lnTo>
                    <a:pt x="352" y="350"/>
                  </a:lnTo>
                  <a:lnTo>
                    <a:pt x="386" y="371"/>
                  </a:lnTo>
                  <a:lnTo>
                    <a:pt x="418" y="393"/>
                  </a:lnTo>
                  <a:lnTo>
                    <a:pt x="433" y="405"/>
                  </a:lnTo>
                  <a:lnTo>
                    <a:pt x="447" y="417"/>
                  </a:lnTo>
                  <a:lnTo>
                    <a:pt x="460" y="430"/>
                  </a:lnTo>
                  <a:lnTo>
                    <a:pt x="471" y="444"/>
                  </a:lnTo>
                  <a:lnTo>
                    <a:pt x="481" y="459"/>
                  </a:lnTo>
                  <a:lnTo>
                    <a:pt x="490" y="475"/>
                  </a:lnTo>
                  <a:lnTo>
                    <a:pt x="496" y="492"/>
                  </a:lnTo>
                  <a:lnTo>
                    <a:pt x="502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5" y="541"/>
                  </a:lnTo>
                  <a:lnTo>
                    <a:pt x="505" y="553"/>
                  </a:lnTo>
                  <a:lnTo>
                    <a:pt x="504" y="576"/>
                  </a:lnTo>
                  <a:lnTo>
                    <a:pt x="500" y="601"/>
                  </a:lnTo>
                  <a:lnTo>
                    <a:pt x="499" y="616"/>
                  </a:lnTo>
                  <a:lnTo>
                    <a:pt x="496" y="630"/>
                  </a:lnTo>
                  <a:lnTo>
                    <a:pt x="493" y="643"/>
                  </a:lnTo>
                  <a:lnTo>
                    <a:pt x="490" y="657"/>
                  </a:lnTo>
                  <a:lnTo>
                    <a:pt x="485" y="670"/>
                  </a:lnTo>
                  <a:lnTo>
                    <a:pt x="481" y="684"/>
                  </a:lnTo>
                  <a:lnTo>
                    <a:pt x="475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6" y="732"/>
                  </a:lnTo>
                  <a:lnTo>
                    <a:pt x="448" y="742"/>
                  </a:lnTo>
                  <a:lnTo>
                    <a:pt x="440" y="753"/>
                  </a:lnTo>
                  <a:lnTo>
                    <a:pt x="431" y="764"/>
                  </a:lnTo>
                  <a:lnTo>
                    <a:pt x="422" y="774"/>
                  </a:lnTo>
                  <a:lnTo>
                    <a:pt x="414" y="783"/>
                  </a:lnTo>
                  <a:lnTo>
                    <a:pt x="404" y="792"/>
                  </a:lnTo>
                  <a:lnTo>
                    <a:pt x="394" y="800"/>
                  </a:lnTo>
                  <a:lnTo>
                    <a:pt x="384" y="808"/>
                  </a:lnTo>
                  <a:lnTo>
                    <a:pt x="373" y="816"/>
                  </a:lnTo>
                  <a:lnTo>
                    <a:pt x="362" y="823"/>
                  </a:lnTo>
                  <a:lnTo>
                    <a:pt x="351" y="830"/>
                  </a:lnTo>
                  <a:lnTo>
                    <a:pt x="340" y="837"/>
                  </a:lnTo>
                  <a:lnTo>
                    <a:pt x="327" y="843"/>
                  </a:lnTo>
                  <a:lnTo>
                    <a:pt x="316" y="847"/>
                  </a:lnTo>
                  <a:lnTo>
                    <a:pt x="304" y="852"/>
                  </a:lnTo>
                  <a:lnTo>
                    <a:pt x="292" y="855"/>
                  </a:lnTo>
                  <a:lnTo>
                    <a:pt x="280" y="859"/>
                  </a:lnTo>
                  <a:lnTo>
                    <a:pt x="267" y="862"/>
                  </a:lnTo>
                  <a:lnTo>
                    <a:pt x="255" y="865"/>
                  </a:lnTo>
                  <a:lnTo>
                    <a:pt x="242" y="866"/>
                  </a:lnTo>
                  <a:lnTo>
                    <a:pt x="229" y="867"/>
                  </a:lnTo>
                  <a:lnTo>
                    <a:pt x="217" y="867"/>
                  </a:lnTo>
                  <a:lnTo>
                    <a:pt x="204" y="867"/>
                  </a:lnTo>
                  <a:lnTo>
                    <a:pt x="192" y="866"/>
                  </a:lnTo>
                  <a:lnTo>
                    <a:pt x="181" y="865"/>
                  </a:lnTo>
                  <a:lnTo>
                    <a:pt x="168" y="862"/>
                  </a:lnTo>
                  <a:lnTo>
                    <a:pt x="157" y="860"/>
                  </a:lnTo>
                  <a:lnTo>
                    <a:pt x="146" y="857"/>
                  </a:lnTo>
                  <a:lnTo>
                    <a:pt x="136" y="852"/>
                  </a:lnTo>
                  <a:lnTo>
                    <a:pt x="126" y="847"/>
                  </a:lnTo>
                  <a:lnTo>
                    <a:pt x="116" y="843"/>
                  </a:lnTo>
                  <a:lnTo>
                    <a:pt x="107" y="837"/>
                  </a:lnTo>
                  <a:lnTo>
                    <a:pt x="98" y="831"/>
                  </a:lnTo>
                  <a:lnTo>
                    <a:pt x="89" y="826"/>
                  </a:lnTo>
                  <a:lnTo>
                    <a:pt x="81" y="819"/>
                  </a:lnTo>
                  <a:lnTo>
                    <a:pt x="73" y="811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45" y="779"/>
                  </a:lnTo>
                  <a:lnTo>
                    <a:pt x="34" y="760"/>
                  </a:lnTo>
                  <a:lnTo>
                    <a:pt x="24" y="741"/>
                  </a:lnTo>
                  <a:lnTo>
                    <a:pt x="16" y="720"/>
                  </a:lnTo>
                  <a:lnTo>
                    <a:pt x="9" y="698"/>
                  </a:lnTo>
                  <a:lnTo>
                    <a:pt x="5" y="675"/>
                  </a:lnTo>
                  <a:lnTo>
                    <a:pt x="2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8" y="619"/>
                  </a:lnTo>
                  <a:lnTo>
                    <a:pt x="107" y="637"/>
                  </a:lnTo>
                  <a:lnTo>
                    <a:pt x="108" y="654"/>
                  </a:lnTo>
                  <a:lnTo>
                    <a:pt x="111" y="669"/>
                  </a:lnTo>
                  <a:lnTo>
                    <a:pt x="114" y="684"/>
                  </a:lnTo>
                  <a:lnTo>
                    <a:pt x="120" y="697"/>
                  </a:lnTo>
                  <a:lnTo>
                    <a:pt x="126" y="710"/>
                  </a:lnTo>
                  <a:lnTo>
                    <a:pt x="134" y="722"/>
                  </a:lnTo>
                  <a:lnTo>
                    <a:pt x="143" y="733"/>
                  </a:lnTo>
                  <a:lnTo>
                    <a:pt x="153" y="742"/>
                  </a:lnTo>
                  <a:lnTo>
                    <a:pt x="164" y="750"/>
                  </a:lnTo>
                  <a:lnTo>
                    <a:pt x="175" y="757"/>
                  </a:lnTo>
                  <a:lnTo>
                    <a:pt x="188" y="763"/>
                  </a:lnTo>
                  <a:lnTo>
                    <a:pt x="202" y="766"/>
                  </a:lnTo>
                  <a:lnTo>
                    <a:pt x="216" y="768"/>
                  </a:lnTo>
                  <a:lnTo>
                    <a:pt x="230" y="769"/>
                  </a:lnTo>
                  <a:lnTo>
                    <a:pt x="248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4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9" y="704"/>
                  </a:lnTo>
                  <a:lnTo>
                    <a:pt x="369" y="692"/>
                  </a:lnTo>
                  <a:lnTo>
                    <a:pt x="378" y="678"/>
                  </a:lnTo>
                  <a:lnTo>
                    <a:pt x="386" y="663"/>
                  </a:lnTo>
                  <a:lnTo>
                    <a:pt x="393" y="648"/>
                  </a:lnTo>
                  <a:lnTo>
                    <a:pt x="398" y="633"/>
                  </a:lnTo>
                  <a:lnTo>
                    <a:pt x="403" y="617"/>
                  </a:lnTo>
                  <a:lnTo>
                    <a:pt x="406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3" y="546"/>
                  </a:lnTo>
                  <a:lnTo>
                    <a:pt x="397" y="535"/>
                  </a:lnTo>
                  <a:lnTo>
                    <a:pt x="392" y="523"/>
                  </a:lnTo>
                  <a:lnTo>
                    <a:pt x="385" y="513"/>
                  </a:lnTo>
                  <a:lnTo>
                    <a:pt x="377" y="504"/>
                  </a:lnTo>
                  <a:lnTo>
                    <a:pt x="368" y="494"/>
                  </a:lnTo>
                  <a:lnTo>
                    <a:pt x="359" y="486"/>
                  </a:lnTo>
                  <a:lnTo>
                    <a:pt x="350" y="478"/>
                  </a:lnTo>
                  <a:lnTo>
                    <a:pt x="340" y="472"/>
                  </a:lnTo>
                  <a:lnTo>
                    <a:pt x="319" y="459"/>
                  </a:lnTo>
                  <a:lnTo>
                    <a:pt x="298" y="448"/>
                  </a:lnTo>
                  <a:lnTo>
                    <a:pt x="243" y="420"/>
                  </a:lnTo>
                  <a:lnTo>
                    <a:pt x="214" y="403"/>
                  </a:lnTo>
                  <a:lnTo>
                    <a:pt x="185" y="385"/>
                  </a:lnTo>
                  <a:lnTo>
                    <a:pt x="171" y="375"/>
                  </a:lnTo>
                  <a:lnTo>
                    <a:pt x="157" y="364"/>
                  </a:lnTo>
                  <a:lnTo>
                    <a:pt x="145" y="352"/>
                  </a:lnTo>
                  <a:lnTo>
                    <a:pt x="134" y="341"/>
                  </a:lnTo>
                  <a:lnTo>
                    <a:pt x="124" y="328"/>
                  </a:lnTo>
                  <a:lnTo>
                    <a:pt x="115" y="315"/>
                  </a:lnTo>
                  <a:lnTo>
                    <a:pt x="108" y="300"/>
                  </a:lnTo>
                  <a:lnTo>
                    <a:pt x="101" y="284"/>
                  </a:lnTo>
                  <a:lnTo>
                    <a:pt x="97" y="266"/>
                  </a:lnTo>
                  <a:lnTo>
                    <a:pt x="94" y="249"/>
                  </a:lnTo>
                  <a:lnTo>
                    <a:pt x="94" y="230"/>
                  </a:lnTo>
                  <a:lnTo>
                    <a:pt x="95" y="209"/>
                  </a:lnTo>
                  <a:lnTo>
                    <a:pt x="98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1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4" y="44"/>
                  </a:lnTo>
                  <a:lnTo>
                    <a:pt x="234" y="33"/>
                  </a:lnTo>
                  <a:lnTo>
                    <a:pt x="255" y="24"/>
                  </a:lnTo>
                  <a:lnTo>
                    <a:pt x="276" y="14"/>
                  </a:lnTo>
                  <a:lnTo>
                    <a:pt x="298" y="9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0"/>
                  </a:lnTo>
                  <a:lnTo>
                    <a:pt x="383" y="1"/>
                  </a:lnTo>
                  <a:lnTo>
                    <a:pt x="399" y="2"/>
                  </a:lnTo>
                  <a:lnTo>
                    <a:pt x="416" y="4"/>
                  </a:lnTo>
                  <a:lnTo>
                    <a:pt x="430" y="8"/>
                  </a:lnTo>
                  <a:lnTo>
                    <a:pt x="446" y="12"/>
                  </a:lnTo>
                  <a:lnTo>
                    <a:pt x="459" y="18"/>
                  </a:lnTo>
                  <a:lnTo>
                    <a:pt x="472" y="24"/>
                  </a:lnTo>
                  <a:lnTo>
                    <a:pt x="485" y="32"/>
                  </a:lnTo>
                  <a:lnTo>
                    <a:pt x="496" y="40"/>
                  </a:lnTo>
                  <a:lnTo>
                    <a:pt x="508" y="49"/>
                  </a:lnTo>
                  <a:lnTo>
                    <a:pt x="517" y="59"/>
                  </a:lnTo>
                  <a:lnTo>
                    <a:pt x="526" y="71"/>
                  </a:lnTo>
                  <a:lnTo>
                    <a:pt x="535" y="83"/>
                  </a:lnTo>
                  <a:lnTo>
                    <a:pt x="542" y="96"/>
                  </a:lnTo>
                  <a:lnTo>
                    <a:pt x="548" y="111"/>
                  </a:lnTo>
                  <a:lnTo>
                    <a:pt x="554" y="126"/>
                  </a:lnTo>
                  <a:lnTo>
                    <a:pt x="460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78120" y="857160"/>
              <a:ext cx="89640" cy="77760"/>
            </a:xfrm>
            <a:custGeom>
              <a:avLst/>
              <a:gdLst/>
              <a:ahLst/>
              <a:rect l="l" t="t" r="r" b="b"/>
              <a:pathLst>
                <a:path w="848" h="867">
                  <a:moveTo>
                    <a:pt x="843" y="434"/>
                  </a:moveTo>
                  <a:lnTo>
                    <a:pt x="839" y="454"/>
                  </a:lnTo>
                  <a:lnTo>
                    <a:pt x="835" y="475"/>
                  </a:lnTo>
                  <a:lnTo>
                    <a:pt x="831" y="494"/>
                  </a:lnTo>
                  <a:lnTo>
                    <a:pt x="825" y="515"/>
                  </a:lnTo>
                  <a:lnTo>
                    <a:pt x="818" y="535"/>
                  </a:lnTo>
                  <a:lnTo>
                    <a:pt x="811" y="553"/>
                  </a:lnTo>
                  <a:lnTo>
                    <a:pt x="803" y="571"/>
                  </a:lnTo>
                  <a:lnTo>
                    <a:pt x="794" y="590"/>
                  </a:lnTo>
                  <a:lnTo>
                    <a:pt x="784" y="607"/>
                  </a:lnTo>
                  <a:lnTo>
                    <a:pt x="774" y="624"/>
                  </a:lnTo>
                  <a:lnTo>
                    <a:pt x="763" y="641"/>
                  </a:lnTo>
                  <a:lnTo>
                    <a:pt x="751" y="657"/>
                  </a:lnTo>
                  <a:lnTo>
                    <a:pt x="739" y="673"/>
                  </a:lnTo>
                  <a:lnTo>
                    <a:pt x="727" y="688"/>
                  </a:lnTo>
                  <a:lnTo>
                    <a:pt x="714" y="703"/>
                  </a:lnTo>
                  <a:lnTo>
                    <a:pt x="699" y="717"/>
                  </a:lnTo>
                  <a:lnTo>
                    <a:pt x="685" y="730"/>
                  </a:lnTo>
                  <a:lnTo>
                    <a:pt x="669" y="743"/>
                  </a:lnTo>
                  <a:lnTo>
                    <a:pt x="654" y="756"/>
                  </a:lnTo>
                  <a:lnTo>
                    <a:pt x="638" y="767"/>
                  </a:lnTo>
                  <a:lnTo>
                    <a:pt x="622" y="779"/>
                  </a:lnTo>
                  <a:lnTo>
                    <a:pt x="605" y="789"/>
                  </a:lnTo>
                  <a:lnTo>
                    <a:pt x="589" y="798"/>
                  </a:lnTo>
                  <a:lnTo>
                    <a:pt x="571" y="807"/>
                  </a:lnTo>
                  <a:lnTo>
                    <a:pt x="553" y="815"/>
                  </a:lnTo>
                  <a:lnTo>
                    <a:pt x="536" y="823"/>
                  </a:lnTo>
                  <a:lnTo>
                    <a:pt x="518" y="830"/>
                  </a:lnTo>
                  <a:lnTo>
                    <a:pt x="499" y="836"/>
                  </a:lnTo>
                  <a:lnTo>
                    <a:pt x="480" y="842"/>
                  </a:lnTo>
                  <a:lnTo>
                    <a:pt x="462" y="846"/>
                  </a:lnTo>
                  <a:lnTo>
                    <a:pt x="443" y="851"/>
                  </a:lnTo>
                  <a:lnTo>
                    <a:pt x="424" y="853"/>
                  </a:lnTo>
                  <a:lnTo>
                    <a:pt x="424" y="756"/>
                  </a:lnTo>
                  <a:lnTo>
                    <a:pt x="440" y="753"/>
                  </a:lnTo>
                  <a:lnTo>
                    <a:pt x="454" y="751"/>
                  </a:lnTo>
                  <a:lnTo>
                    <a:pt x="469" y="748"/>
                  </a:lnTo>
                  <a:lnTo>
                    <a:pt x="484" y="744"/>
                  </a:lnTo>
                  <a:lnTo>
                    <a:pt x="498" y="740"/>
                  </a:lnTo>
                  <a:lnTo>
                    <a:pt x="511" y="735"/>
                  </a:lnTo>
                  <a:lnTo>
                    <a:pt x="526" y="729"/>
                  </a:lnTo>
                  <a:lnTo>
                    <a:pt x="539" y="722"/>
                  </a:lnTo>
                  <a:lnTo>
                    <a:pt x="552" y="716"/>
                  </a:lnTo>
                  <a:lnTo>
                    <a:pt x="565" y="709"/>
                  </a:lnTo>
                  <a:lnTo>
                    <a:pt x="579" y="701"/>
                  </a:lnTo>
                  <a:lnTo>
                    <a:pt x="591" y="692"/>
                  </a:lnTo>
                  <a:lnTo>
                    <a:pt x="603" y="682"/>
                  </a:lnTo>
                  <a:lnTo>
                    <a:pt x="614" y="673"/>
                  </a:lnTo>
                  <a:lnTo>
                    <a:pt x="626" y="663"/>
                  </a:lnTo>
                  <a:lnTo>
                    <a:pt x="636" y="653"/>
                  </a:lnTo>
                  <a:lnTo>
                    <a:pt x="647" y="641"/>
                  </a:lnTo>
                  <a:lnTo>
                    <a:pt x="657" y="630"/>
                  </a:lnTo>
                  <a:lnTo>
                    <a:pt x="667" y="618"/>
                  </a:lnTo>
                  <a:lnTo>
                    <a:pt x="676" y="606"/>
                  </a:lnTo>
                  <a:lnTo>
                    <a:pt x="685" y="593"/>
                  </a:lnTo>
                  <a:lnTo>
                    <a:pt x="694" y="579"/>
                  </a:lnTo>
                  <a:lnTo>
                    <a:pt x="701" y="567"/>
                  </a:lnTo>
                  <a:lnTo>
                    <a:pt x="709" y="553"/>
                  </a:lnTo>
                  <a:lnTo>
                    <a:pt x="716" y="539"/>
                  </a:lnTo>
                  <a:lnTo>
                    <a:pt x="722" y="524"/>
                  </a:lnTo>
                  <a:lnTo>
                    <a:pt x="728" y="509"/>
                  </a:lnTo>
                  <a:lnTo>
                    <a:pt x="733" y="494"/>
                  </a:lnTo>
                  <a:lnTo>
                    <a:pt x="738" y="480"/>
                  </a:lnTo>
                  <a:lnTo>
                    <a:pt x="741" y="465"/>
                  </a:lnTo>
                  <a:lnTo>
                    <a:pt x="746" y="449"/>
                  </a:lnTo>
                  <a:lnTo>
                    <a:pt x="748" y="434"/>
                  </a:lnTo>
                  <a:lnTo>
                    <a:pt x="750" y="417"/>
                  </a:lnTo>
                  <a:lnTo>
                    <a:pt x="751" y="399"/>
                  </a:lnTo>
                  <a:lnTo>
                    <a:pt x="752" y="383"/>
                  </a:lnTo>
                  <a:lnTo>
                    <a:pt x="752" y="367"/>
                  </a:lnTo>
                  <a:lnTo>
                    <a:pt x="751" y="351"/>
                  </a:lnTo>
                  <a:lnTo>
                    <a:pt x="749" y="335"/>
                  </a:lnTo>
                  <a:lnTo>
                    <a:pt x="747" y="319"/>
                  </a:lnTo>
                  <a:lnTo>
                    <a:pt x="743" y="304"/>
                  </a:lnTo>
                  <a:lnTo>
                    <a:pt x="740" y="289"/>
                  </a:lnTo>
                  <a:lnTo>
                    <a:pt x="736" y="276"/>
                  </a:lnTo>
                  <a:lnTo>
                    <a:pt x="730" y="261"/>
                  </a:lnTo>
                  <a:lnTo>
                    <a:pt x="725" y="247"/>
                  </a:lnTo>
                  <a:lnTo>
                    <a:pt x="718" y="234"/>
                  </a:lnTo>
                  <a:lnTo>
                    <a:pt x="710" y="222"/>
                  </a:lnTo>
                  <a:lnTo>
                    <a:pt x="702" y="209"/>
                  </a:lnTo>
                  <a:lnTo>
                    <a:pt x="694" y="198"/>
                  </a:lnTo>
                  <a:lnTo>
                    <a:pt x="685" y="186"/>
                  </a:lnTo>
                  <a:lnTo>
                    <a:pt x="675" y="176"/>
                  </a:lnTo>
                  <a:lnTo>
                    <a:pt x="665" y="166"/>
                  </a:lnTo>
                  <a:lnTo>
                    <a:pt x="654" y="157"/>
                  </a:lnTo>
                  <a:lnTo>
                    <a:pt x="642" y="147"/>
                  </a:lnTo>
                  <a:lnTo>
                    <a:pt x="630" y="139"/>
                  </a:lnTo>
                  <a:lnTo>
                    <a:pt x="617" y="131"/>
                  </a:lnTo>
                  <a:lnTo>
                    <a:pt x="604" y="124"/>
                  </a:lnTo>
                  <a:lnTo>
                    <a:pt x="590" y="119"/>
                  </a:lnTo>
                  <a:lnTo>
                    <a:pt x="575" y="113"/>
                  </a:lnTo>
                  <a:lnTo>
                    <a:pt x="561" y="108"/>
                  </a:lnTo>
                  <a:lnTo>
                    <a:pt x="546" y="105"/>
                  </a:lnTo>
                  <a:lnTo>
                    <a:pt x="529" y="102"/>
                  </a:lnTo>
                  <a:lnTo>
                    <a:pt x="512" y="99"/>
                  </a:lnTo>
                  <a:lnTo>
                    <a:pt x="496" y="98"/>
                  </a:lnTo>
                  <a:lnTo>
                    <a:pt x="478" y="98"/>
                  </a:lnTo>
                  <a:lnTo>
                    <a:pt x="466" y="98"/>
                  </a:lnTo>
                  <a:lnTo>
                    <a:pt x="452" y="98"/>
                  </a:lnTo>
                  <a:lnTo>
                    <a:pt x="436" y="98"/>
                  </a:lnTo>
                  <a:lnTo>
                    <a:pt x="424" y="98"/>
                  </a:lnTo>
                  <a:lnTo>
                    <a:pt x="424" y="0"/>
                  </a:lnTo>
                  <a:lnTo>
                    <a:pt x="443" y="0"/>
                  </a:lnTo>
                  <a:lnTo>
                    <a:pt x="458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12" y="1"/>
                  </a:lnTo>
                  <a:lnTo>
                    <a:pt x="533" y="2"/>
                  </a:lnTo>
                  <a:lnTo>
                    <a:pt x="554" y="5"/>
                  </a:lnTo>
                  <a:lnTo>
                    <a:pt x="574" y="9"/>
                  </a:lnTo>
                  <a:lnTo>
                    <a:pt x="593" y="13"/>
                  </a:lnTo>
                  <a:lnTo>
                    <a:pt x="613" y="19"/>
                  </a:lnTo>
                  <a:lnTo>
                    <a:pt x="631" y="26"/>
                  </a:lnTo>
                  <a:lnTo>
                    <a:pt x="648" y="34"/>
                  </a:lnTo>
                  <a:lnTo>
                    <a:pt x="666" y="43"/>
                  </a:lnTo>
                  <a:lnTo>
                    <a:pt x="683" y="52"/>
                  </a:lnTo>
                  <a:lnTo>
                    <a:pt x="699" y="63"/>
                  </a:lnTo>
                  <a:lnTo>
                    <a:pt x="714" y="74"/>
                  </a:lnTo>
                  <a:lnTo>
                    <a:pt x="729" y="87"/>
                  </a:lnTo>
                  <a:lnTo>
                    <a:pt x="742" y="99"/>
                  </a:lnTo>
                  <a:lnTo>
                    <a:pt x="755" y="113"/>
                  </a:lnTo>
                  <a:lnTo>
                    <a:pt x="768" y="128"/>
                  </a:lnTo>
                  <a:lnTo>
                    <a:pt x="780" y="143"/>
                  </a:lnTo>
                  <a:lnTo>
                    <a:pt x="791" y="159"/>
                  </a:lnTo>
                  <a:lnTo>
                    <a:pt x="801" y="175"/>
                  </a:lnTo>
                  <a:lnTo>
                    <a:pt x="810" y="192"/>
                  </a:lnTo>
                  <a:lnTo>
                    <a:pt x="817" y="209"/>
                  </a:lnTo>
                  <a:lnTo>
                    <a:pt x="825" y="228"/>
                  </a:lnTo>
                  <a:lnTo>
                    <a:pt x="832" y="246"/>
                  </a:lnTo>
                  <a:lnTo>
                    <a:pt x="837" y="265"/>
                  </a:lnTo>
                  <a:lnTo>
                    <a:pt x="842" y="285"/>
                  </a:lnTo>
                  <a:lnTo>
                    <a:pt x="845" y="305"/>
                  </a:lnTo>
                  <a:lnTo>
                    <a:pt x="847" y="326"/>
                  </a:lnTo>
                  <a:lnTo>
                    <a:pt x="848" y="347"/>
                  </a:lnTo>
                  <a:lnTo>
                    <a:pt x="848" y="368"/>
                  </a:lnTo>
                  <a:lnTo>
                    <a:pt x="847" y="389"/>
                  </a:lnTo>
                  <a:lnTo>
                    <a:pt x="846" y="411"/>
                  </a:lnTo>
                  <a:lnTo>
                    <a:pt x="843" y="434"/>
                  </a:lnTo>
                  <a:close/>
                  <a:moveTo>
                    <a:pt x="424" y="853"/>
                  </a:moveTo>
                  <a:lnTo>
                    <a:pt x="412" y="855"/>
                  </a:lnTo>
                  <a:lnTo>
                    <a:pt x="395" y="860"/>
                  </a:lnTo>
                  <a:lnTo>
                    <a:pt x="387" y="863"/>
                  </a:lnTo>
                  <a:lnTo>
                    <a:pt x="377" y="865"/>
                  </a:lnTo>
                  <a:lnTo>
                    <a:pt x="367" y="867"/>
                  </a:lnTo>
                  <a:lnTo>
                    <a:pt x="357" y="867"/>
                  </a:lnTo>
                  <a:lnTo>
                    <a:pt x="336" y="867"/>
                  </a:lnTo>
                  <a:lnTo>
                    <a:pt x="315" y="865"/>
                  </a:lnTo>
                  <a:lnTo>
                    <a:pt x="294" y="862"/>
                  </a:lnTo>
                  <a:lnTo>
                    <a:pt x="274" y="859"/>
                  </a:lnTo>
                  <a:lnTo>
                    <a:pt x="255" y="853"/>
                  </a:lnTo>
                  <a:lnTo>
                    <a:pt x="235" y="847"/>
                  </a:lnTo>
                  <a:lnTo>
                    <a:pt x="218" y="840"/>
                  </a:lnTo>
                  <a:lnTo>
                    <a:pt x="200" y="832"/>
                  </a:lnTo>
                  <a:lnTo>
                    <a:pt x="182" y="824"/>
                  </a:lnTo>
                  <a:lnTo>
                    <a:pt x="166" y="814"/>
                  </a:lnTo>
                  <a:lnTo>
                    <a:pt x="150" y="804"/>
                  </a:lnTo>
                  <a:lnTo>
                    <a:pt x="135" y="792"/>
                  </a:lnTo>
                  <a:lnTo>
                    <a:pt x="119" y="781"/>
                  </a:lnTo>
                  <a:lnTo>
                    <a:pt x="106" y="767"/>
                  </a:lnTo>
                  <a:lnTo>
                    <a:pt x="93" y="755"/>
                  </a:lnTo>
                  <a:lnTo>
                    <a:pt x="81" y="740"/>
                  </a:lnTo>
                  <a:lnTo>
                    <a:pt x="68" y="725"/>
                  </a:lnTo>
                  <a:lnTo>
                    <a:pt x="57" y="709"/>
                  </a:lnTo>
                  <a:lnTo>
                    <a:pt x="47" y="693"/>
                  </a:lnTo>
                  <a:lnTo>
                    <a:pt x="39" y="675"/>
                  </a:lnTo>
                  <a:lnTo>
                    <a:pt x="31" y="657"/>
                  </a:lnTo>
                  <a:lnTo>
                    <a:pt x="23" y="640"/>
                  </a:lnTo>
                  <a:lnTo>
                    <a:pt x="16" y="621"/>
                  </a:lnTo>
                  <a:lnTo>
                    <a:pt x="11" y="602"/>
                  </a:lnTo>
                  <a:lnTo>
                    <a:pt x="7" y="582"/>
                  </a:lnTo>
                  <a:lnTo>
                    <a:pt x="3" y="562"/>
                  </a:lnTo>
                  <a:lnTo>
                    <a:pt x="1" y="541"/>
                  </a:lnTo>
                  <a:lnTo>
                    <a:pt x="0" y="521"/>
                  </a:lnTo>
                  <a:lnTo>
                    <a:pt x="0" y="499"/>
                  </a:lnTo>
                  <a:lnTo>
                    <a:pt x="1" y="477"/>
                  </a:lnTo>
                  <a:lnTo>
                    <a:pt x="3" y="456"/>
                  </a:lnTo>
                  <a:lnTo>
                    <a:pt x="7" y="434"/>
                  </a:lnTo>
                  <a:lnTo>
                    <a:pt x="10" y="413"/>
                  </a:lnTo>
                  <a:lnTo>
                    <a:pt x="15" y="393"/>
                  </a:lnTo>
                  <a:lnTo>
                    <a:pt x="21" y="372"/>
                  </a:lnTo>
                  <a:lnTo>
                    <a:pt x="28" y="352"/>
                  </a:lnTo>
                  <a:lnTo>
                    <a:pt x="34" y="333"/>
                  </a:lnTo>
                  <a:lnTo>
                    <a:pt x="42" y="313"/>
                  </a:lnTo>
                  <a:lnTo>
                    <a:pt x="51" y="295"/>
                  </a:lnTo>
                  <a:lnTo>
                    <a:pt x="60" y="277"/>
                  </a:lnTo>
                  <a:lnTo>
                    <a:pt x="69" y="260"/>
                  </a:lnTo>
                  <a:lnTo>
                    <a:pt x="81" y="242"/>
                  </a:lnTo>
                  <a:lnTo>
                    <a:pt x="92" y="225"/>
                  </a:lnTo>
                  <a:lnTo>
                    <a:pt x="103" y="209"/>
                  </a:lnTo>
                  <a:lnTo>
                    <a:pt x="115" y="193"/>
                  </a:lnTo>
                  <a:lnTo>
                    <a:pt x="128" y="178"/>
                  </a:lnTo>
                  <a:lnTo>
                    <a:pt x="140" y="163"/>
                  </a:lnTo>
                  <a:lnTo>
                    <a:pt x="155" y="148"/>
                  </a:lnTo>
                  <a:lnTo>
                    <a:pt x="169" y="135"/>
                  </a:lnTo>
                  <a:lnTo>
                    <a:pt x="183" y="121"/>
                  </a:lnTo>
                  <a:lnTo>
                    <a:pt x="198" y="108"/>
                  </a:lnTo>
                  <a:lnTo>
                    <a:pt x="213" y="97"/>
                  </a:lnTo>
                  <a:lnTo>
                    <a:pt x="230" y="85"/>
                  </a:lnTo>
                  <a:lnTo>
                    <a:pt x="245" y="74"/>
                  </a:lnTo>
                  <a:lnTo>
                    <a:pt x="262" y="64"/>
                  </a:lnTo>
                  <a:lnTo>
                    <a:pt x="279" y="53"/>
                  </a:lnTo>
                  <a:lnTo>
                    <a:pt x="296" y="44"/>
                  </a:lnTo>
                  <a:lnTo>
                    <a:pt x="314" y="36"/>
                  </a:lnTo>
                  <a:lnTo>
                    <a:pt x="331" y="28"/>
                  </a:lnTo>
                  <a:lnTo>
                    <a:pt x="350" y="21"/>
                  </a:lnTo>
                  <a:lnTo>
                    <a:pt x="368" y="14"/>
                  </a:lnTo>
                  <a:lnTo>
                    <a:pt x="387" y="9"/>
                  </a:lnTo>
                  <a:lnTo>
                    <a:pt x="405" y="4"/>
                  </a:lnTo>
                  <a:lnTo>
                    <a:pt x="424" y="0"/>
                  </a:lnTo>
                  <a:lnTo>
                    <a:pt x="424" y="98"/>
                  </a:lnTo>
                  <a:lnTo>
                    <a:pt x="409" y="100"/>
                  </a:lnTo>
                  <a:lnTo>
                    <a:pt x="394" y="104"/>
                  </a:lnTo>
                  <a:lnTo>
                    <a:pt x="380" y="108"/>
                  </a:lnTo>
                  <a:lnTo>
                    <a:pt x="364" y="113"/>
                  </a:lnTo>
                  <a:lnTo>
                    <a:pt x="350" y="119"/>
                  </a:lnTo>
                  <a:lnTo>
                    <a:pt x="337" y="124"/>
                  </a:lnTo>
                  <a:lnTo>
                    <a:pt x="322" y="131"/>
                  </a:lnTo>
                  <a:lnTo>
                    <a:pt x="309" y="138"/>
                  </a:lnTo>
                  <a:lnTo>
                    <a:pt x="296" y="146"/>
                  </a:lnTo>
                  <a:lnTo>
                    <a:pt x="283" y="154"/>
                  </a:lnTo>
                  <a:lnTo>
                    <a:pt x="271" y="163"/>
                  </a:lnTo>
                  <a:lnTo>
                    <a:pt x="258" y="173"/>
                  </a:lnTo>
                  <a:lnTo>
                    <a:pt x="246" y="182"/>
                  </a:lnTo>
                  <a:lnTo>
                    <a:pt x="235" y="192"/>
                  </a:lnTo>
                  <a:lnTo>
                    <a:pt x="224" y="202"/>
                  </a:lnTo>
                  <a:lnTo>
                    <a:pt x="213" y="213"/>
                  </a:lnTo>
                  <a:lnTo>
                    <a:pt x="203" y="224"/>
                  </a:lnTo>
                  <a:lnTo>
                    <a:pt x="193" y="237"/>
                  </a:lnTo>
                  <a:lnTo>
                    <a:pt x="184" y="248"/>
                  </a:lnTo>
                  <a:lnTo>
                    <a:pt x="176" y="261"/>
                  </a:lnTo>
                  <a:lnTo>
                    <a:pt x="167" y="273"/>
                  </a:lnTo>
                  <a:lnTo>
                    <a:pt x="159" y="287"/>
                  </a:lnTo>
                  <a:lnTo>
                    <a:pt x="152" y="301"/>
                  </a:lnTo>
                  <a:lnTo>
                    <a:pt x="146" y="315"/>
                  </a:lnTo>
                  <a:lnTo>
                    <a:pt x="139" y="328"/>
                  </a:lnTo>
                  <a:lnTo>
                    <a:pt x="134" y="342"/>
                  </a:lnTo>
                  <a:lnTo>
                    <a:pt x="129" y="357"/>
                  </a:lnTo>
                  <a:lnTo>
                    <a:pt x="125" y="372"/>
                  </a:lnTo>
                  <a:lnTo>
                    <a:pt x="120" y="387"/>
                  </a:lnTo>
                  <a:lnTo>
                    <a:pt x="118" y="403"/>
                  </a:lnTo>
                  <a:lnTo>
                    <a:pt x="116" y="418"/>
                  </a:lnTo>
                  <a:lnTo>
                    <a:pt x="114" y="434"/>
                  </a:lnTo>
                  <a:lnTo>
                    <a:pt x="110" y="451"/>
                  </a:lnTo>
                  <a:lnTo>
                    <a:pt x="108" y="467"/>
                  </a:lnTo>
                  <a:lnTo>
                    <a:pt x="107" y="484"/>
                  </a:lnTo>
                  <a:lnTo>
                    <a:pt x="107" y="500"/>
                  </a:lnTo>
                  <a:lnTo>
                    <a:pt x="107" y="516"/>
                  </a:lnTo>
                  <a:lnTo>
                    <a:pt x="108" y="532"/>
                  </a:lnTo>
                  <a:lnTo>
                    <a:pt x="111" y="547"/>
                  </a:lnTo>
                  <a:lnTo>
                    <a:pt x="114" y="563"/>
                  </a:lnTo>
                  <a:lnTo>
                    <a:pt x="118" y="578"/>
                  </a:lnTo>
                  <a:lnTo>
                    <a:pt x="123" y="592"/>
                  </a:lnTo>
                  <a:lnTo>
                    <a:pt x="128" y="606"/>
                  </a:lnTo>
                  <a:lnTo>
                    <a:pt x="135" y="619"/>
                  </a:lnTo>
                  <a:lnTo>
                    <a:pt x="141" y="633"/>
                  </a:lnTo>
                  <a:lnTo>
                    <a:pt x="149" y="646"/>
                  </a:lnTo>
                  <a:lnTo>
                    <a:pt x="158" y="658"/>
                  </a:lnTo>
                  <a:lnTo>
                    <a:pt x="167" y="670"/>
                  </a:lnTo>
                  <a:lnTo>
                    <a:pt x="176" y="681"/>
                  </a:lnTo>
                  <a:lnTo>
                    <a:pt x="185" y="692"/>
                  </a:lnTo>
                  <a:lnTo>
                    <a:pt x="197" y="702"/>
                  </a:lnTo>
                  <a:lnTo>
                    <a:pt x="208" y="711"/>
                  </a:lnTo>
                  <a:lnTo>
                    <a:pt x="219" y="720"/>
                  </a:lnTo>
                  <a:lnTo>
                    <a:pt x="231" y="728"/>
                  </a:lnTo>
                  <a:lnTo>
                    <a:pt x="243" y="735"/>
                  </a:lnTo>
                  <a:lnTo>
                    <a:pt x="256" y="742"/>
                  </a:lnTo>
                  <a:lnTo>
                    <a:pt x="269" y="749"/>
                  </a:lnTo>
                  <a:lnTo>
                    <a:pt x="283" y="753"/>
                  </a:lnTo>
                  <a:lnTo>
                    <a:pt x="297" y="758"/>
                  </a:lnTo>
                  <a:lnTo>
                    <a:pt x="311" y="763"/>
                  </a:lnTo>
                  <a:lnTo>
                    <a:pt x="326" y="765"/>
                  </a:lnTo>
                  <a:lnTo>
                    <a:pt x="340" y="767"/>
                  </a:lnTo>
                  <a:lnTo>
                    <a:pt x="356" y="769"/>
                  </a:lnTo>
                  <a:lnTo>
                    <a:pt x="370" y="769"/>
                  </a:lnTo>
                  <a:lnTo>
                    <a:pt x="388" y="769"/>
                  </a:lnTo>
                  <a:lnTo>
                    <a:pt x="402" y="767"/>
                  </a:lnTo>
                  <a:lnTo>
                    <a:pt x="409" y="766"/>
                  </a:lnTo>
                  <a:lnTo>
                    <a:pt x="414" y="764"/>
                  </a:lnTo>
                  <a:lnTo>
                    <a:pt x="419" y="760"/>
                  </a:lnTo>
                  <a:lnTo>
                    <a:pt x="424" y="756"/>
                  </a:lnTo>
                  <a:lnTo>
                    <a:pt x="424" y="85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69560" y="857160"/>
              <a:ext cx="59760" cy="77760"/>
            </a:xfrm>
            <a:custGeom>
              <a:avLst/>
              <a:gdLst/>
              <a:ahLst/>
              <a:rect l="l" t="t" r="r" b="b"/>
              <a:pathLst>
                <a:path w="554" h="867">
                  <a:moveTo>
                    <a:pt x="459" y="168"/>
                  </a:moveTo>
                  <a:lnTo>
                    <a:pt x="457" y="160"/>
                  </a:lnTo>
                  <a:lnTo>
                    <a:pt x="453" y="153"/>
                  </a:lnTo>
                  <a:lnTo>
                    <a:pt x="449" y="146"/>
                  </a:lnTo>
                  <a:lnTo>
                    <a:pt x="444" y="139"/>
                  </a:lnTo>
                  <a:lnTo>
                    <a:pt x="439" y="132"/>
                  </a:lnTo>
                  <a:lnTo>
                    <a:pt x="433" y="127"/>
                  </a:lnTo>
                  <a:lnTo>
                    <a:pt x="427" y="122"/>
                  </a:lnTo>
                  <a:lnTo>
                    <a:pt x="420" y="118"/>
                  </a:lnTo>
                  <a:lnTo>
                    <a:pt x="413" y="113"/>
                  </a:lnTo>
                  <a:lnTo>
                    <a:pt x="406" y="108"/>
                  </a:lnTo>
                  <a:lnTo>
                    <a:pt x="397" y="106"/>
                  </a:lnTo>
                  <a:lnTo>
                    <a:pt x="389" y="103"/>
                  </a:lnTo>
                  <a:lnTo>
                    <a:pt x="380" y="100"/>
                  </a:lnTo>
                  <a:lnTo>
                    <a:pt x="370" y="99"/>
                  </a:lnTo>
                  <a:lnTo>
                    <a:pt x="362" y="98"/>
                  </a:lnTo>
                  <a:lnTo>
                    <a:pt x="352" y="98"/>
                  </a:lnTo>
                  <a:lnTo>
                    <a:pt x="338" y="98"/>
                  </a:lnTo>
                  <a:lnTo>
                    <a:pt x="325" y="99"/>
                  </a:lnTo>
                  <a:lnTo>
                    <a:pt x="313" y="103"/>
                  </a:lnTo>
                  <a:lnTo>
                    <a:pt x="300" y="105"/>
                  </a:lnTo>
                  <a:lnTo>
                    <a:pt x="286" y="110"/>
                  </a:lnTo>
                  <a:lnTo>
                    <a:pt x="274" y="115"/>
                  </a:lnTo>
                  <a:lnTo>
                    <a:pt x="263" y="121"/>
                  </a:lnTo>
                  <a:lnTo>
                    <a:pt x="252" y="128"/>
                  </a:lnTo>
                  <a:lnTo>
                    <a:pt x="241" y="135"/>
                  </a:lnTo>
                  <a:lnTo>
                    <a:pt x="232" y="144"/>
                  </a:lnTo>
                  <a:lnTo>
                    <a:pt x="223" y="153"/>
                  </a:lnTo>
                  <a:lnTo>
                    <a:pt x="217" y="162"/>
                  </a:lnTo>
                  <a:lnTo>
                    <a:pt x="210" y="174"/>
                  </a:lnTo>
                  <a:lnTo>
                    <a:pt x="207" y="185"/>
                  </a:lnTo>
                  <a:lnTo>
                    <a:pt x="204" y="197"/>
                  </a:lnTo>
                  <a:lnTo>
                    <a:pt x="202" y="209"/>
                  </a:lnTo>
                  <a:lnTo>
                    <a:pt x="201" y="222"/>
                  </a:lnTo>
                  <a:lnTo>
                    <a:pt x="200" y="234"/>
                  </a:lnTo>
                  <a:lnTo>
                    <a:pt x="201" y="245"/>
                  </a:lnTo>
                  <a:lnTo>
                    <a:pt x="204" y="255"/>
                  </a:lnTo>
                  <a:lnTo>
                    <a:pt x="207" y="264"/>
                  </a:lnTo>
                  <a:lnTo>
                    <a:pt x="211" y="273"/>
                  </a:lnTo>
                  <a:lnTo>
                    <a:pt x="217" y="281"/>
                  </a:lnTo>
                  <a:lnTo>
                    <a:pt x="223" y="288"/>
                  </a:lnTo>
                  <a:lnTo>
                    <a:pt x="237" y="302"/>
                  </a:lnTo>
                  <a:lnTo>
                    <a:pt x="252" y="313"/>
                  </a:lnTo>
                  <a:lnTo>
                    <a:pt x="268" y="325"/>
                  </a:lnTo>
                  <a:lnTo>
                    <a:pt x="284" y="335"/>
                  </a:lnTo>
                  <a:lnTo>
                    <a:pt x="337" y="350"/>
                  </a:lnTo>
                  <a:lnTo>
                    <a:pt x="357" y="360"/>
                  </a:lnTo>
                  <a:lnTo>
                    <a:pt x="377" y="371"/>
                  </a:lnTo>
                  <a:lnTo>
                    <a:pt x="395" y="382"/>
                  </a:lnTo>
                  <a:lnTo>
                    <a:pt x="412" y="393"/>
                  </a:lnTo>
                  <a:lnTo>
                    <a:pt x="429" y="405"/>
                  </a:lnTo>
                  <a:lnTo>
                    <a:pt x="443" y="417"/>
                  </a:lnTo>
                  <a:lnTo>
                    <a:pt x="457" y="430"/>
                  </a:lnTo>
                  <a:lnTo>
                    <a:pt x="469" y="444"/>
                  </a:lnTo>
                  <a:lnTo>
                    <a:pt x="480" y="459"/>
                  </a:lnTo>
                  <a:lnTo>
                    <a:pt x="489" y="475"/>
                  </a:lnTo>
                  <a:lnTo>
                    <a:pt x="492" y="483"/>
                  </a:lnTo>
                  <a:lnTo>
                    <a:pt x="495" y="492"/>
                  </a:lnTo>
                  <a:lnTo>
                    <a:pt x="498" y="501"/>
                  </a:lnTo>
                  <a:lnTo>
                    <a:pt x="501" y="511"/>
                  </a:lnTo>
                  <a:lnTo>
                    <a:pt x="503" y="521"/>
                  </a:lnTo>
                  <a:lnTo>
                    <a:pt x="504" y="531"/>
                  </a:lnTo>
                  <a:lnTo>
                    <a:pt x="504" y="541"/>
                  </a:lnTo>
                  <a:lnTo>
                    <a:pt x="505" y="553"/>
                  </a:lnTo>
                  <a:lnTo>
                    <a:pt x="503" y="576"/>
                  </a:lnTo>
                  <a:lnTo>
                    <a:pt x="500" y="601"/>
                  </a:lnTo>
                  <a:lnTo>
                    <a:pt x="497" y="616"/>
                  </a:lnTo>
                  <a:lnTo>
                    <a:pt x="495" y="630"/>
                  </a:lnTo>
                  <a:lnTo>
                    <a:pt x="493" y="643"/>
                  </a:lnTo>
                  <a:lnTo>
                    <a:pt x="489" y="657"/>
                  </a:lnTo>
                  <a:lnTo>
                    <a:pt x="485" y="670"/>
                  </a:lnTo>
                  <a:lnTo>
                    <a:pt x="480" y="684"/>
                  </a:lnTo>
                  <a:lnTo>
                    <a:pt x="474" y="696"/>
                  </a:lnTo>
                  <a:lnTo>
                    <a:pt x="469" y="708"/>
                  </a:lnTo>
                  <a:lnTo>
                    <a:pt x="462" y="720"/>
                  </a:lnTo>
                  <a:lnTo>
                    <a:pt x="454" y="732"/>
                  </a:lnTo>
                  <a:lnTo>
                    <a:pt x="447" y="742"/>
                  </a:lnTo>
                  <a:lnTo>
                    <a:pt x="439" y="753"/>
                  </a:lnTo>
                  <a:lnTo>
                    <a:pt x="430" y="764"/>
                  </a:lnTo>
                  <a:lnTo>
                    <a:pt x="421" y="774"/>
                  </a:lnTo>
                  <a:lnTo>
                    <a:pt x="411" y="783"/>
                  </a:lnTo>
                  <a:lnTo>
                    <a:pt x="401" y="792"/>
                  </a:lnTo>
                  <a:lnTo>
                    <a:pt x="391" y="800"/>
                  </a:lnTo>
                  <a:lnTo>
                    <a:pt x="380" y="808"/>
                  </a:lnTo>
                  <a:lnTo>
                    <a:pt x="369" y="816"/>
                  </a:lnTo>
                  <a:lnTo>
                    <a:pt x="358" y="823"/>
                  </a:lnTo>
                  <a:lnTo>
                    <a:pt x="346" y="830"/>
                  </a:lnTo>
                  <a:lnTo>
                    <a:pt x="335" y="837"/>
                  </a:lnTo>
                  <a:lnTo>
                    <a:pt x="323" y="843"/>
                  </a:lnTo>
                  <a:lnTo>
                    <a:pt x="310" y="847"/>
                  </a:lnTo>
                  <a:lnTo>
                    <a:pt x="297" y="852"/>
                  </a:lnTo>
                  <a:lnTo>
                    <a:pt x="284" y="855"/>
                  </a:lnTo>
                  <a:lnTo>
                    <a:pt x="271" y="859"/>
                  </a:lnTo>
                  <a:lnTo>
                    <a:pt x="258" y="862"/>
                  </a:lnTo>
                  <a:lnTo>
                    <a:pt x="244" y="865"/>
                  </a:lnTo>
                  <a:lnTo>
                    <a:pt x="230" y="866"/>
                  </a:lnTo>
                  <a:lnTo>
                    <a:pt x="217" y="867"/>
                  </a:lnTo>
                  <a:lnTo>
                    <a:pt x="202" y="867"/>
                  </a:lnTo>
                  <a:lnTo>
                    <a:pt x="191" y="867"/>
                  </a:lnTo>
                  <a:lnTo>
                    <a:pt x="180" y="866"/>
                  </a:lnTo>
                  <a:lnTo>
                    <a:pt x="169" y="865"/>
                  </a:lnTo>
                  <a:lnTo>
                    <a:pt x="159" y="862"/>
                  </a:lnTo>
                  <a:lnTo>
                    <a:pt x="149" y="860"/>
                  </a:lnTo>
                  <a:lnTo>
                    <a:pt x="139" y="857"/>
                  </a:lnTo>
                  <a:lnTo>
                    <a:pt x="130" y="852"/>
                  </a:lnTo>
                  <a:lnTo>
                    <a:pt x="120" y="847"/>
                  </a:lnTo>
                  <a:lnTo>
                    <a:pt x="111" y="843"/>
                  </a:lnTo>
                  <a:lnTo>
                    <a:pt x="102" y="837"/>
                  </a:lnTo>
                  <a:lnTo>
                    <a:pt x="93" y="831"/>
                  </a:lnTo>
                  <a:lnTo>
                    <a:pt x="85" y="826"/>
                  </a:lnTo>
                  <a:lnTo>
                    <a:pt x="70" y="811"/>
                  </a:lnTo>
                  <a:lnTo>
                    <a:pt x="56" y="796"/>
                  </a:lnTo>
                  <a:lnTo>
                    <a:pt x="43" y="779"/>
                  </a:lnTo>
                  <a:lnTo>
                    <a:pt x="32" y="760"/>
                  </a:lnTo>
                  <a:lnTo>
                    <a:pt x="22" y="741"/>
                  </a:lnTo>
                  <a:lnTo>
                    <a:pt x="15" y="720"/>
                  </a:lnTo>
                  <a:lnTo>
                    <a:pt x="9" y="698"/>
                  </a:lnTo>
                  <a:lnTo>
                    <a:pt x="4" y="675"/>
                  </a:lnTo>
                  <a:lnTo>
                    <a:pt x="1" y="653"/>
                  </a:lnTo>
                  <a:lnTo>
                    <a:pt x="0" y="630"/>
                  </a:lnTo>
                  <a:lnTo>
                    <a:pt x="109" y="601"/>
                  </a:lnTo>
                  <a:lnTo>
                    <a:pt x="104" y="619"/>
                  </a:lnTo>
                  <a:lnTo>
                    <a:pt x="102" y="637"/>
                  </a:lnTo>
                  <a:lnTo>
                    <a:pt x="103" y="654"/>
                  </a:lnTo>
                  <a:lnTo>
                    <a:pt x="104" y="669"/>
                  </a:lnTo>
                  <a:lnTo>
                    <a:pt x="109" y="684"/>
                  </a:lnTo>
                  <a:lnTo>
                    <a:pt x="113" y="697"/>
                  </a:lnTo>
                  <a:lnTo>
                    <a:pt x="121" y="710"/>
                  </a:lnTo>
                  <a:lnTo>
                    <a:pt x="128" y="722"/>
                  </a:lnTo>
                  <a:lnTo>
                    <a:pt x="138" y="733"/>
                  </a:lnTo>
                  <a:lnTo>
                    <a:pt x="148" y="742"/>
                  </a:lnTo>
                  <a:lnTo>
                    <a:pt x="160" y="750"/>
                  </a:lnTo>
                  <a:lnTo>
                    <a:pt x="173" y="757"/>
                  </a:lnTo>
                  <a:lnTo>
                    <a:pt x="186" y="763"/>
                  </a:lnTo>
                  <a:lnTo>
                    <a:pt x="200" y="766"/>
                  </a:lnTo>
                  <a:lnTo>
                    <a:pt x="215" y="768"/>
                  </a:lnTo>
                  <a:lnTo>
                    <a:pt x="230" y="769"/>
                  </a:lnTo>
                  <a:lnTo>
                    <a:pt x="247" y="768"/>
                  </a:lnTo>
                  <a:lnTo>
                    <a:pt x="264" y="766"/>
                  </a:lnTo>
                  <a:lnTo>
                    <a:pt x="280" y="761"/>
                  </a:lnTo>
                  <a:lnTo>
                    <a:pt x="295" y="755"/>
                  </a:lnTo>
                  <a:lnTo>
                    <a:pt x="310" y="748"/>
                  </a:lnTo>
                  <a:lnTo>
                    <a:pt x="323" y="739"/>
                  </a:lnTo>
                  <a:lnTo>
                    <a:pt x="336" y="728"/>
                  </a:lnTo>
                  <a:lnTo>
                    <a:pt x="348" y="717"/>
                  </a:lnTo>
                  <a:lnTo>
                    <a:pt x="358" y="704"/>
                  </a:lnTo>
                  <a:lnTo>
                    <a:pt x="368" y="692"/>
                  </a:lnTo>
                  <a:lnTo>
                    <a:pt x="377" y="678"/>
                  </a:lnTo>
                  <a:lnTo>
                    <a:pt x="385" y="663"/>
                  </a:lnTo>
                  <a:lnTo>
                    <a:pt x="392" y="648"/>
                  </a:lnTo>
                  <a:lnTo>
                    <a:pt x="398" y="633"/>
                  </a:lnTo>
                  <a:lnTo>
                    <a:pt x="402" y="617"/>
                  </a:lnTo>
                  <a:lnTo>
                    <a:pt x="405" y="601"/>
                  </a:lnTo>
                  <a:lnTo>
                    <a:pt x="407" y="586"/>
                  </a:lnTo>
                  <a:lnTo>
                    <a:pt x="407" y="572"/>
                  </a:lnTo>
                  <a:lnTo>
                    <a:pt x="405" y="559"/>
                  </a:lnTo>
                  <a:lnTo>
                    <a:pt x="401" y="546"/>
                  </a:lnTo>
                  <a:lnTo>
                    <a:pt x="397" y="535"/>
                  </a:lnTo>
                  <a:lnTo>
                    <a:pt x="390" y="523"/>
                  </a:lnTo>
                  <a:lnTo>
                    <a:pt x="384" y="513"/>
                  </a:lnTo>
                  <a:lnTo>
                    <a:pt x="375" y="504"/>
                  </a:lnTo>
                  <a:lnTo>
                    <a:pt x="366" y="494"/>
                  </a:lnTo>
                  <a:lnTo>
                    <a:pt x="355" y="486"/>
                  </a:lnTo>
                  <a:lnTo>
                    <a:pt x="345" y="478"/>
                  </a:lnTo>
                  <a:lnTo>
                    <a:pt x="333" y="472"/>
                  </a:lnTo>
                  <a:lnTo>
                    <a:pt x="308" y="459"/>
                  </a:lnTo>
                  <a:lnTo>
                    <a:pt x="284" y="448"/>
                  </a:lnTo>
                  <a:lnTo>
                    <a:pt x="243" y="420"/>
                  </a:lnTo>
                  <a:lnTo>
                    <a:pt x="226" y="412"/>
                  </a:lnTo>
                  <a:lnTo>
                    <a:pt x="209" y="403"/>
                  </a:lnTo>
                  <a:lnTo>
                    <a:pt x="194" y="394"/>
                  </a:lnTo>
                  <a:lnTo>
                    <a:pt x="178" y="385"/>
                  </a:lnTo>
                  <a:lnTo>
                    <a:pt x="164" y="375"/>
                  </a:lnTo>
                  <a:lnTo>
                    <a:pt x="152" y="364"/>
                  </a:lnTo>
                  <a:lnTo>
                    <a:pt x="139" y="352"/>
                  </a:lnTo>
                  <a:lnTo>
                    <a:pt x="128" y="341"/>
                  </a:lnTo>
                  <a:lnTo>
                    <a:pt x="120" y="328"/>
                  </a:lnTo>
                  <a:lnTo>
                    <a:pt x="111" y="315"/>
                  </a:lnTo>
                  <a:lnTo>
                    <a:pt x="104" y="300"/>
                  </a:lnTo>
                  <a:lnTo>
                    <a:pt x="99" y="284"/>
                  </a:lnTo>
                  <a:lnTo>
                    <a:pt x="95" y="266"/>
                  </a:lnTo>
                  <a:lnTo>
                    <a:pt x="93" y="249"/>
                  </a:lnTo>
                  <a:lnTo>
                    <a:pt x="93" y="230"/>
                  </a:lnTo>
                  <a:lnTo>
                    <a:pt x="95" y="209"/>
                  </a:lnTo>
                  <a:lnTo>
                    <a:pt x="97" y="198"/>
                  </a:lnTo>
                  <a:lnTo>
                    <a:pt x="101" y="186"/>
                  </a:lnTo>
                  <a:lnTo>
                    <a:pt x="105" y="176"/>
                  </a:lnTo>
                  <a:lnTo>
                    <a:pt x="110" y="165"/>
                  </a:lnTo>
                  <a:lnTo>
                    <a:pt x="120" y="144"/>
                  </a:lnTo>
                  <a:lnTo>
                    <a:pt x="132" y="123"/>
                  </a:lnTo>
                  <a:lnTo>
                    <a:pt x="145" y="105"/>
                  </a:lnTo>
                  <a:lnTo>
                    <a:pt x="160" y="88"/>
                  </a:lnTo>
                  <a:lnTo>
                    <a:pt x="177" y="72"/>
                  </a:lnTo>
                  <a:lnTo>
                    <a:pt x="195" y="58"/>
                  </a:lnTo>
                  <a:lnTo>
                    <a:pt x="213" y="44"/>
                  </a:lnTo>
                  <a:lnTo>
                    <a:pt x="233" y="33"/>
                  </a:lnTo>
                  <a:lnTo>
                    <a:pt x="253" y="24"/>
                  </a:lnTo>
                  <a:lnTo>
                    <a:pt x="275" y="14"/>
                  </a:lnTo>
                  <a:lnTo>
                    <a:pt x="297" y="9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1" y="1"/>
                  </a:lnTo>
                  <a:lnTo>
                    <a:pt x="398" y="2"/>
                  </a:lnTo>
                  <a:lnTo>
                    <a:pt x="413" y="4"/>
                  </a:lnTo>
                  <a:lnTo>
                    <a:pt x="428" y="8"/>
                  </a:lnTo>
                  <a:lnTo>
                    <a:pt x="442" y="12"/>
                  </a:lnTo>
                  <a:lnTo>
                    <a:pt x="455" y="18"/>
                  </a:lnTo>
                  <a:lnTo>
                    <a:pt x="468" y="24"/>
                  </a:lnTo>
                  <a:lnTo>
                    <a:pt x="480" y="32"/>
                  </a:lnTo>
                  <a:lnTo>
                    <a:pt x="491" y="40"/>
                  </a:lnTo>
                  <a:lnTo>
                    <a:pt x="501" y="49"/>
                  </a:lnTo>
                  <a:lnTo>
                    <a:pt x="511" y="59"/>
                  </a:lnTo>
                  <a:lnTo>
                    <a:pt x="521" y="71"/>
                  </a:lnTo>
                  <a:lnTo>
                    <a:pt x="529" y="83"/>
                  </a:lnTo>
                  <a:lnTo>
                    <a:pt x="537" y="96"/>
                  </a:lnTo>
                  <a:lnTo>
                    <a:pt x="546" y="111"/>
                  </a:lnTo>
                  <a:lnTo>
                    <a:pt x="554" y="126"/>
                  </a:lnTo>
                  <a:lnTo>
                    <a:pt x="459" y="16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54240" y="421920"/>
              <a:ext cx="708480" cy="673200"/>
            </a:xfrm>
            <a:custGeom>
              <a:avLst/>
              <a:gdLst/>
              <a:ahLst/>
              <a:rect l="l" t="t" r="r" b="b"/>
              <a:pathLst>
                <a:path w="6663" h="7429">
                  <a:moveTo>
                    <a:pt x="6663" y="3722"/>
                  </a:moveTo>
                  <a:lnTo>
                    <a:pt x="6662" y="3606"/>
                  </a:lnTo>
                  <a:lnTo>
                    <a:pt x="6657" y="3493"/>
                  </a:lnTo>
                  <a:lnTo>
                    <a:pt x="6648" y="3380"/>
                  </a:lnTo>
                  <a:lnTo>
                    <a:pt x="6637" y="3267"/>
                  </a:lnTo>
                  <a:lnTo>
                    <a:pt x="6623" y="3157"/>
                  </a:lnTo>
                  <a:lnTo>
                    <a:pt x="6604" y="3047"/>
                  </a:lnTo>
                  <a:lnTo>
                    <a:pt x="6583" y="2938"/>
                  </a:lnTo>
                  <a:lnTo>
                    <a:pt x="6560" y="2831"/>
                  </a:lnTo>
                  <a:lnTo>
                    <a:pt x="6532" y="2724"/>
                  </a:lnTo>
                  <a:lnTo>
                    <a:pt x="6502" y="2620"/>
                  </a:lnTo>
                  <a:lnTo>
                    <a:pt x="6469" y="2516"/>
                  </a:lnTo>
                  <a:lnTo>
                    <a:pt x="6434" y="2414"/>
                  </a:lnTo>
                  <a:lnTo>
                    <a:pt x="6395" y="2313"/>
                  </a:lnTo>
                  <a:lnTo>
                    <a:pt x="6354" y="2214"/>
                  </a:lnTo>
                  <a:lnTo>
                    <a:pt x="6310" y="2116"/>
                  </a:lnTo>
                  <a:lnTo>
                    <a:pt x="6264" y="2020"/>
                  </a:lnTo>
                  <a:lnTo>
                    <a:pt x="6215" y="1926"/>
                  </a:lnTo>
                  <a:lnTo>
                    <a:pt x="6163" y="1833"/>
                  </a:lnTo>
                  <a:lnTo>
                    <a:pt x="6109" y="1741"/>
                  </a:lnTo>
                  <a:lnTo>
                    <a:pt x="6053" y="1652"/>
                  </a:lnTo>
                  <a:lnTo>
                    <a:pt x="5994" y="1564"/>
                  </a:lnTo>
                  <a:lnTo>
                    <a:pt x="5933" y="1478"/>
                  </a:lnTo>
                  <a:lnTo>
                    <a:pt x="5870" y="1394"/>
                  </a:lnTo>
                  <a:lnTo>
                    <a:pt x="5804" y="1312"/>
                  </a:lnTo>
                  <a:lnTo>
                    <a:pt x="5737" y="1231"/>
                  </a:lnTo>
                  <a:lnTo>
                    <a:pt x="5667" y="1154"/>
                  </a:lnTo>
                  <a:lnTo>
                    <a:pt x="5595" y="1077"/>
                  </a:lnTo>
                  <a:lnTo>
                    <a:pt x="5521" y="1002"/>
                  </a:lnTo>
                  <a:lnTo>
                    <a:pt x="5445" y="930"/>
                  </a:lnTo>
                  <a:lnTo>
                    <a:pt x="5368" y="861"/>
                  </a:lnTo>
                  <a:lnTo>
                    <a:pt x="5288" y="793"/>
                  </a:lnTo>
                  <a:lnTo>
                    <a:pt x="5206" y="727"/>
                  </a:lnTo>
                  <a:lnTo>
                    <a:pt x="5206" y="2112"/>
                  </a:lnTo>
                  <a:lnTo>
                    <a:pt x="5213" y="2112"/>
                  </a:lnTo>
                  <a:lnTo>
                    <a:pt x="5220" y="2112"/>
                  </a:lnTo>
                  <a:lnTo>
                    <a:pt x="5253" y="2114"/>
                  </a:lnTo>
                  <a:lnTo>
                    <a:pt x="5284" y="2116"/>
                  </a:lnTo>
                  <a:lnTo>
                    <a:pt x="5315" y="2118"/>
                  </a:lnTo>
                  <a:lnTo>
                    <a:pt x="5344" y="2123"/>
                  </a:lnTo>
                  <a:lnTo>
                    <a:pt x="5373" y="2128"/>
                  </a:lnTo>
                  <a:lnTo>
                    <a:pt x="5401" y="2135"/>
                  </a:lnTo>
                  <a:lnTo>
                    <a:pt x="5427" y="2143"/>
                  </a:lnTo>
                  <a:lnTo>
                    <a:pt x="5453" y="2153"/>
                  </a:lnTo>
                  <a:lnTo>
                    <a:pt x="5478" y="2163"/>
                  </a:lnTo>
                  <a:lnTo>
                    <a:pt x="5501" y="2175"/>
                  </a:lnTo>
                  <a:lnTo>
                    <a:pt x="5524" y="2188"/>
                  </a:lnTo>
                  <a:lnTo>
                    <a:pt x="5547" y="2202"/>
                  </a:lnTo>
                  <a:lnTo>
                    <a:pt x="5568" y="2216"/>
                  </a:lnTo>
                  <a:lnTo>
                    <a:pt x="5587" y="2232"/>
                  </a:lnTo>
                  <a:lnTo>
                    <a:pt x="5606" y="2249"/>
                  </a:lnTo>
                  <a:lnTo>
                    <a:pt x="5625" y="2267"/>
                  </a:lnTo>
                  <a:lnTo>
                    <a:pt x="5645" y="2285"/>
                  </a:lnTo>
                  <a:lnTo>
                    <a:pt x="5663" y="2305"/>
                  </a:lnTo>
                  <a:lnTo>
                    <a:pt x="5680" y="2324"/>
                  </a:lnTo>
                  <a:lnTo>
                    <a:pt x="5696" y="2345"/>
                  </a:lnTo>
                  <a:lnTo>
                    <a:pt x="5710" y="2367"/>
                  </a:lnTo>
                  <a:lnTo>
                    <a:pt x="5723" y="2389"/>
                  </a:lnTo>
                  <a:lnTo>
                    <a:pt x="5735" y="2411"/>
                  </a:lnTo>
                  <a:lnTo>
                    <a:pt x="5747" y="2434"/>
                  </a:lnTo>
                  <a:lnTo>
                    <a:pt x="5755" y="2458"/>
                  </a:lnTo>
                  <a:lnTo>
                    <a:pt x="5764" y="2482"/>
                  </a:lnTo>
                  <a:lnTo>
                    <a:pt x="5771" y="2509"/>
                  </a:lnTo>
                  <a:lnTo>
                    <a:pt x="5776" y="2534"/>
                  </a:lnTo>
                  <a:lnTo>
                    <a:pt x="5781" y="2560"/>
                  </a:lnTo>
                  <a:lnTo>
                    <a:pt x="5784" y="2588"/>
                  </a:lnTo>
                  <a:lnTo>
                    <a:pt x="5786" y="2615"/>
                  </a:lnTo>
                  <a:lnTo>
                    <a:pt x="5786" y="2644"/>
                  </a:lnTo>
                  <a:lnTo>
                    <a:pt x="5786" y="2678"/>
                  </a:lnTo>
                  <a:lnTo>
                    <a:pt x="5784" y="2710"/>
                  </a:lnTo>
                  <a:lnTo>
                    <a:pt x="5780" y="2743"/>
                  </a:lnTo>
                  <a:lnTo>
                    <a:pt x="5774" y="2773"/>
                  </a:lnTo>
                  <a:lnTo>
                    <a:pt x="5768" y="2803"/>
                  </a:lnTo>
                  <a:lnTo>
                    <a:pt x="5759" y="2833"/>
                  </a:lnTo>
                  <a:lnTo>
                    <a:pt x="5749" y="2862"/>
                  </a:lnTo>
                  <a:lnTo>
                    <a:pt x="5738" y="2889"/>
                  </a:lnTo>
                  <a:lnTo>
                    <a:pt x="5726" y="2917"/>
                  </a:lnTo>
                  <a:lnTo>
                    <a:pt x="5711" y="2943"/>
                  </a:lnTo>
                  <a:lnTo>
                    <a:pt x="5696" y="2969"/>
                  </a:lnTo>
                  <a:lnTo>
                    <a:pt x="5678" y="2995"/>
                  </a:lnTo>
                  <a:lnTo>
                    <a:pt x="5660" y="3020"/>
                  </a:lnTo>
                  <a:lnTo>
                    <a:pt x="5640" y="3044"/>
                  </a:lnTo>
                  <a:lnTo>
                    <a:pt x="5620" y="3068"/>
                  </a:lnTo>
                  <a:lnTo>
                    <a:pt x="5597" y="3092"/>
                  </a:lnTo>
                  <a:lnTo>
                    <a:pt x="5578" y="3113"/>
                  </a:lnTo>
                  <a:lnTo>
                    <a:pt x="5557" y="3132"/>
                  </a:lnTo>
                  <a:lnTo>
                    <a:pt x="5534" y="3150"/>
                  </a:lnTo>
                  <a:lnTo>
                    <a:pt x="5512" y="3168"/>
                  </a:lnTo>
                  <a:lnTo>
                    <a:pt x="5489" y="3184"/>
                  </a:lnTo>
                  <a:lnTo>
                    <a:pt x="5466" y="3199"/>
                  </a:lnTo>
                  <a:lnTo>
                    <a:pt x="5442" y="3212"/>
                  </a:lnTo>
                  <a:lnTo>
                    <a:pt x="5417" y="3225"/>
                  </a:lnTo>
                  <a:lnTo>
                    <a:pt x="5393" y="3236"/>
                  </a:lnTo>
                  <a:lnTo>
                    <a:pt x="5368" y="3245"/>
                  </a:lnTo>
                  <a:lnTo>
                    <a:pt x="5341" y="3255"/>
                  </a:lnTo>
                  <a:lnTo>
                    <a:pt x="5316" y="3262"/>
                  </a:lnTo>
                  <a:lnTo>
                    <a:pt x="5288" y="3267"/>
                  </a:lnTo>
                  <a:lnTo>
                    <a:pt x="5262" y="3271"/>
                  </a:lnTo>
                  <a:lnTo>
                    <a:pt x="5234" y="3273"/>
                  </a:lnTo>
                  <a:lnTo>
                    <a:pt x="5206" y="3274"/>
                  </a:lnTo>
                  <a:lnTo>
                    <a:pt x="5206" y="3973"/>
                  </a:lnTo>
                  <a:lnTo>
                    <a:pt x="5221" y="3974"/>
                  </a:lnTo>
                  <a:lnTo>
                    <a:pt x="5235" y="3976"/>
                  </a:lnTo>
                  <a:lnTo>
                    <a:pt x="5247" y="3980"/>
                  </a:lnTo>
                  <a:lnTo>
                    <a:pt x="5259" y="3984"/>
                  </a:lnTo>
                  <a:lnTo>
                    <a:pt x="5270" y="3990"/>
                  </a:lnTo>
                  <a:lnTo>
                    <a:pt x="5280" y="3997"/>
                  </a:lnTo>
                  <a:lnTo>
                    <a:pt x="5291" y="4005"/>
                  </a:lnTo>
                  <a:lnTo>
                    <a:pt x="5301" y="4015"/>
                  </a:lnTo>
                  <a:lnTo>
                    <a:pt x="5320" y="4027"/>
                  </a:lnTo>
                  <a:lnTo>
                    <a:pt x="5339" y="4039"/>
                  </a:lnTo>
                  <a:lnTo>
                    <a:pt x="5357" y="4053"/>
                  </a:lnTo>
                  <a:lnTo>
                    <a:pt x="5372" y="4068"/>
                  </a:lnTo>
                  <a:lnTo>
                    <a:pt x="5388" y="4084"/>
                  </a:lnTo>
                  <a:lnTo>
                    <a:pt x="5401" y="4101"/>
                  </a:lnTo>
                  <a:lnTo>
                    <a:pt x="5414" y="4120"/>
                  </a:lnTo>
                  <a:lnTo>
                    <a:pt x="5426" y="4139"/>
                  </a:lnTo>
                  <a:lnTo>
                    <a:pt x="5437" y="4161"/>
                  </a:lnTo>
                  <a:lnTo>
                    <a:pt x="5447" y="4183"/>
                  </a:lnTo>
                  <a:lnTo>
                    <a:pt x="5456" y="4206"/>
                  </a:lnTo>
                  <a:lnTo>
                    <a:pt x="5464" y="4230"/>
                  </a:lnTo>
                  <a:lnTo>
                    <a:pt x="5471" y="4255"/>
                  </a:lnTo>
                  <a:lnTo>
                    <a:pt x="5478" y="4281"/>
                  </a:lnTo>
                  <a:lnTo>
                    <a:pt x="5485" y="4309"/>
                  </a:lnTo>
                  <a:lnTo>
                    <a:pt x="5490" y="4337"/>
                  </a:lnTo>
                  <a:lnTo>
                    <a:pt x="5495" y="4374"/>
                  </a:lnTo>
                  <a:lnTo>
                    <a:pt x="5498" y="4411"/>
                  </a:lnTo>
                  <a:lnTo>
                    <a:pt x="5500" y="4448"/>
                  </a:lnTo>
                  <a:lnTo>
                    <a:pt x="5501" y="4487"/>
                  </a:lnTo>
                  <a:lnTo>
                    <a:pt x="5502" y="4527"/>
                  </a:lnTo>
                  <a:lnTo>
                    <a:pt x="5504" y="4569"/>
                  </a:lnTo>
                  <a:lnTo>
                    <a:pt x="5504" y="4613"/>
                  </a:lnTo>
                  <a:lnTo>
                    <a:pt x="5504" y="4659"/>
                  </a:lnTo>
                  <a:lnTo>
                    <a:pt x="5498" y="4705"/>
                  </a:lnTo>
                  <a:lnTo>
                    <a:pt x="5490" y="4761"/>
                  </a:lnTo>
                  <a:lnTo>
                    <a:pt x="5481" y="4824"/>
                  </a:lnTo>
                  <a:lnTo>
                    <a:pt x="5471" y="4896"/>
                  </a:lnTo>
                  <a:lnTo>
                    <a:pt x="5459" y="4977"/>
                  </a:lnTo>
                  <a:lnTo>
                    <a:pt x="5445" y="5064"/>
                  </a:lnTo>
                  <a:lnTo>
                    <a:pt x="5428" y="5159"/>
                  </a:lnTo>
                  <a:lnTo>
                    <a:pt x="5409" y="5261"/>
                  </a:lnTo>
                  <a:lnTo>
                    <a:pt x="5206" y="6380"/>
                  </a:lnTo>
                  <a:lnTo>
                    <a:pt x="5206" y="6702"/>
                  </a:lnTo>
                  <a:lnTo>
                    <a:pt x="5288" y="6638"/>
                  </a:lnTo>
                  <a:lnTo>
                    <a:pt x="5368" y="6570"/>
                  </a:lnTo>
                  <a:lnTo>
                    <a:pt x="5445" y="6501"/>
                  </a:lnTo>
                  <a:lnTo>
                    <a:pt x="5521" y="6430"/>
                  </a:lnTo>
                  <a:lnTo>
                    <a:pt x="5595" y="6357"/>
                  </a:lnTo>
                  <a:lnTo>
                    <a:pt x="5667" y="6281"/>
                  </a:lnTo>
                  <a:lnTo>
                    <a:pt x="5737" y="6204"/>
                  </a:lnTo>
                  <a:lnTo>
                    <a:pt x="5804" y="6123"/>
                  </a:lnTo>
                  <a:lnTo>
                    <a:pt x="5870" y="6042"/>
                  </a:lnTo>
                  <a:lnTo>
                    <a:pt x="5933" y="5958"/>
                  </a:lnTo>
                  <a:lnTo>
                    <a:pt x="5994" y="5872"/>
                  </a:lnTo>
                  <a:lnTo>
                    <a:pt x="6053" y="5784"/>
                  </a:lnTo>
                  <a:lnTo>
                    <a:pt x="6109" y="5695"/>
                  </a:lnTo>
                  <a:lnTo>
                    <a:pt x="6163" y="5603"/>
                  </a:lnTo>
                  <a:lnTo>
                    <a:pt x="6215" y="5510"/>
                  </a:lnTo>
                  <a:lnTo>
                    <a:pt x="6264" y="5416"/>
                  </a:lnTo>
                  <a:lnTo>
                    <a:pt x="6310" y="5320"/>
                  </a:lnTo>
                  <a:lnTo>
                    <a:pt x="6354" y="5222"/>
                  </a:lnTo>
                  <a:lnTo>
                    <a:pt x="6395" y="5123"/>
                  </a:lnTo>
                  <a:lnTo>
                    <a:pt x="6434" y="5022"/>
                  </a:lnTo>
                  <a:lnTo>
                    <a:pt x="6469" y="4920"/>
                  </a:lnTo>
                  <a:lnTo>
                    <a:pt x="6502" y="4817"/>
                  </a:lnTo>
                  <a:lnTo>
                    <a:pt x="6532" y="4712"/>
                  </a:lnTo>
                  <a:lnTo>
                    <a:pt x="6560" y="4607"/>
                  </a:lnTo>
                  <a:lnTo>
                    <a:pt x="6583" y="4499"/>
                  </a:lnTo>
                  <a:lnTo>
                    <a:pt x="6604" y="4391"/>
                  </a:lnTo>
                  <a:lnTo>
                    <a:pt x="6623" y="4282"/>
                  </a:lnTo>
                  <a:lnTo>
                    <a:pt x="6637" y="4171"/>
                  </a:lnTo>
                  <a:lnTo>
                    <a:pt x="6648" y="4060"/>
                  </a:lnTo>
                  <a:lnTo>
                    <a:pt x="6657" y="3948"/>
                  </a:lnTo>
                  <a:lnTo>
                    <a:pt x="6662" y="3835"/>
                  </a:lnTo>
                  <a:lnTo>
                    <a:pt x="6663" y="3722"/>
                  </a:lnTo>
                  <a:close/>
                  <a:moveTo>
                    <a:pt x="5206" y="727"/>
                  </a:moveTo>
                  <a:lnTo>
                    <a:pt x="5150" y="685"/>
                  </a:lnTo>
                  <a:lnTo>
                    <a:pt x="5094" y="644"/>
                  </a:lnTo>
                  <a:lnTo>
                    <a:pt x="5036" y="604"/>
                  </a:lnTo>
                  <a:lnTo>
                    <a:pt x="4978" y="564"/>
                  </a:lnTo>
                  <a:lnTo>
                    <a:pt x="4918" y="526"/>
                  </a:lnTo>
                  <a:lnTo>
                    <a:pt x="4857" y="489"/>
                  </a:lnTo>
                  <a:lnTo>
                    <a:pt x="4797" y="454"/>
                  </a:lnTo>
                  <a:lnTo>
                    <a:pt x="4735" y="419"/>
                  </a:lnTo>
                  <a:lnTo>
                    <a:pt x="4673" y="386"/>
                  </a:lnTo>
                  <a:lnTo>
                    <a:pt x="4610" y="355"/>
                  </a:lnTo>
                  <a:lnTo>
                    <a:pt x="4546" y="324"/>
                  </a:lnTo>
                  <a:lnTo>
                    <a:pt x="4482" y="294"/>
                  </a:lnTo>
                  <a:lnTo>
                    <a:pt x="4416" y="267"/>
                  </a:lnTo>
                  <a:lnTo>
                    <a:pt x="4350" y="240"/>
                  </a:lnTo>
                  <a:lnTo>
                    <a:pt x="4284" y="215"/>
                  </a:lnTo>
                  <a:lnTo>
                    <a:pt x="4217" y="191"/>
                  </a:lnTo>
                  <a:lnTo>
                    <a:pt x="4149" y="168"/>
                  </a:lnTo>
                  <a:lnTo>
                    <a:pt x="4081" y="147"/>
                  </a:lnTo>
                  <a:lnTo>
                    <a:pt x="4012" y="127"/>
                  </a:lnTo>
                  <a:lnTo>
                    <a:pt x="3943" y="109"/>
                  </a:lnTo>
                  <a:lnTo>
                    <a:pt x="3873" y="92"/>
                  </a:lnTo>
                  <a:lnTo>
                    <a:pt x="3802" y="75"/>
                  </a:lnTo>
                  <a:lnTo>
                    <a:pt x="3732" y="62"/>
                  </a:lnTo>
                  <a:lnTo>
                    <a:pt x="3661" y="49"/>
                  </a:lnTo>
                  <a:lnTo>
                    <a:pt x="3589" y="38"/>
                  </a:lnTo>
                  <a:lnTo>
                    <a:pt x="3516" y="27"/>
                  </a:lnTo>
                  <a:lnTo>
                    <a:pt x="3444" y="19"/>
                  </a:lnTo>
                  <a:lnTo>
                    <a:pt x="3371" y="12"/>
                  </a:lnTo>
                  <a:lnTo>
                    <a:pt x="3297" y="7"/>
                  </a:lnTo>
                  <a:lnTo>
                    <a:pt x="3223" y="3"/>
                  </a:lnTo>
                  <a:lnTo>
                    <a:pt x="3149" y="1"/>
                  </a:lnTo>
                  <a:lnTo>
                    <a:pt x="3075" y="0"/>
                  </a:lnTo>
                  <a:lnTo>
                    <a:pt x="3054" y="0"/>
                  </a:lnTo>
                  <a:lnTo>
                    <a:pt x="3035" y="0"/>
                  </a:lnTo>
                  <a:lnTo>
                    <a:pt x="3015" y="0"/>
                  </a:lnTo>
                  <a:lnTo>
                    <a:pt x="2995" y="0"/>
                  </a:lnTo>
                  <a:lnTo>
                    <a:pt x="3021" y="3750"/>
                  </a:lnTo>
                  <a:lnTo>
                    <a:pt x="0" y="5624"/>
                  </a:lnTo>
                  <a:lnTo>
                    <a:pt x="60" y="5726"/>
                  </a:lnTo>
                  <a:lnTo>
                    <a:pt x="121" y="5824"/>
                  </a:lnTo>
                  <a:lnTo>
                    <a:pt x="188" y="5921"/>
                  </a:lnTo>
                  <a:lnTo>
                    <a:pt x="256" y="6015"/>
                  </a:lnTo>
                  <a:lnTo>
                    <a:pt x="327" y="6106"/>
                  </a:lnTo>
                  <a:lnTo>
                    <a:pt x="402" y="6196"/>
                  </a:lnTo>
                  <a:lnTo>
                    <a:pt x="478" y="6283"/>
                  </a:lnTo>
                  <a:lnTo>
                    <a:pt x="558" y="6366"/>
                  </a:lnTo>
                  <a:lnTo>
                    <a:pt x="640" y="6448"/>
                  </a:lnTo>
                  <a:lnTo>
                    <a:pt x="725" y="6527"/>
                  </a:lnTo>
                  <a:lnTo>
                    <a:pt x="811" y="6602"/>
                  </a:lnTo>
                  <a:lnTo>
                    <a:pt x="900" y="6674"/>
                  </a:lnTo>
                  <a:lnTo>
                    <a:pt x="992" y="6744"/>
                  </a:lnTo>
                  <a:lnTo>
                    <a:pt x="1086" y="6812"/>
                  </a:lnTo>
                  <a:lnTo>
                    <a:pt x="1181" y="6875"/>
                  </a:lnTo>
                  <a:lnTo>
                    <a:pt x="1279" y="6936"/>
                  </a:lnTo>
                  <a:lnTo>
                    <a:pt x="1380" y="6993"/>
                  </a:lnTo>
                  <a:lnTo>
                    <a:pt x="1481" y="7047"/>
                  </a:lnTo>
                  <a:lnTo>
                    <a:pt x="1585" y="7098"/>
                  </a:lnTo>
                  <a:lnTo>
                    <a:pt x="1690" y="7145"/>
                  </a:lnTo>
                  <a:lnTo>
                    <a:pt x="1798" y="7190"/>
                  </a:lnTo>
                  <a:lnTo>
                    <a:pt x="1907" y="7230"/>
                  </a:lnTo>
                  <a:lnTo>
                    <a:pt x="2017" y="7267"/>
                  </a:lnTo>
                  <a:lnTo>
                    <a:pt x="2130" y="7300"/>
                  </a:lnTo>
                  <a:lnTo>
                    <a:pt x="2244" y="7330"/>
                  </a:lnTo>
                  <a:lnTo>
                    <a:pt x="2358" y="7356"/>
                  </a:lnTo>
                  <a:lnTo>
                    <a:pt x="2476" y="7378"/>
                  </a:lnTo>
                  <a:lnTo>
                    <a:pt x="2593" y="7396"/>
                  </a:lnTo>
                  <a:lnTo>
                    <a:pt x="2712" y="7410"/>
                  </a:lnTo>
                  <a:lnTo>
                    <a:pt x="2831" y="7420"/>
                  </a:lnTo>
                  <a:lnTo>
                    <a:pt x="2953" y="7427"/>
                  </a:lnTo>
                  <a:lnTo>
                    <a:pt x="3075" y="7429"/>
                  </a:lnTo>
                  <a:lnTo>
                    <a:pt x="3133" y="7428"/>
                  </a:lnTo>
                  <a:lnTo>
                    <a:pt x="3191" y="7427"/>
                  </a:lnTo>
                  <a:lnTo>
                    <a:pt x="3250" y="7425"/>
                  </a:lnTo>
                  <a:lnTo>
                    <a:pt x="3307" y="7421"/>
                  </a:lnTo>
                  <a:lnTo>
                    <a:pt x="3365" y="7417"/>
                  </a:lnTo>
                  <a:lnTo>
                    <a:pt x="3422" y="7412"/>
                  </a:lnTo>
                  <a:lnTo>
                    <a:pt x="3480" y="7406"/>
                  </a:lnTo>
                  <a:lnTo>
                    <a:pt x="3537" y="7400"/>
                  </a:lnTo>
                  <a:lnTo>
                    <a:pt x="3594" y="7392"/>
                  </a:lnTo>
                  <a:lnTo>
                    <a:pt x="3650" y="7384"/>
                  </a:lnTo>
                  <a:lnTo>
                    <a:pt x="3706" y="7374"/>
                  </a:lnTo>
                  <a:lnTo>
                    <a:pt x="3761" y="7364"/>
                  </a:lnTo>
                  <a:lnTo>
                    <a:pt x="3817" y="7354"/>
                  </a:lnTo>
                  <a:lnTo>
                    <a:pt x="3872" y="7342"/>
                  </a:lnTo>
                  <a:lnTo>
                    <a:pt x="3926" y="7330"/>
                  </a:lnTo>
                  <a:lnTo>
                    <a:pt x="3979" y="7317"/>
                  </a:lnTo>
                  <a:lnTo>
                    <a:pt x="4411" y="4855"/>
                  </a:lnTo>
                  <a:lnTo>
                    <a:pt x="4411" y="4825"/>
                  </a:lnTo>
                  <a:lnTo>
                    <a:pt x="4411" y="4802"/>
                  </a:lnTo>
                  <a:lnTo>
                    <a:pt x="4411" y="4784"/>
                  </a:lnTo>
                  <a:lnTo>
                    <a:pt x="4411" y="4770"/>
                  </a:lnTo>
                  <a:lnTo>
                    <a:pt x="4411" y="4750"/>
                  </a:lnTo>
                  <a:lnTo>
                    <a:pt x="4411" y="4729"/>
                  </a:lnTo>
                  <a:lnTo>
                    <a:pt x="4411" y="4707"/>
                  </a:lnTo>
                  <a:lnTo>
                    <a:pt x="4411" y="4687"/>
                  </a:lnTo>
                  <a:lnTo>
                    <a:pt x="4401" y="4658"/>
                  </a:lnTo>
                  <a:lnTo>
                    <a:pt x="4390" y="4634"/>
                  </a:lnTo>
                  <a:lnTo>
                    <a:pt x="4386" y="4625"/>
                  </a:lnTo>
                  <a:lnTo>
                    <a:pt x="4380" y="4616"/>
                  </a:lnTo>
                  <a:lnTo>
                    <a:pt x="4376" y="4609"/>
                  </a:lnTo>
                  <a:lnTo>
                    <a:pt x="4370" y="4603"/>
                  </a:lnTo>
                  <a:lnTo>
                    <a:pt x="4366" y="4598"/>
                  </a:lnTo>
                  <a:lnTo>
                    <a:pt x="4360" y="4595"/>
                  </a:lnTo>
                  <a:lnTo>
                    <a:pt x="4355" y="4593"/>
                  </a:lnTo>
                  <a:lnTo>
                    <a:pt x="4350" y="4590"/>
                  </a:lnTo>
                  <a:lnTo>
                    <a:pt x="4340" y="4589"/>
                  </a:lnTo>
                  <a:lnTo>
                    <a:pt x="4329" y="4589"/>
                  </a:lnTo>
                  <a:lnTo>
                    <a:pt x="4317" y="4592"/>
                  </a:lnTo>
                  <a:lnTo>
                    <a:pt x="4305" y="4595"/>
                  </a:lnTo>
                  <a:lnTo>
                    <a:pt x="4293" y="4600"/>
                  </a:lnTo>
                  <a:lnTo>
                    <a:pt x="4281" y="4604"/>
                  </a:lnTo>
                  <a:lnTo>
                    <a:pt x="4257" y="4617"/>
                  </a:lnTo>
                  <a:lnTo>
                    <a:pt x="4233" y="4631"/>
                  </a:lnTo>
                  <a:lnTo>
                    <a:pt x="4209" y="4648"/>
                  </a:lnTo>
                  <a:lnTo>
                    <a:pt x="4183" y="4667"/>
                  </a:lnTo>
                  <a:lnTo>
                    <a:pt x="4157" y="4690"/>
                  </a:lnTo>
                  <a:lnTo>
                    <a:pt x="4127" y="4715"/>
                  </a:lnTo>
                  <a:lnTo>
                    <a:pt x="4102" y="4743"/>
                  </a:lnTo>
                  <a:lnTo>
                    <a:pt x="4077" y="4773"/>
                  </a:lnTo>
                  <a:lnTo>
                    <a:pt x="4052" y="4806"/>
                  </a:lnTo>
                  <a:lnTo>
                    <a:pt x="4027" y="4840"/>
                  </a:lnTo>
                  <a:lnTo>
                    <a:pt x="4001" y="4879"/>
                  </a:lnTo>
                  <a:lnTo>
                    <a:pt x="3976" y="4919"/>
                  </a:lnTo>
                  <a:lnTo>
                    <a:pt x="3950" y="4963"/>
                  </a:lnTo>
                  <a:lnTo>
                    <a:pt x="3925" y="5009"/>
                  </a:lnTo>
                  <a:lnTo>
                    <a:pt x="3915" y="5025"/>
                  </a:lnTo>
                  <a:lnTo>
                    <a:pt x="3905" y="5043"/>
                  </a:lnTo>
                  <a:lnTo>
                    <a:pt x="3895" y="5061"/>
                  </a:lnTo>
                  <a:lnTo>
                    <a:pt x="3885" y="5082"/>
                  </a:lnTo>
                  <a:lnTo>
                    <a:pt x="3864" y="5127"/>
                  </a:lnTo>
                  <a:lnTo>
                    <a:pt x="3844" y="5177"/>
                  </a:lnTo>
                  <a:lnTo>
                    <a:pt x="3831" y="5200"/>
                  </a:lnTo>
                  <a:lnTo>
                    <a:pt x="3819" y="5222"/>
                  </a:lnTo>
                  <a:lnTo>
                    <a:pt x="3807" y="5242"/>
                  </a:lnTo>
                  <a:lnTo>
                    <a:pt x="3793" y="5263"/>
                  </a:lnTo>
                  <a:lnTo>
                    <a:pt x="3781" y="5281"/>
                  </a:lnTo>
                  <a:lnTo>
                    <a:pt x="3768" y="5298"/>
                  </a:lnTo>
                  <a:lnTo>
                    <a:pt x="3756" y="5315"/>
                  </a:lnTo>
                  <a:lnTo>
                    <a:pt x="3743" y="5328"/>
                  </a:lnTo>
                  <a:lnTo>
                    <a:pt x="3730" y="5342"/>
                  </a:lnTo>
                  <a:lnTo>
                    <a:pt x="3717" y="5353"/>
                  </a:lnTo>
                  <a:lnTo>
                    <a:pt x="3705" y="5363"/>
                  </a:lnTo>
                  <a:lnTo>
                    <a:pt x="3692" y="5372"/>
                  </a:lnTo>
                  <a:lnTo>
                    <a:pt x="3680" y="5378"/>
                  </a:lnTo>
                  <a:lnTo>
                    <a:pt x="3668" y="5382"/>
                  </a:lnTo>
                  <a:lnTo>
                    <a:pt x="3654" y="5386"/>
                  </a:lnTo>
                  <a:lnTo>
                    <a:pt x="3642" y="5387"/>
                  </a:lnTo>
                  <a:lnTo>
                    <a:pt x="3637" y="5390"/>
                  </a:lnTo>
                  <a:lnTo>
                    <a:pt x="3632" y="5392"/>
                  </a:lnTo>
                  <a:lnTo>
                    <a:pt x="3627" y="5392"/>
                  </a:lnTo>
                  <a:lnTo>
                    <a:pt x="3621" y="5391"/>
                  </a:lnTo>
                  <a:lnTo>
                    <a:pt x="3611" y="5388"/>
                  </a:lnTo>
                  <a:lnTo>
                    <a:pt x="3601" y="5387"/>
                  </a:lnTo>
                  <a:lnTo>
                    <a:pt x="3597" y="5381"/>
                  </a:lnTo>
                  <a:lnTo>
                    <a:pt x="3594" y="5375"/>
                  </a:lnTo>
                  <a:lnTo>
                    <a:pt x="3590" y="5370"/>
                  </a:lnTo>
                  <a:lnTo>
                    <a:pt x="3588" y="5364"/>
                  </a:lnTo>
                  <a:lnTo>
                    <a:pt x="3582" y="5349"/>
                  </a:lnTo>
                  <a:lnTo>
                    <a:pt x="3575" y="5331"/>
                  </a:lnTo>
                  <a:lnTo>
                    <a:pt x="3575" y="5303"/>
                  </a:lnTo>
                  <a:lnTo>
                    <a:pt x="3577" y="5272"/>
                  </a:lnTo>
                  <a:lnTo>
                    <a:pt x="3582" y="5240"/>
                  </a:lnTo>
                  <a:lnTo>
                    <a:pt x="3589" y="5205"/>
                  </a:lnTo>
                  <a:lnTo>
                    <a:pt x="3595" y="5186"/>
                  </a:lnTo>
                  <a:lnTo>
                    <a:pt x="3600" y="5167"/>
                  </a:lnTo>
                  <a:lnTo>
                    <a:pt x="3607" y="5146"/>
                  </a:lnTo>
                  <a:lnTo>
                    <a:pt x="3614" y="5125"/>
                  </a:lnTo>
                  <a:lnTo>
                    <a:pt x="3622" y="5105"/>
                  </a:lnTo>
                  <a:lnTo>
                    <a:pt x="3632" y="5082"/>
                  </a:lnTo>
                  <a:lnTo>
                    <a:pt x="3643" y="5060"/>
                  </a:lnTo>
                  <a:lnTo>
                    <a:pt x="3655" y="5036"/>
                  </a:lnTo>
                  <a:lnTo>
                    <a:pt x="3676" y="4989"/>
                  </a:lnTo>
                  <a:lnTo>
                    <a:pt x="3701" y="4940"/>
                  </a:lnTo>
                  <a:lnTo>
                    <a:pt x="3728" y="4889"/>
                  </a:lnTo>
                  <a:lnTo>
                    <a:pt x="3758" y="4839"/>
                  </a:lnTo>
                  <a:lnTo>
                    <a:pt x="3775" y="4814"/>
                  </a:lnTo>
                  <a:lnTo>
                    <a:pt x="3791" y="4788"/>
                  </a:lnTo>
                  <a:lnTo>
                    <a:pt x="3809" y="4761"/>
                  </a:lnTo>
                  <a:lnTo>
                    <a:pt x="3828" y="4736"/>
                  </a:lnTo>
                  <a:lnTo>
                    <a:pt x="3848" y="4710"/>
                  </a:lnTo>
                  <a:lnTo>
                    <a:pt x="3867" y="4683"/>
                  </a:lnTo>
                  <a:lnTo>
                    <a:pt x="3890" y="4657"/>
                  </a:lnTo>
                  <a:lnTo>
                    <a:pt x="3912" y="4631"/>
                  </a:lnTo>
                  <a:lnTo>
                    <a:pt x="3937" y="4595"/>
                  </a:lnTo>
                  <a:lnTo>
                    <a:pt x="3962" y="4560"/>
                  </a:lnTo>
                  <a:lnTo>
                    <a:pt x="3989" y="4526"/>
                  </a:lnTo>
                  <a:lnTo>
                    <a:pt x="4015" y="4494"/>
                  </a:lnTo>
                  <a:lnTo>
                    <a:pt x="4042" y="4463"/>
                  </a:lnTo>
                  <a:lnTo>
                    <a:pt x="4069" y="4432"/>
                  </a:lnTo>
                  <a:lnTo>
                    <a:pt x="4096" y="4404"/>
                  </a:lnTo>
                  <a:lnTo>
                    <a:pt x="4124" y="4375"/>
                  </a:lnTo>
                  <a:lnTo>
                    <a:pt x="4152" y="4349"/>
                  </a:lnTo>
                  <a:lnTo>
                    <a:pt x="4180" y="4322"/>
                  </a:lnTo>
                  <a:lnTo>
                    <a:pt x="4209" y="4297"/>
                  </a:lnTo>
                  <a:lnTo>
                    <a:pt x="4238" y="4273"/>
                  </a:lnTo>
                  <a:lnTo>
                    <a:pt x="4267" y="4249"/>
                  </a:lnTo>
                  <a:lnTo>
                    <a:pt x="4297" y="4226"/>
                  </a:lnTo>
                  <a:lnTo>
                    <a:pt x="4327" y="4204"/>
                  </a:lnTo>
                  <a:lnTo>
                    <a:pt x="4357" y="4184"/>
                  </a:lnTo>
                  <a:lnTo>
                    <a:pt x="4390" y="4163"/>
                  </a:lnTo>
                  <a:lnTo>
                    <a:pt x="4423" y="4144"/>
                  </a:lnTo>
                  <a:lnTo>
                    <a:pt x="4455" y="4124"/>
                  </a:lnTo>
                  <a:lnTo>
                    <a:pt x="4489" y="4107"/>
                  </a:lnTo>
                  <a:lnTo>
                    <a:pt x="4523" y="4090"/>
                  </a:lnTo>
                  <a:lnTo>
                    <a:pt x="4556" y="4074"/>
                  </a:lnTo>
                  <a:lnTo>
                    <a:pt x="4590" y="4059"/>
                  </a:lnTo>
                  <a:lnTo>
                    <a:pt x="4625" y="4045"/>
                  </a:lnTo>
                  <a:lnTo>
                    <a:pt x="4660" y="4031"/>
                  </a:lnTo>
                  <a:lnTo>
                    <a:pt x="4696" y="4019"/>
                  </a:lnTo>
                  <a:lnTo>
                    <a:pt x="4731" y="4007"/>
                  </a:lnTo>
                  <a:lnTo>
                    <a:pt x="4769" y="3996"/>
                  </a:lnTo>
                  <a:lnTo>
                    <a:pt x="4805" y="3986"/>
                  </a:lnTo>
                  <a:lnTo>
                    <a:pt x="4844" y="3976"/>
                  </a:lnTo>
                  <a:lnTo>
                    <a:pt x="4884" y="3967"/>
                  </a:lnTo>
                  <a:lnTo>
                    <a:pt x="4924" y="3959"/>
                  </a:lnTo>
                  <a:lnTo>
                    <a:pt x="4963" y="3955"/>
                  </a:lnTo>
                  <a:lnTo>
                    <a:pt x="5002" y="3951"/>
                  </a:lnTo>
                  <a:lnTo>
                    <a:pt x="5040" y="3950"/>
                  </a:lnTo>
                  <a:lnTo>
                    <a:pt x="5075" y="3951"/>
                  </a:lnTo>
                  <a:lnTo>
                    <a:pt x="5110" y="3953"/>
                  </a:lnTo>
                  <a:lnTo>
                    <a:pt x="5143" y="3957"/>
                  </a:lnTo>
                  <a:lnTo>
                    <a:pt x="5160" y="3960"/>
                  </a:lnTo>
                  <a:lnTo>
                    <a:pt x="5175" y="3964"/>
                  </a:lnTo>
                  <a:lnTo>
                    <a:pt x="5191" y="3968"/>
                  </a:lnTo>
                  <a:lnTo>
                    <a:pt x="5206" y="3973"/>
                  </a:lnTo>
                  <a:lnTo>
                    <a:pt x="5206" y="3274"/>
                  </a:lnTo>
                  <a:lnTo>
                    <a:pt x="5196" y="3274"/>
                  </a:lnTo>
                  <a:lnTo>
                    <a:pt x="5184" y="3274"/>
                  </a:lnTo>
                  <a:lnTo>
                    <a:pt x="5171" y="3274"/>
                  </a:lnTo>
                  <a:lnTo>
                    <a:pt x="5152" y="3274"/>
                  </a:lnTo>
                  <a:lnTo>
                    <a:pt x="5125" y="3273"/>
                  </a:lnTo>
                  <a:lnTo>
                    <a:pt x="5098" y="3272"/>
                  </a:lnTo>
                  <a:lnTo>
                    <a:pt x="5070" y="3270"/>
                  </a:lnTo>
                  <a:lnTo>
                    <a:pt x="5044" y="3266"/>
                  </a:lnTo>
                  <a:lnTo>
                    <a:pt x="5019" y="3262"/>
                  </a:lnTo>
                  <a:lnTo>
                    <a:pt x="4993" y="3256"/>
                  </a:lnTo>
                  <a:lnTo>
                    <a:pt x="4968" y="3249"/>
                  </a:lnTo>
                  <a:lnTo>
                    <a:pt x="4943" y="3241"/>
                  </a:lnTo>
                  <a:lnTo>
                    <a:pt x="4920" y="3232"/>
                  </a:lnTo>
                  <a:lnTo>
                    <a:pt x="4897" y="3221"/>
                  </a:lnTo>
                  <a:lnTo>
                    <a:pt x="4875" y="3210"/>
                  </a:lnTo>
                  <a:lnTo>
                    <a:pt x="4853" y="3197"/>
                  </a:lnTo>
                  <a:lnTo>
                    <a:pt x="4832" y="3184"/>
                  </a:lnTo>
                  <a:lnTo>
                    <a:pt x="4812" y="3168"/>
                  </a:lnTo>
                  <a:lnTo>
                    <a:pt x="4793" y="3152"/>
                  </a:lnTo>
                  <a:lnTo>
                    <a:pt x="4774" y="3134"/>
                  </a:lnTo>
                  <a:lnTo>
                    <a:pt x="4758" y="3115"/>
                  </a:lnTo>
                  <a:lnTo>
                    <a:pt x="4741" y="3095"/>
                  </a:lnTo>
                  <a:lnTo>
                    <a:pt x="4726" y="3075"/>
                  </a:lnTo>
                  <a:lnTo>
                    <a:pt x="4711" y="3053"/>
                  </a:lnTo>
                  <a:lnTo>
                    <a:pt x="4698" y="3031"/>
                  </a:lnTo>
                  <a:lnTo>
                    <a:pt x="4686" y="3007"/>
                  </a:lnTo>
                  <a:lnTo>
                    <a:pt x="4675" y="2984"/>
                  </a:lnTo>
                  <a:lnTo>
                    <a:pt x="4665" y="2959"/>
                  </a:lnTo>
                  <a:lnTo>
                    <a:pt x="4656" y="2934"/>
                  </a:lnTo>
                  <a:lnTo>
                    <a:pt x="4648" y="2908"/>
                  </a:lnTo>
                  <a:lnTo>
                    <a:pt x="4642" y="2881"/>
                  </a:lnTo>
                  <a:lnTo>
                    <a:pt x="4636" y="2855"/>
                  </a:lnTo>
                  <a:lnTo>
                    <a:pt x="4632" y="2827"/>
                  </a:lnTo>
                  <a:lnTo>
                    <a:pt x="4629" y="2800"/>
                  </a:lnTo>
                  <a:lnTo>
                    <a:pt x="4627" y="2771"/>
                  </a:lnTo>
                  <a:lnTo>
                    <a:pt x="4626" y="2743"/>
                  </a:lnTo>
                  <a:lnTo>
                    <a:pt x="4627" y="2710"/>
                  </a:lnTo>
                  <a:lnTo>
                    <a:pt x="4630" y="2680"/>
                  </a:lnTo>
                  <a:lnTo>
                    <a:pt x="4633" y="2650"/>
                  </a:lnTo>
                  <a:lnTo>
                    <a:pt x="4639" y="2619"/>
                  </a:lnTo>
                  <a:lnTo>
                    <a:pt x="4646" y="2589"/>
                  </a:lnTo>
                  <a:lnTo>
                    <a:pt x="4654" y="2560"/>
                  </a:lnTo>
                  <a:lnTo>
                    <a:pt x="4664" y="2531"/>
                  </a:lnTo>
                  <a:lnTo>
                    <a:pt x="4675" y="2503"/>
                  </a:lnTo>
                  <a:lnTo>
                    <a:pt x="4688" y="2474"/>
                  </a:lnTo>
                  <a:lnTo>
                    <a:pt x="4703" y="2447"/>
                  </a:lnTo>
                  <a:lnTo>
                    <a:pt x="4718" y="2421"/>
                  </a:lnTo>
                  <a:lnTo>
                    <a:pt x="4735" y="2394"/>
                  </a:lnTo>
                  <a:lnTo>
                    <a:pt x="4753" y="2368"/>
                  </a:lnTo>
                  <a:lnTo>
                    <a:pt x="4772" y="2343"/>
                  </a:lnTo>
                  <a:lnTo>
                    <a:pt x="4793" y="2319"/>
                  </a:lnTo>
                  <a:lnTo>
                    <a:pt x="4815" y="2295"/>
                  </a:lnTo>
                  <a:lnTo>
                    <a:pt x="4836" y="2274"/>
                  </a:lnTo>
                  <a:lnTo>
                    <a:pt x="4857" y="2256"/>
                  </a:lnTo>
                  <a:lnTo>
                    <a:pt x="4879" y="2237"/>
                  </a:lnTo>
                  <a:lnTo>
                    <a:pt x="4901" y="2221"/>
                  </a:lnTo>
                  <a:lnTo>
                    <a:pt x="4924" y="2205"/>
                  </a:lnTo>
                  <a:lnTo>
                    <a:pt x="4948" y="2191"/>
                  </a:lnTo>
                  <a:lnTo>
                    <a:pt x="4971" y="2179"/>
                  </a:lnTo>
                  <a:lnTo>
                    <a:pt x="4995" y="2167"/>
                  </a:lnTo>
                  <a:lnTo>
                    <a:pt x="5021" y="2156"/>
                  </a:lnTo>
                  <a:lnTo>
                    <a:pt x="5046" y="2147"/>
                  </a:lnTo>
                  <a:lnTo>
                    <a:pt x="5072" y="2139"/>
                  </a:lnTo>
                  <a:lnTo>
                    <a:pt x="5098" y="2131"/>
                  </a:lnTo>
                  <a:lnTo>
                    <a:pt x="5125" y="2125"/>
                  </a:lnTo>
                  <a:lnTo>
                    <a:pt x="5151" y="2120"/>
                  </a:lnTo>
                  <a:lnTo>
                    <a:pt x="5179" y="2116"/>
                  </a:lnTo>
                  <a:lnTo>
                    <a:pt x="5206" y="2112"/>
                  </a:lnTo>
                  <a:lnTo>
                    <a:pt x="5206" y="727"/>
                  </a:lnTo>
                  <a:close/>
                  <a:moveTo>
                    <a:pt x="5206" y="6380"/>
                  </a:moveTo>
                  <a:lnTo>
                    <a:pt x="5206" y="6702"/>
                  </a:lnTo>
                  <a:lnTo>
                    <a:pt x="5194" y="6712"/>
                  </a:lnTo>
                  <a:lnTo>
                    <a:pt x="5178" y="6724"/>
                  </a:lnTo>
                  <a:lnTo>
                    <a:pt x="5159" y="6739"/>
                  </a:lnTo>
                  <a:lnTo>
                    <a:pt x="5139" y="6757"/>
                  </a:lnTo>
                  <a:lnTo>
                    <a:pt x="5206" y="638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4760" y="1049040"/>
              <a:ext cx="169560" cy="276480"/>
            </a:xfrm>
            <a:custGeom>
              <a:avLst/>
              <a:gdLst/>
              <a:ahLst/>
              <a:rect l="l" t="t" r="r" b="b"/>
              <a:pathLst>
                <a:path w="1592" h="3050">
                  <a:moveTo>
                    <a:pt x="41" y="2855"/>
                  </a:moveTo>
                  <a:lnTo>
                    <a:pt x="35" y="2866"/>
                  </a:lnTo>
                  <a:lnTo>
                    <a:pt x="31" y="2880"/>
                  </a:lnTo>
                  <a:lnTo>
                    <a:pt x="27" y="2897"/>
                  </a:lnTo>
                  <a:lnTo>
                    <a:pt x="22" y="2916"/>
                  </a:lnTo>
                  <a:lnTo>
                    <a:pt x="19" y="2936"/>
                  </a:lnTo>
                  <a:lnTo>
                    <a:pt x="17" y="2959"/>
                  </a:lnTo>
                  <a:lnTo>
                    <a:pt x="14" y="2983"/>
                  </a:lnTo>
                  <a:lnTo>
                    <a:pt x="13" y="3008"/>
                  </a:lnTo>
                  <a:lnTo>
                    <a:pt x="9" y="3013"/>
                  </a:lnTo>
                  <a:lnTo>
                    <a:pt x="6" y="3019"/>
                  </a:lnTo>
                  <a:lnTo>
                    <a:pt x="3" y="3024"/>
                  </a:lnTo>
                  <a:lnTo>
                    <a:pt x="2" y="3029"/>
                  </a:lnTo>
                  <a:lnTo>
                    <a:pt x="0" y="3039"/>
                  </a:lnTo>
                  <a:lnTo>
                    <a:pt x="0" y="3050"/>
                  </a:lnTo>
                  <a:lnTo>
                    <a:pt x="1066" y="3050"/>
                  </a:lnTo>
                  <a:lnTo>
                    <a:pt x="1066" y="3029"/>
                  </a:lnTo>
                  <a:lnTo>
                    <a:pt x="1068" y="3006"/>
                  </a:lnTo>
                  <a:lnTo>
                    <a:pt x="1071" y="2982"/>
                  </a:lnTo>
                  <a:lnTo>
                    <a:pt x="1075" y="2958"/>
                  </a:lnTo>
                  <a:lnTo>
                    <a:pt x="1078" y="2933"/>
                  </a:lnTo>
                  <a:lnTo>
                    <a:pt x="1083" y="2906"/>
                  </a:lnTo>
                  <a:lnTo>
                    <a:pt x="1088" y="2880"/>
                  </a:lnTo>
                  <a:lnTo>
                    <a:pt x="1093" y="2855"/>
                  </a:lnTo>
                  <a:lnTo>
                    <a:pt x="1592" y="0"/>
                  </a:lnTo>
                  <a:lnTo>
                    <a:pt x="1528" y="47"/>
                  </a:lnTo>
                  <a:lnTo>
                    <a:pt x="1463" y="92"/>
                  </a:lnTo>
                  <a:lnTo>
                    <a:pt x="1395" y="136"/>
                  </a:lnTo>
                  <a:lnTo>
                    <a:pt x="1328" y="179"/>
                  </a:lnTo>
                  <a:lnTo>
                    <a:pt x="1258" y="219"/>
                  </a:lnTo>
                  <a:lnTo>
                    <a:pt x="1188" y="259"/>
                  </a:lnTo>
                  <a:lnTo>
                    <a:pt x="1116" y="297"/>
                  </a:lnTo>
                  <a:lnTo>
                    <a:pt x="1043" y="332"/>
                  </a:lnTo>
                  <a:lnTo>
                    <a:pt x="969" y="368"/>
                  </a:lnTo>
                  <a:lnTo>
                    <a:pt x="894" y="400"/>
                  </a:lnTo>
                  <a:lnTo>
                    <a:pt x="819" y="432"/>
                  </a:lnTo>
                  <a:lnTo>
                    <a:pt x="742" y="460"/>
                  </a:lnTo>
                  <a:lnTo>
                    <a:pt x="665" y="488"/>
                  </a:lnTo>
                  <a:lnTo>
                    <a:pt x="588" y="514"/>
                  </a:lnTo>
                  <a:lnTo>
                    <a:pt x="510" y="538"/>
                  </a:lnTo>
                  <a:lnTo>
                    <a:pt x="432" y="560"/>
                  </a:lnTo>
                  <a:lnTo>
                    <a:pt x="41" y="2855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60480" y="1001520"/>
              <a:ext cx="372960" cy="333360"/>
            </a:xfrm>
            <a:custGeom>
              <a:avLst/>
              <a:gdLst/>
              <a:ahLst/>
              <a:rect l="l" t="t" r="r" b="b"/>
              <a:pathLst>
                <a:path w="3494" h="3680">
                  <a:moveTo>
                    <a:pt x="3238" y="1218"/>
                  </a:moveTo>
                  <a:lnTo>
                    <a:pt x="2860" y="2518"/>
                  </a:lnTo>
                  <a:lnTo>
                    <a:pt x="2860" y="2530"/>
                  </a:lnTo>
                  <a:lnTo>
                    <a:pt x="2859" y="2541"/>
                  </a:lnTo>
                  <a:lnTo>
                    <a:pt x="2857" y="2548"/>
                  </a:lnTo>
                  <a:lnTo>
                    <a:pt x="2854" y="2556"/>
                  </a:lnTo>
                  <a:lnTo>
                    <a:pt x="2851" y="2565"/>
                  </a:lnTo>
                  <a:lnTo>
                    <a:pt x="2847" y="2575"/>
                  </a:lnTo>
                  <a:lnTo>
                    <a:pt x="2832" y="2635"/>
                  </a:lnTo>
                  <a:lnTo>
                    <a:pt x="2819" y="2690"/>
                  </a:lnTo>
                  <a:lnTo>
                    <a:pt x="2808" y="2741"/>
                  </a:lnTo>
                  <a:lnTo>
                    <a:pt x="2798" y="2787"/>
                  </a:lnTo>
                  <a:lnTo>
                    <a:pt x="2790" y="2828"/>
                  </a:lnTo>
                  <a:lnTo>
                    <a:pt x="2784" y="2864"/>
                  </a:lnTo>
                  <a:lnTo>
                    <a:pt x="2780" y="2896"/>
                  </a:lnTo>
                  <a:lnTo>
                    <a:pt x="2779" y="2925"/>
                  </a:lnTo>
                  <a:lnTo>
                    <a:pt x="2779" y="2954"/>
                  </a:lnTo>
                  <a:lnTo>
                    <a:pt x="2781" y="2977"/>
                  </a:lnTo>
                  <a:lnTo>
                    <a:pt x="2783" y="2987"/>
                  </a:lnTo>
                  <a:lnTo>
                    <a:pt x="2785" y="2995"/>
                  </a:lnTo>
                  <a:lnTo>
                    <a:pt x="2788" y="3003"/>
                  </a:lnTo>
                  <a:lnTo>
                    <a:pt x="2792" y="3009"/>
                  </a:lnTo>
                  <a:lnTo>
                    <a:pt x="2798" y="3018"/>
                  </a:lnTo>
                  <a:lnTo>
                    <a:pt x="2803" y="3025"/>
                  </a:lnTo>
                  <a:lnTo>
                    <a:pt x="2809" y="3029"/>
                  </a:lnTo>
                  <a:lnTo>
                    <a:pt x="2815" y="3033"/>
                  </a:lnTo>
                  <a:lnTo>
                    <a:pt x="2821" y="3035"/>
                  </a:lnTo>
                  <a:lnTo>
                    <a:pt x="2829" y="3036"/>
                  </a:lnTo>
                  <a:lnTo>
                    <a:pt x="2837" y="3036"/>
                  </a:lnTo>
                  <a:lnTo>
                    <a:pt x="2847" y="3036"/>
                  </a:lnTo>
                  <a:lnTo>
                    <a:pt x="2855" y="3036"/>
                  </a:lnTo>
                  <a:lnTo>
                    <a:pt x="2864" y="3035"/>
                  </a:lnTo>
                  <a:lnTo>
                    <a:pt x="2873" y="3034"/>
                  </a:lnTo>
                  <a:lnTo>
                    <a:pt x="2883" y="3032"/>
                  </a:lnTo>
                  <a:lnTo>
                    <a:pt x="2902" y="3026"/>
                  </a:lnTo>
                  <a:lnTo>
                    <a:pt x="2921" y="3018"/>
                  </a:lnTo>
                  <a:lnTo>
                    <a:pt x="2939" y="3006"/>
                  </a:lnTo>
                  <a:lnTo>
                    <a:pt x="2959" y="2994"/>
                  </a:lnTo>
                  <a:lnTo>
                    <a:pt x="2979" y="2978"/>
                  </a:lnTo>
                  <a:lnTo>
                    <a:pt x="3000" y="2960"/>
                  </a:lnTo>
                  <a:lnTo>
                    <a:pt x="3021" y="2939"/>
                  </a:lnTo>
                  <a:lnTo>
                    <a:pt x="3043" y="2915"/>
                  </a:lnTo>
                  <a:lnTo>
                    <a:pt x="3065" y="2888"/>
                  </a:lnTo>
                  <a:lnTo>
                    <a:pt x="3087" y="2860"/>
                  </a:lnTo>
                  <a:lnTo>
                    <a:pt x="3111" y="2828"/>
                  </a:lnTo>
                  <a:lnTo>
                    <a:pt x="3135" y="2793"/>
                  </a:lnTo>
                  <a:lnTo>
                    <a:pt x="3159" y="2756"/>
                  </a:lnTo>
                  <a:lnTo>
                    <a:pt x="3184" y="2714"/>
                  </a:lnTo>
                  <a:lnTo>
                    <a:pt x="3207" y="2674"/>
                  </a:lnTo>
                  <a:lnTo>
                    <a:pt x="3228" y="2636"/>
                  </a:lnTo>
                  <a:lnTo>
                    <a:pt x="3249" y="2601"/>
                  </a:lnTo>
                  <a:lnTo>
                    <a:pt x="3270" y="2568"/>
                  </a:lnTo>
                  <a:lnTo>
                    <a:pt x="3290" y="2538"/>
                  </a:lnTo>
                  <a:lnTo>
                    <a:pt x="3307" y="2510"/>
                  </a:lnTo>
                  <a:lnTo>
                    <a:pt x="3326" y="2485"/>
                  </a:lnTo>
                  <a:lnTo>
                    <a:pt x="3343" y="2463"/>
                  </a:lnTo>
                  <a:lnTo>
                    <a:pt x="3358" y="2443"/>
                  </a:lnTo>
                  <a:lnTo>
                    <a:pt x="3374" y="2426"/>
                  </a:lnTo>
                  <a:lnTo>
                    <a:pt x="3387" y="2412"/>
                  </a:lnTo>
                  <a:lnTo>
                    <a:pt x="3400" y="2400"/>
                  </a:lnTo>
                  <a:lnTo>
                    <a:pt x="3412" y="2391"/>
                  </a:lnTo>
                  <a:lnTo>
                    <a:pt x="3422" y="2384"/>
                  </a:lnTo>
                  <a:lnTo>
                    <a:pt x="3432" y="2380"/>
                  </a:lnTo>
                  <a:lnTo>
                    <a:pt x="3440" y="2379"/>
                  </a:lnTo>
                  <a:lnTo>
                    <a:pt x="3445" y="2380"/>
                  </a:lnTo>
                  <a:lnTo>
                    <a:pt x="3451" y="2381"/>
                  </a:lnTo>
                  <a:lnTo>
                    <a:pt x="3455" y="2384"/>
                  </a:lnTo>
                  <a:lnTo>
                    <a:pt x="3461" y="2388"/>
                  </a:lnTo>
                  <a:lnTo>
                    <a:pt x="3471" y="2397"/>
                  </a:lnTo>
                  <a:lnTo>
                    <a:pt x="3481" y="2407"/>
                  </a:lnTo>
                  <a:lnTo>
                    <a:pt x="3485" y="2413"/>
                  </a:lnTo>
                  <a:lnTo>
                    <a:pt x="3488" y="2420"/>
                  </a:lnTo>
                  <a:lnTo>
                    <a:pt x="3491" y="2428"/>
                  </a:lnTo>
                  <a:lnTo>
                    <a:pt x="3493" y="2437"/>
                  </a:lnTo>
                  <a:lnTo>
                    <a:pt x="3494" y="2457"/>
                  </a:lnTo>
                  <a:lnTo>
                    <a:pt x="3494" y="2477"/>
                  </a:lnTo>
                  <a:lnTo>
                    <a:pt x="3493" y="2494"/>
                  </a:lnTo>
                  <a:lnTo>
                    <a:pt x="3490" y="2514"/>
                  </a:lnTo>
                  <a:lnTo>
                    <a:pt x="3483" y="2537"/>
                  </a:lnTo>
                  <a:lnTo>
                    <a:pt x="3474" y="2563"/>
                  </a:lnTo>
                  <a:lnTo>
                    <a:pt x="3463" y="2592"/>
                  </a:lnTo>
                  <a:lnTo>
                    <a:pt x="3449" y="2625"/>
                  </a:lnTo>
                  <a:lnTo>
                    <a:pt x="3432" y="2660"/>
                  </a:lnTo>
                  <a:lnTo>
                    <a:pt x="3413" y="2701"/>
                  </a:lnTo>
                  <a:lnTo>
                    <a:pt x="3392" y="2738"/>
                  </a:lnTo>
                  <a:lnTo>
                    <a:pt x="3370" y="2778"/>
                  </a:lnTo>
                  <a:lnTo>
                    <a:pt x="3346" y="2821"/>
                  </a:lnTo>
                  <a:lnTo>
                    <a:pt x="3320" y="2866"/>
                  </a:lnTo>
                  <a:lnTo>
                    <a:pt x="3293" y="2910"/>
                  </a:lnTo>
                  <a:lnTo>
                    <a:pt x="3263" y="2956"/>
                  </a:lnTo>
                  <a:lnTo>
                    <a:pt x="3232" y="3003"/>
                  </a:lnTo>
                  <a:lnTo>
                    <a:pt x="3198" y="3050"/>
                  </a:lnTo>
                  <a:lnTo>
                    <a:pt x="3172" y="3087"/>
                  </a:lnTo>
                  <a:lnTo>
                    <a:pt x="3147" y="3122"/>
                  </a:lnTo>
                  <a:lnTo>
                    <a:pt x="3122" y="3157"/>
                  </a:lnTo>
                  <a:lnTo>
                    <a:pt x="3096" y="3190"/>
                  </a:lnTo>
                  <a:lnTo>
                    <a:pt x="3071" y="3222"/>
                  </a:lnTo>
                  <a:lnTo>
                    <a:pt x="3045" y="3253"/>
                  </a:lnTo>
                  <a:lnTo>
                    <a:pt x="3019" y="3284"/>
                  </a:lnTo>
                  <a:lnTo>
                    <a:pt x="2993" y="3312"/>
                  </a:lnTo>
                  <a:lnTo>
                    <a:pt x="2967" y="3341"/>
                  </a:lnTo>
                  <a:lnTo>
                    <a:pt x="2942" y="3369"/>
                  </a:lnTo>
                  <a:lnTo>
                    <a:pt x="2915" y="3395"/>
                  </a:lnTo>
                  <a:lnTo>
                    <a:pt x="2889" y="3420"/>
                  </a:lnTo>
                  <a:lnTo>
                    <a:pt x="2861" y="3445"/>
                  </a:lnTo>
                  <a:lnTo>
                    <a:pt x="2834" y="3468"/>
                  </a:lnTo>
                  <a:lnTo>
                    <a:pt x="2807" y="3491"/>
                  </a:lnTo>
                  <a:lnTo>
                    <a:pt x="2779" y="3512"/>
                  </a:lnTo>
                  <a:lnTo>
                    <a:pt x="2752" y="3532"/>
                  </a:lnTo>
                  <a:lnTo>
                    <a:pt x="2724" y="3552"/>
                  </a:lnTo>
                  <a:lnTo>
                    <a:pt x="2697" y="3569"/>
                  </a:lnTo>
                  <a:lnTo>
                    <a:pt x="2670" y="3586"/>
                  </a:lnTo>
                  <a:lnTo>
                    <a:pt x="2643" y="3601"/>
                  </a:lnTo>
                  <a:lnTo>
                    <a:pt x="2617" y="3615"/>
                  </a:lnTo>
                  <a:lnTo>
                    <a:pt x="2591" y="3627"/>
                  </a:lnTo>
                  <a:lnTo>
                    <a:pt x="2565" y="3638"/>
                  </a:lnTo>
                  <a:lnTo>
                    <a:pt x="2539" y="3648"/>
                  </a:lnTo>
                  <a:lnTo>
                    <a:pt x="2513" y="3656"/>
                  </a:lnTo>
                  <a:lnTo>
                    <a:pt x="2488" y="3664"/>
                  </a:lnTo>
                  <a:lnTo>
                    <a:pt x="2462" y="3670"/>
                  </a:lnTo>
                  <a:lnTo>
                    <a:pt x="2437" y="3674"/>
                  </a:lnTo>
                  <a:lnTo>
                    <a:pt x="2411" y="3678"/>
                  </a:lnTo>
                  <a:lnTo>
                    <a:pt x="2386" y="3679"/>
                  </a:lnTo>
                  <a:lnTo>
                    <a:pt x="2361" y="3680"/>
                  </a:lnTo>
                  <a:lnTo>
                    <a:pt x="2336" y="3679"/>
                  </a:lnTo>
                  <a:lnTo>
                    <a:pt x="2312" y="3678"/>
                  </a:lnTo>
                  <a:lnTo>
                    <a:pt x="2288" y="3674"/>
                  </a:lnTo>
                  <a:lnTo>
                    <a:pt x="2264" y="3670"/>
                  </a:lnTo>
                  <a:lnTo>
                    <a:pt x="2242" y="3663"/>
                  </a:lnTo>
                  <a:lnTo>
                    <a:pt x="2220" y="3656"/>
                  </a:lnTo>
                  <a:lnTo>
                    <a:pt x="2198" y="3647"/>
                  </a:lnTo>
                  <a:lnTo>
                    <a:pt x="2177" y="3637"/>
                  </a:lnTo>
                  <a:lnTo>
                    <a:pt x="2156" y="3624"/>
                  </a:lnTo>
                  <a:lnTo>
                    <a:pt x="2136" y="3611"/>
                  </a:lnTo>
                  <a:lnTo>
                    <a:pt x="2116" y="3596"/>
                  </a:lnTo>
                  <a:lnTo>
                    <a:pt x="2098" y="3579"/>
                  </a:lnTo>
                  <a:lnTo>
                    <a:pt x="2079" y="3562"/>
                  </a:lnTo>
                  <a:lnTo>
                    <a:pt x="2060" y="3543"/>
                  </a:lnTo>
                  <a:lnTo>
                    <a:pt x="2041" y="3521"/>
                  </a:lnTo>
                  <a:lnTo>
                    <a:pt x="2024" y="3498"/>
                  </a:lnTo>
                  <a:lnTo>
                    <a:pt x="2009" y="3476"/>
                  </a:lnTo>
                  <a:lnTo>
                    <a:pt x="1995" y="3454"/>
                  </a:lnTo>
                  <a:lnTo>
                    <a:pt x="1983" y="3430"/>
                  </a:lnTo>
                  <a:lnTo>
                    <a:pt x="1971" y="3406"/>
                  </a:lnTo>
                  <a:lnTo>
                    <a:pt x="1960" y="3381"/>
                  </a:lnTo>
                  <a:lnTo>
                    <a:pt x="1950" y="3355"/>
                  </a:lnTo>
                  <a:lnTo>
                    <a:pt x="1941" y="3328"/>
                  </a:lnTo>
                  <a:lnTo>
                    <a:pt x="1933" y="3301"/>
                  </a:lnTo>
                  <a:lnTo>
                    <a:pt x="1925" y="3272"/>
                  </a:lnTo>
                  <a:lnTo>
                    <a:pt x="1920" y="3242"/>
                  </a:lnTo>
                  <a:lnTo>
                    <a:pt x="1914" y="3213"/>
                  </a:lnTo>
                  <a:lnTo>
                    <a:pt x="1910" y="3182"/>
                  </a:lnTo>
                  <a:lnTo>
                    <a:pt x="1906" y="3150"/>
                  </a:lnTo>
                  <a:lnTo>
                    <a:pt x="1904" y="3118"/>
                  </a:lnTo>
                  <a:lnTo>
                    <a:pt x="1903" y="3084"/>
                  </a:lnTo>
                  <a:lnTo>
                    <a:pt x="1902" y="3050"/>
                  </a:lnTo>
                  <a:lnTo>
                    <a:pt x="1903" y="3018"/>
                  </a:lnTo>
                  <a:lnTo>
                    <a:pt x="1904" y="2982"/>
                  </a:lnTo>
                  <a:lnTo>
                    <a:pt x="1908" y="2946"/>
                  </a:lnTo>
                  <a:lnTo>
                    <a:pt x="1911" y="2907"/>
                  </a:lnTo>
                  <a:lnTo>
                    <a:pt x="1915" y="2867"/>
                  </a:lnTo>
                  <a:lnTo>
                    <a:pt x="1920" y="2827"/>
                  </a:lnTo>
                  <a:lnTo>
                    <a:pt x="1924" y="2784"/>
                  </a:lnTo>
                  <a:lnTo>
                    <a:pt x="1930" y="2743"/>
                  </a:lnTo>
                  <a:lnTo>
                    <a:pt x="1940" y="2701"/>
                  </a:lnTo>
                  <a:lnTo>
                    <a:pt x="1950" y="2656"/>
                  </a:lnTo>
                  <a:lnTo>
                    <a:pt x="1961" y="2611"/>
                  </a:lnTo>
                  <a:lnTo>
                    <a:pt x="1972" y="2567"/>
                  </a:lnTo>
                  <a:lnTo>
                    <a:pt x="1983" y="2520"/>
                  </a:lnTo>
                  <a:lnTo>
                    <a:pt x="1996" y="2474"/>
                  </a:lnTo>
                  <a:lnTo>
                    <a:pt x="2009" y="2426"/>
                  </a:lnTo>
                  <a:lnTo>
                    <a:pt x="2024" y="2379"/>
                  </a:lnTo>
                  <a:lnTo>
                    <a:pt x="2388" y="1106"/>
                  </a:lnTo>
                  <a:lnTo>
                    <a:pt x="2398" y="1080"/>
                  </a:lnTo>
                  <a:lnTo>
                    <a:pt x="2406" y="1052"/>
                  </a:lnTo>
                  <a:lnTo>
                    <a:pt x="2414" y="1023"/>
                  </a:lnTo>
                  <a:lnTo>
                    <a:pt x="2420" y="996"/>
                  </a:lnTo>
                  <a:lnTo>
                    <a:pt x="2426" y="968"/>
                  </a:lnTo>
                  <a:lnTo>
                    <a:pt x="2431" y="943"/>
                  </a:lnTo>
                  <a:lnTo>
                    <a:pt x="2437" y="918"/>
                  </a:lnTo>
                  <a:lnTo>
                    <a:pt x="2442" y="896"/>
                  </a:lnTo>
                  <a:lnTo>
                    <a:pt x="2447" y="871"/>
                  </a:lnTo>
                  <a:lnTo>
                    <a:pt x="2450" y="846"/>
                  </a:lnTo>
                  <a:lnTo>
                    <a:pt x="2452" y="823"/>
                  </a:lnTo>
                  <a:lnTo>
                    <a:pt x="2453" y="801"/>
                  </a:lnTo>
                  <a:lnTo>
                    <a:pt x="2456" y="762"/>
                  </a:lnTo>
                  <a:lnTo>
                    <a:pt x="2456" y="728"/>
                  </a:lnTo>
                  <a:lnTo>
                    <a:pt x="2456" y="713"/>
                  </a:lnTo>
                  <a:lnTo>
                    <a:pt x="2456" y="699"/>
                  </a:lnTo>
                  <a:lnTo>
                    <a:pt x="2454" y="687"/>
                  </a:lnTo>
                  <a:lnTo>
                    <a:pt x="2452" y="676"/>
                  </a:lnTo>
                  <a:lnTo>
                    <a:pt x="2449" y="666"/>
                  </a:lnTo>
                  <a:lnTo>
                    <a:pt x="2444" y="658"/>
                  </a:lnTo>
                  <a:lnTo>
                    <a:pt x="2441" y="653"/>
                  </a:lnTo>
                  <a:lnTo>
                    <a:pt x="2438" y="650"/>
                  </a:lnTo>
                  <a:lnTo>
                    <a:pt x="2433" y="648"/>
                  </a:lnTo>
                  <a:lnTo>
                    <a:pt x="2429" y="644"/>
                  </a:lnTo>
                  <a:lnTo>
                    <a:pt x="2422" y="634"/>
                  </a:lnTo>
                  <a:lnTo>
                    <a:pt x="2416" y="626"/>
                  </a:lnTo>
                  <a:lnTo>
                    <a:pt x="2408" y="619"/>
                  </a:lnTo>
                  <a:lnTo>
                    <a:pt x="2400" y="613"/>
                  </a:lnTo>
                  <a:lnTo>
                    <a:pt x="2390" y="609"/>
                  </a:lnTo>
                  <a:lnTo>
                    <a:pt x="2382" y="605"/>
                  </a:lnTo>
                  <a:lnTo>
                    <a:pt x="2372" y="603"/>
                  </a:lnTo>
                  <a:lnTo>
                    <a:pt x="2361" y="602"/>
                  </a:lnTo>
                  <a:lnTo>
                    <a:pt x="2351" y="603"/>
                  </a:lnTo>
                  <a:lnTo>
                    <a:pt x="2341" y="604"/>
                  </a:lnTo>
                  <a:lnTo>
                    <a:pt x="2330" y="606"/>
                  </a:lnTo>
                  <a:lnTo>
                    <a:pt x="2319" y="610"/>
                  </a:lnTo>
                  <a:lnTo>
                    <a:pt x="2306" y="614"/>
                  </a:lnTo>
                  <a:lnTo>
                    <a:pt x="2294" y="620"/>
                  </a:lnTo>
                  <a:lnTo>
                    <a:pt x="2282" y="626"/>
                  </a:lnTo>
                  <a:lnTo>
                    <a:pt x="2270" y="634"/>
                  </a:lnTo>
                  <a:lnTo>
                    <a:pt x="2258" y="642"/>
                  </a:lnTo>
                  <a:lnTo>
                    <a:pt x="2245" y="651"/>
                  </a:lnTo>
                  <a:lnTo>
                    <a:pt x="2231" y="661"/>
                  </a:lnTo>
                  <a:lnTo>
                    <a:pt x="2218" y="673"/>
                  </a:lnTo>
                  <a:lnTo>
                    <a:pt x="2189" y="698"/>
                  </a:lnTo>
                  <a:lnTo>
                    <a:pt x="2161" y="727"/>
                  </a:lnTo>
                  <a:lnTo>
                    <a:pt x="2130" y="759"/>
                  </a:lnTo>
                  <a:lnTo>
                    <a:pt x="2099" y="795"/>
                  </a:lnTo>
                  <a:lnTo>
                    <a:pt x="2067" y="835"/>
                  </a:lnTo>
                  <a:lnTo>
                    <a:pt x="2032" y="880"/>
                  </a:lnTo>
                  <a:lnTo>
                    <a:pt x="1998" y="927"/>
                  </a:lnTo>
                  <a:lnTo>
                    <a:pt x="1963" y="979"/>
                  </a:lnTo>
                  <a:lnTo>
                    <a:pt x="1926" y="1034"/>
                  </a:lnTo>
                  <a:lnTo>
                    <a:pt x="1889" y="1092"/>
                  </a:lnTo>
                  <a:lnTo>
                    <a:pt x="1849" y="1153"/>
                  </a:lnTo>
                  <a:lnTo>
                    <a:pt x="1809" y="1216"/>
                  </a:lnTo>
                  <a:lnTo>
                    <a:pt x="1771" y="1280"/>
                  </a:lnTo>
                  <a:lnTo>
                    <a:pt x="1732" y="1346"/>
                  </a:lnTo>
                  <a:lnTo>
                    <a:pt x="1694" y="1414"/>
                  </a:lnTo>
                  <a:lnTo>
                    <a:pt x="1658" y="1484"/>
                  </a:lnTo>
                  <a:lnTo>
                    <a:pt x="1621" y="1556"/>
                  </a:lnTo>
                  <a:lnTo>
                    <a:pt x="1585" y="1628"/>
                  </a:lnTo>
                  <a:lnTo>
                    <a:pt x="1551" y="1704"/>
                  </a:lnTo>
                  <a:lnTo>
                    <a:pt x="1515" y="1781"/>
                  </a:lnTo>
                  <a:lnTo>
                    <a:pt x="1482" y="1860"/>
                  </a:lnTo>
                  <a:lnTo>
                    <a:pt x="1449" y="1940"/>
                  </a:lnTo>
                  <a:lnTo>
                    <a:pt x="1416" y="2022"/>
                  </a:lnTo>
                  <a:lnTo>
                    <a:pt x="1384" y="2107"/>
                  </a:lnTo>
                  <a:lnTo>
                    <a:pt x="1353" y="2193"/>
                  </a:lnTo>
                  <a:lnTo>
                    <a:pt x="1322" y="2281"/>
                  </a:lnTo>
                  <a:lnTo>
                    <a:pt x="1302" y="2332"/>
                  </a:lnTo>
                  <a:lnTo>
                    <a:pt x="1283" y="2382"/>
                  </a:lnTo>
                  <a:lnTo>
                    <a:pt x="1265" y="2434"/>
                  </a:lnTo>
                  <a:lnTo>
                    <a:pt x="1246" y="2486"/>
                  </a:lnTo>
                  <a:lnTo>
                    <a:pt x="1228" y="2539"/>
                  </a:lnTo>
                  <a:lnTo>
                    <a:pt x="1211" y="2593"/>
                  </a:lnTo>
                  <a:lnTo>
                    <a:pt x="1194" y="2647"/>
                  </a:lnTo>
                  <a:lnTo>
                    <a:pt x="1177" y="2703"/>
                  </a:lnTo>
                  <a:lnTo>
                    <a:pt x="1161" y="2759"/>
                  </a:lnTo>
                  <a:lnTo>
                    <a:pt x="1145" y="2815"/>
                  </a:lnTo>
                  <a:lnTo>
                    <a:pt x="1129" y="2874"/>
                  </a:lnTo>
                  <a:lnTo>
                    <a:pt x="1113" y="2932"/>
                  </a:lnTo>
                  <a:lnTo>
                    <a:pt x="1098" y="2992"/>
                  </a:lnTo>
                  <a:lnTo>
                    <a:pt x="1082" y="3052"/>
                  </a:lnTo>
                  <a:lnTo>
                    <a:pt x="1068" y="3114"/>
                  </a:lnTo>
                  <a:lnTo>
                    <a:pt x="1053" y="3176"/>
                  </a:lnTo>
                  <a:lnTo>
                    <a:pt x="1039" y="3225"/>
                  </a:lnTo>
                  <a:lnTo>
                    <a:pt x="1026" y="3270"/>
                  </a:lnTo>
                  <a:lnTo>
                    <a:pt x="1012" y="3312"/>
                  </a:lnTo>
                  <a:lnTo>
                    <a:pt x="997" y="3352"/>
                  </a:lnTo>
                  <a:lnTo>
                    <a:pt x="982" y="3388"/>
                  </a:lnTo>
                  <a:lnTo>
                    <a:pt x="966" y="3421"/>
                  </a:lnTo>
                  <a:lnTo>
                    <a:pt x="951" y="3452"/>
                  </a:lnTo>
                  <a:lnTo>
                    <a:pt x="934" y="3478"/>
                  </a:lnTo>
                  <a:lnTo>
                    <a:pt x="918" y="3503"/>
                  </a:lnTo>
                  <a:lnTo>
                    <a:pt x="901" y="3524"/>
                  </a:lnTo>
                  <a:lnTo>
                    <a:pt x="892" y="3533"/>
                  </a:lnTo>
                  <a:lnTo>
                    <a:pt x="884" y="3541"/>
                  </a:lnTo>
                  <a:lnTo>
                    <a:pt x="876" y="3550"/>
                  </a:lnTo>
                  <a:lnTo>
                    <a:pt x="867" y="3556"/>
                  </a:lnTo>
                  <a:lnTo>
                    <a:pt x="858" y="3562"/>
                  </a:lnTo>
                  <a:lnTo>
                    <a:pt x="849" y="3568"/>
                  </a:lnTo>
                  <a:lnTo>
                    <a:pt x="840" y="3572"/>
                  </a:lnTo>
                  <a:lnTo>
                    <a:pt x="832" y="3576"/>
                  </a:lnTo>
                  <a:lnTo>
                    <a:pt x="823" y="3578"/>
                  </a:lnTo>
                  <a:lnTo>
                    <a:pt x="814" y="3580"/>
                  </a:lnTo>
                  <a:lnTo>
                    <a:pt x="805" y="3582"/>
                  </a:lnTo>
                  <a:lnTo>
                    <a:pt x="796" y="3582"/>
                  </a:lnTo>
                  <a:lnTo>
                    <a:pt x="189" y="3582"/>
                  </a:lnTo>
                  <a:lnTo>
                    <a:pt x="184" y="3582"/>
                  </a:lnTo>
                  <a:lnTo>
                    <a:pt x="179" y="3579"/>
                  </a:lnTo>
                  <a:lnTo>
                    <a:pt x="174" y="3576"/>
                  </a:lnTo>
                  <a:lnTo>
                    <a:pt x="169" y="3571"/>
                  </a:lnTo>
                  <a:lnTo>
                    <a:pt x="164" y="3566"/>
                  </a:lnTo>
                  <a:lnTo>
                    <a:pt x="159" y="3559"/>
                  </a:lnTo>
                  <a:lnTo>
                    <a:pt x="153" y="3550"/>
                  </a:lnTo>
                  <a:lnTo>
                    <a:pt x="149" y="3540"/>
                  </a:lnTo>
                  <a:lnTo>
                    <a:pt x="143" y="3535"/>
                  </a:lnTo>
                  <a:lnTo>
                    <a:pt x="139" y="3528"/>
                  </a:lnTo>
                  <a:lnTo>
                    <a:pt x="135" y="3520"/>
                  </a:lnTo>
                  <a:lnTo>
                    <a:pt x="130" y="3511"/>
                  </a:lnTo>
                  <a:lnTo>
                    <a:pt x="127" y="3501"/>
                  </a:lnTo>
                  <a:lnTo>
                    <a:pt x="124" y="3491"/>
                  </a:lnTo>
                  <a:lnTo>
                    <a:pt x="122" y="3481"/>
                  </a:lnTo>
                  <a:lnTo>
                    <a:pt x="121" y="3470"/>
                  </a:lnTo>
                  <a:lnTo>
                    <a:pt x="122" y="3459"/>
                  </a:lnTo>
                  <a:lnTo>
                    <a:pt x="124" y="3448"/>
                  </a:lnTo>
                  <a:lnTo>
                    <a:pt x="125" y="3441"/>
                  </a:lnTo>
                  <a:lnTo>
                    <a:pt x="128" y="3433"/>
                  </a:lnTo>
                  <a:lnTo>
                    <a:pt x="131" y="3425"/>
                  </a:lnTo>
                  <a:lnTo>
                    <a:pt x="136" y="3414"/>
                  </a:lnTo>
                  <a:lnTo>
                    <a:pt x="136" y="3395"/>
                  </a:lnTo>
                  <a:lnTo>
                    <a:pt x="136" y="3387"/>
                  </a:lnTo>
                  <a:lnTo>
                    <a:pt x="662" y="1133"/>
                  </a:lnTo>
                  <a:lnTo>
                    <a:pt x="666" y="1113"/>
                  </a:lnTo>
                  <a:lnTo>
                    <a:pt x="671" y="1090"/>
                  </a:lnTo>
                  <a:lnTo>
                    <a:pt x="677" y="1066"/>
                  </a:lnTo>
                  <a:lnTo>
                    <a:pt x="681" y="1042"/>
                  </a:lnTo>
                  <a:lnTo>
                    <a:pt x="687" y="1016"/>
                  </a:lnTo>
                  <a:lnTo>
                    <a:pt x="691" y="990"/>
                  </a:lnTo>
                  <a:lnTo>
                    <a:pt x="697" y="964"/>
                  </a:lnTo>
                  <a:lnTo>
                    <a:pt x="701" y="939"/>
                  </a:lnTo>
                  <a:lnTo>
                    <a:pt x="706" y="912"/>
                  </a:lnTo>
                  <a:lnTo>
                    <a:pt x="710" y="888"/>
                  </a:lnTo>
                  <a:lnTo>
                    <a:pt x="712" y="865"/>
                  </a:lnTo>
                  <a:lnTo>
                    <a:pt x="713" y="843"/>
                  </a:lnTo>
                  <a:lnTo>
                    <a:pt x="715" y="805"/>
                  </a:lnTo>
                  <a:lnTo>
                    <a:pt x="716" y="770"/>
                  </a:lnTo>
                  <a:lnTo>
                    <a:pt x="715" y="734"/>
                  </a:lnTo>
                  <a:lnTo>
                    <a:pt x="713" y="704"/>
                  </a:lnTo>
                  <a:lnTo>
                    <a:pt x="712" y="691"/>
                  </a:lnTo>
                  <a:lnTo>
                    <a:pt x="710" y="680"/>
                  </a:lnTo>
                  <a:lnTo>
                    <a:pt x="706" y="668"/>
                  </a:lnTo>
                  <a:lnTo>
                    <a:pt x="701" y="658"/>
                  </a:lnTo>
                  <a:lnTo>
                    <a:pt x="696" y="653"/>
                  </a:lnTo>
                  <a:lnTo>
                    <a:pt x="689" y="648"/>
                  </a:lnTo>
                  <a:lnTo>
                    <a:pt x="681" y="643"/>
                  </a:lnTo>
                  <a:lnTo>
                    <a:pt x="674" y="638"/>
                  </a:lnTo>
                  <a:lnTo>
                    <a:pt x="664" y="635"/>
                  </a:lnTo>
                  <a:lnTo>
                    <a:pt x="655" y="633"/>
                  </a:lnTo>
                  <a:lnTo>
                    <a:pt x="645" y="630"/>
                  </a:lnTo>
                  <a:lnTo>
                    <a:pt x="634" y="630"/>
                  </a:lnTo>
                  <a:lnTo>
                    <a:pt x="618" y="632"/>
                  </a:lnTo>
                  <a:lnTo>
                    <a:pt x="603" y="634"/>
                  </a:lnTo>
                  <a:lnTo>
                    <a:pt x="586" y="640"/>
                  </a:lnTo>
                  <a:lnTo>
                    <a:pt x="569" y="646"/>
                  </a:lnTo>
                  <a:lnTo>
                    <a:pt x="551" y="656"/>
                  </a:lnTo>
                  <a:lnTo>
                    <a:pt x="532" y="667"/>
                  </a:lnTo>
                  <a:lnTo>
                    <a:pt x="513" y="681"/>
                  </a:lnTo>
                  <a:lnTo>
                    <a:pt x="495" y="697"/>
                  </a:lnTo>
                  <a:lnTo>
                    <a:pt x="475" y="715"/>
                  </a:lnTo>
                  <a:lnTo>
                    <a:pt x="454" y="736"/>
                  </a:lnTo>
                  <a:lnTo>
                    <a:pt x="434" y="759"/>
                  </a:lnTo>
                  <a:lnTo>
                    <a:pt x="412" y="784"/>
                  </a:lnTo>
                  <a:lnTo>
                    <a:pt x="391" y="811"/>
                  </a:lnTo>
                  <a:lnTo>
                    <a:pt x="369" y="842"/>
                  </a:lnTo>
                  <a:lnTo>
                    <a:pt x="347" y="874"/>
                  </a:lnTo>
                  <a:lnTo>
                    <a:pt x="325" y="910"/>
                  </a:lnTo>
                  <a:lnTo>
                    <a:pt x="280" y="974"/>
                  </a:lnTo>
                  <a:lnTo>
                    <a:pt x="241" y="1028"/>
                  </a:lnTo>
                  <a:lnTo>
                    <a:pt x="222" y="1052"/>
                  </a:lnTo>
                  <a:lnTo>
                    <a:pt x="204" y="1074"/>
                  </a:lnTo>
                  <a:lnTo>
                    <a:pt x="188" y="1093"/>
                  </a:lnTo>
                  <a:lnTo>
                    <a:pt x="172" y="1112"/>
                  </a:lnTo>
                  <a:lnTo>
                    <a:pt x="158" y="1126"/>
                  </a:lnTo>
                  <a:lnTo>
                    <a:pt x="143" y="1140"/>
                  </a:lnTo>
                  <a:lnTo>
                    <a:pt x="131" y="1151"/>
                  </a:lnTo>
                  <a:lnTo>
                    <a:pt x="119" y="1160"/>
                  </a:lnTo>
                  <a:lnTo>
                    <a:pt x="108" y="1167"/>
                  </a:lnTo>
                  <a:lnTo>
                    <a:pt x="98" y="1172"/>
                  </a:lnTo>
                  <a:lnTo>
                    <a:pt x="89" y="1175"/>
                  </a:lnTo>
                  <a:lnTo>
                    <a:pt x="82" y="1176"/>
                  </a:lnTo>
                  <a:lnTo>
                    <a:pt x="64" y="1176"/>
                  </a:lnTo>
                  <a:lnTo>
                    <a:pt x="50" y="1175"/>
                  </a:lnTo>
                  <a:lnTo>
                    <a:pt x="43" y="1172"/>
                  </a:lnTo>
                  <a:lnTo>
                    <a:pt x="37" y="1170"/>
                  </a:lnTo>
                  <a:lnTo>
                    <a:pt x="32" y="1167"/>
                  </a:lnTo>
                  <a:lnTo>
                    <a:pt x="27" y="1162"/>
                  </a:lnTo>
                  <a:lnTo>
                    <a:pt x="17" y="1143"/>
                  </a:lnTo>
                  <a:lnTo>
                    <a:pt x="9" y="1126"/>
                  </a:lnTo>
                  <a:lnTo>
                    <a:pt x="5" y="1118"/>
                  </a:lnTo>
                  <a:lnTo>
                    <a:pt x="3" y="1110"/>
                  </a:lnTo>
                  <a:lnTo>
                    <a:pt x="1" y="1101"/>
                  </a:lnTo>
                  <a:lnTo>
                    <a:pt x="0" y="1092"/>
                  </a:lnTo>
                  <a:lnTo>
                    <a:pt x="2" y="1075"/>
                  </a:lnTo>
                  <a:lnTo>
                    <a:pt x="5" y="1055"/>
                  </a:lnTo>
                  <a:lnTo>
                    <a:pt x="12" y="1034"/>
                  </a:lnTo>
                  <a:lnTo>
                    <a:pt x="21" y="1010"/>
                  </a:lnTo>
                  <a:lnTo>
                    <a:pt x="32" y="984"/>
                  </a:lnTo>
                  <a:lnTo>
                    <a:pt x="46" y="956"/>
                  </a:lnTo>
                  <a:lnTo>
                    <a:pt x="63" y="927"/>
                  </a:lnTo>
                  <a:lnTo>
                    <a:pt x="82" y="896"/>
                  </a:lnTo>
                  <a:lnTo>
                    <a:pt x="103" y="863"/>
                  </a:lnTo>
                  <a:lnTo>
                    <a:pt x="127" y="825"/>
                  </a:lnTo>
                  <a:lnTo>
                    <a:pt x="154" y="785"/>
                  </a:lnTo>
                  <a:lnTo>
                    <a:pt x="184" y="740"/>
                  </a:lnTo>
                  <a:lnTo>
                    <a:pt x="217" y="693"/>
                  </a:lnTo>
                  <a:lnTo>
                    <a:pt x="254" y="642"/>
                  </a:lnTo>
                  <a:lnTo>
                    <a:pt x="294" y="589"/>
                  </a:lnTo>
                  <a:lnTo>
                    <a:pt x="338" y="532"/>
                  </a:lnTo>
                  <a:lnTo>
                    <a:pt x="389" y="471"/>
                  </a:lnTo>
                  <a:lnTo>
                    <a:pt x="439" y="412"/>
                  </a:lnTo>
                  <a:lnTo>
                    <a:pt x="465" y="384"/>
                  </a:lnTo>
                  <a:lnTo>
                    <a:pt x="490" y="357"/>
                  </a:lnTo>
                  <a:lnTo>
                    <a:pt x="516" y="330"/>
                  </a:lnTo>
                  <a:lnTo>
                    <a:pt x="541" y="305"/>
                  </a:lnTo>
                  <a:lnTo>
                    <a:pt x="568" y="281"/>
                  </a:lnTo>
                  <a:lnTo>
                    <a:pt x="594" y="257"/>
                  </a:lnTo>
                  <a:lnTo>
                    <a:pt x="621" y="235"/>
                  </a:lnTo>
                  <a:lnTo>
                    <a:pt x="647" y="213"/>
                  </a:lnTo>
                  <a:lnTo>
                    <a:pt x="674" y="194"/>
                  </a:lnTo>
                  <a:lnTo>
                    <a:pt x="700" y="174"/>
                  </a:lnTo>
                  <a:lnTo>
                    <a:pt x="728" y="157"/>
                  </a:lnTo>
                  <a:lnTo>
                    <a:pt x="755" y="140"/>
                  </a:lnTo>
                  <a:lnTo>
                    <a:pt x="781" y="123"/>
                  </a:lnTo>
                  <a:lnTo>
                    <a:pt x="806" y="107"/>
                  </a:lnTo>
                  <a:lnTo>
                    <a:pt x="832" y="91"/>
                  </a:lnTo>
                  <a:lnTo>
                    <a:pt x="857" y="77"/>
                  </a:lnTo>
                  <a:lnTo>
                    <a:pt x="881" y="64"/>
                  </a:lnTo>
                  <a:lnTo>
                    <a:pt x="907" y="53"/>
                  </a:lnTo>
                  <a:lnTo>
                    <a:pt x="932" y="43"/>
                  </a:lnTo>
                  <a:lnTo>
                    <a:pt x="956" y="34"/>
                  </a:lnTo>
                  <a:lnTo>
                    <a:pt x="981" y="26"/>
                  </a:lnTo>
                  <a:lnTo>
                    <a:pt x="1005" y="19"/>
                  </a:lnTo>
                  <a:lnTo>
                    <a:pt x="1029" y="13"/>
                  </a:lnTo>
                  <a:lnTo>
                    <a:pt x="1054" y="8"/>
                  </a:lnTo>
                  <a:lnTo>
                    <a:pt x="1077" y="5"/>
                  </a:lnTo>
                  <a:lnTo>
                    <a:pt x="1101" y="3"/>
                  </a:lnTo>
                  <a:lnTo>
                    <a:pt x="1124" y="1"/>
                  </a:lnTo>
                  <a:lnTo>
                    <a:pt x="1146" y="0"/>
                  </a:lnTo>
                  <a:lnTo>
                    <a:pt x="1170" y="1"/>
                  </a:lnTo>
                  <a:lnTo>
                    <a:pt x="1191" y="3"/>
                  </a:lnTo>
                  <a:lnTo>
                    <a:pt x="1213" y="5"/>
                  </a:lnTo>
                  <a:lnTo>
                    <a:pt x="1233" y="8"/>
                  </a:lnTo>
                  <a:lnTo>
                    <a:pt x="1253" y="13"/>
                  </a:lnTo>
                  <a:lnTo>
                    <a:pt x="1271" y="17"/>
                  </a:lnTo>
                  <a:lnTo>
                    <a:pt x="1290" y="23"/>
                  </a:lnTo>
                  <a:lnTo>
                    <a:pt x="1307" y="30"/>
                  </a:lnTo>
                  <a:lnTo>
                    <a:pt x="1324" y="38"/>
                  </a:lnTo>
                  <a:lnTo>
                    <a:pt x="1340" y="46"/>
                  </a:lnTo>
                  <a:lnTo>
                    <a:pt x="1355" y="55"/>
                  </a:lnTo>
                  <a:lnTo>
                    <a:pt x="1369" y="66"/>
                  </a:lnTo>
                  <a:lnTo>
                    <a:pt x="1382" y="76"/>
                  </a:lnTo>
                  <a:lnTo>
                    <a:pt x="1395" y="87"/>
                  </a:lnTo>
                  <a:lnTo>
                    <a:pt x="1406" y="100"/>
                  </a:lnTo>
                  <a:lnTo>
                    <a:pt x="1417" y="113"/>
                  </a:lnTo>
                  <a:lnTo>
                    <a:pt x="1429" y="129"/>
                  </a:lnTo>
                  <a:lnTo>
                    <a:pt x="1440" y="146"/>
                  </a:lnTo>
                  <a:lnTo>
                    <a:pt x="1450" y="163"/>
                  </a:lnTo>
                  <a:lnTo>
                    <a:pt x="1460" y="181"/>
                  </a:lnTo>
                  <a:lnTo>
                    <a:pt x="1469" y="200"/>
                  </a:lnTo>
                  <a:lnTo>
                    <a:pt x="1477" y="219"/>
                  </a:lnTo>
                  <a:lnTo>
                    <a:pt x="1483" y="240"/>
                  </a:lnTo>
                  <a:lnTo>
                    <a:pt x="1489" y="262"/>
                  </a:lnTo>
                  <a:lnTo>
                    <a:pt x="1494" y="283"/>
                  </a:lnTo>
                  <a:lnTo>
                    <a:pt x="1499" y="306"/>
                  </a:lnTo>
                  <a:lnTo>
                    <a:pt x="1503" y="330"/>
                  </a:lnTo>
                  <a:lnTo>
                    <a:pt x="1505" y="354"/>
                  </a:lnTo>
                  <a:lnTo>
                    <a:pt x="1509" y="381"/>
                  </a:lnTo>
                  <a:lnTo>
                    <a:pt x="1510" y="407"/>
                  </a:lnTo>
                  <a:lnTo>
                    <a:pt x="1511" y="435"/>
                  </a:lnTo>
                  <a:lnTo>
                    <a:pt x="1511" y="462"/>
                  </a:lnTo>
                  <a:lnTo>
                    <a:pt x="1511" y="500"/>
                  </a:lnTo>
                  <a:lnTo>
                    <a:pt x="1509" y="541"/>
                  </a:lnTo>
                  <a:lnTo>
                    <a:pt x="1507" y="583"/>
                  </a:lnTo>
                  <a:lnTo>
                    <a:pt x="1503" y="627"/>
                  </a:lnTo>
                  <a:lnTo>
                    <a:pt x="1499" y="672"/>
                  </a:lnTo>
                  <a:lnTo>
                    <a:pt x="1494" y="719"/>
                  </a:lnTo>
                  <a:lnTo>
                    <a:pt x="1489" y="764"/>
                  </a:lnTo>
                  <a:lnTo>
                    <a:pt x="1484" y="813"/>
                  </a:lnTo>
                  <a:lnTo>
                    <a:pt x="1479" y="864"/>
                  </a:lnTo>
                  <a:lnTo>
                    <a:pt x="1471" y="917"/>
                  </a:lnTo>
                  <a:lnTo>
                    <a:pt x="1464" y="971"/>
                  </a:lnTo>
                  <a:lnTo>
                    <a:pt x="1456" y="1023"/>
                  </a:lnTo>
                  <a:lnTo>
                    <a:pt x="1447" y="1078"/>
                  </a:lnTo>
                  <a:lnTo>
                    <a:pt x="1437" y="1133"/>
                  </a:lnTo>
                  <a:lnTo>
                    <a:pt x="1427" y="1188"/>
                  </a:lnTo>
                  <a:lnTo>
                    <a:pt x="1417" y="1246"/>
                  </a:lnTo>
                  <a:lnTo>
                    <a:pt x="1322" y="1680"/>
                  </a:lnTo>
                  <a:lnTo>
                    <a:pt x="1371" y="1577"/>
                  </a:lnTo>
                  <a:lnTo>
                    <a:pt x="1419" y="1476"/>
                  </a:lnTo>
                  <a:lnTo>
                    <a:pt x="1468" y="1380"/>
                  </a:lnTo>
                  <a:lnTo>
                    <a:pt x="1517" y="1286"/>
                  </a:lnTo>
                  <a:lnTo>
                    <a:pt x="1566" y="1196"/>
                  </a:lnTo>
                  <a:lnTo>
                    <a:pt x="1615" y="1109"/>
                  </a:lnTo>
                  <a:lnTo>
                    <a:pt x="1665" y="1026"/>
                  </a:lnTo>
                  <a:lnTo>
                    <a:pt x="1713" y="945"/>
                  </a:lnTo>
                  <a:lnTo>
                    <a:pt x="1763" y="868"/>
                  </a:lnTo>
                  <a:lnTo>
                    <a:pt x="1813" y="794"/>
                  </a:lnTo>
                  <a:lnTo>
                    <a:pt x="1861" y="723"/>
                  </a:lnTo>
                  <a:lnTo>
                    <a:pt x="1911" y="657"/>
                  </a:lnTo>
                  <a:lnTo>
                    <a:pt x="1960" y="593"/>
                  </a:lnTo>
                  <a:lnTo>
                    <a:pt x="2008" y="532"/>
                  </a:lnTo>
                  <a:lnTo>
                    <a:pt x="2057" y="475"/>
                  </a:lnTo>
                  <a:lnTo>
                    <a:pt x="2104" y="421"/>
                  </a:lnTo>
                  <a:lnTo>
                    <a:pt x="2153" y="369"/>
                  </a:lnTo>
                  <a:lnTo>
                    <a:pt x="2200" y="322"/>
                  </a:lnTo>
                  <a:lnTo>
                    <a:pt x="2224" y="299"/>
                  </a:lnTo>
                  <a:lnTo>
                    <a:pt x="2248" y="278"/>
                  </a:lnTo>
                  <a:lnTo>
                    <a:pt x="2271" y="257"/>
                  </a:lnTo>
                  <a:lnTo>
                    <a:pt x="2295" y="236"/>
                  </a:lnTo>
                  <a:lnTo>
                    <a:pt x="2319" y="218"/>
                  </a:lnTo>
                  <a:lnTo>
                    <a:pt x="2342" y="200"/>
                  </a:lnTo>
                  <a:lnTo>
                    <a:pt x="2365" y="181"/>
                  </a:lnTo>
                  <a:lnTo>
                    <a:pt x="2389" y="164"/>
                  </a:lnTo>
                  <a:lnTo>
                    <a:pt x="2412" y="149"/>
                  </a:lnTo>
                  <a:lnTo>
                    <a:pt x="2436" y="133"/>
                  </a:lnTo>
                  <a:lnTo>
                    <a:pt x="2459" y="119"/>
                  </a:lnTo>
                  <a:lnTo>
                    <a:pt x="2482" y="106"/>
                  </a:lnTo>
                  <a:lnTo>
                    <a:pt x="2506" y="93"/>
                  </a:lnTo>
                  <a:lnTo>
                    <a:pt x="2530" y="80"/>
                  </a:lnTo>
                  <a:lnTo>
                    <a:pt x="2553" y="70"/>
                  </a:lnTo>
                  <a:lnTo>
                    <a:pt x="2576" y="60"/>
                  </a:lnTo>
                  <a:lnTo>
                    <a:pt x="2599" y="51"/>
                  </a:lnTo>
                  <a:lnTo>
                    <a:pt x="2623" y="42"/>
                  </a:lnTo>
                  <a:lnTo>
                    <a:pt x="2647" y="34"/>
                  </a:lnTo>
                  <a:lnTo>
                    <a:pt x="2670" y="27"/>
                  </a:lnTo>
                  <a:lnTo>
                    <a:pt x="2694" y="21"/>
                  </a:lnTo>
                  <a:lnTo>
                    <a:pt x="2717" y="15"/>
                  </a:lnTo>
                  <a:lnTo>
                    <a:pt x="2741" y="11"/>
                  </a:lnTo>
                  <a:lnTo>
                    <a:pt x="2765" y="7"/>
                  </a:lnTo>
                  <a:lnTo>
                    <a:pt x="2788" y="5"/>
                  </a:lnTo>
                  <a:lnTo>
                    <a:pt x="2812" y="3"/>
                  </a:lnTo>
                  <a:lnTo>
                    <a:pt x="2837" y="1"/>
                  </a:lnTo>
                  <a:lnTo>
                    <a:pt x="2860" y="0"/>
                  </a:lnTo>
                  <a:lnTo>
                    <a:pt x="2890" y="1"/>
                  </a:lnTo>
                  <a:lnTo>
                    <a:pt x="2919" y="4"/>
                  </a:lnTo>
                  <a:lnTo>
                    <a:pt x="2947" y="6"/>
                  </a:lnTo>
                  <a:lnTo>
                    <a:pt x="2974" y="11"/>
                  </a:lnTo>
                  <a:lnTo>
                    <a:pt x="3000" y="16"/>
                  </a:lnTo>
                  <a:lnTo>
                    <a:pt x="3026" y="23"/>
                  </a:lnTo>
                  <a:lnTo>
                    <a:pt x="3050" y="31"/>
                  </a:lnTo>
                  <a:lnTo>
                    <a:pt x="3073" y="40"/>
                  </a:lnTo>
                  <a:lnTo>
                    <a:pt x="3095" y="52"/>
                  </a:lnTo>
                  <a:lnTo>
                    <a:pt x="3116" y="63"/>
                  </a:lnTo>
                  <a:lnTo>
                    <a:pt x="3137" y="76"/>
                  </a:lnTo>
                  <a:lnTo>
                    <a:pt x="3156" y="90"/>
                  </a:lnTo>
                  <a:lnTo>
                    <a:pt x="3175" y="105"/>
                  </a:lnTo>
                  <a:lnTo>
                    <a:pt x="3192" y="119"/>
                  </a:lnTo>
                  <a:lnTo>
                    <a:pt x="3209" y="137"/>
                  </a:lnTo>
                  <a:lnTo>
                    <a:pt x="3224" y="155"/>
                  </a:lnTo>
                  <a:lnTo>
                    <a:pt x="3239" y="173"/>
                  </a:lnTo>
                  <a:lnTo>
                    <a:pt x="3253" y="193"/>
                  </a:lnTo>
                  <a:lnTo>
                    <a:pt x="3266" y="215"/>
                  </a:lnTo>
                  <a:lnTo>
                    <a:pt x="3280" y="236"/>
                  </a:lnTo>
                  <a:lnTo>
                    <a:pt x="3292" y="259"/>
                  </a:lnTo>
                  <a:lnTo>
                    <a:pt x="3303" y="282"/>
                  </a:lnTo>
                  <a:lnTo>
                    <a:pt x="3313" y="307"/>
                  </a:lnTo>
                  <a:lnTo>
                    <a:pt x="3323" y="333"/>
                  </a:lnTo>
                  <a:lnTo>
                    <a:pt x="3330" y="360"/>
                  </a:lnTo>
                  <a:lnTo>
                    <a:pt x="3338" y="388"/>
                  </a:lnTo>
                  <a:lnTo>
                    <a:pt x="3345" y="416"/>
                  </a:lnTo>
                  <a:lnTo>
                    <a:pt x="3349" y="446"/>
                  </a:lnTo>
                  <a:lnTo>
                    <a:pt x="3354" y="477"/>
                  </a:lnTo>
                  <a:lnTo>
                    <a:pt x="3357" y="508"/>
                  </a:lnTo>
                  <a:lnTo>
                    <a:pt x="3359" y="541"/>
                  </a:lnTo>
                  <a:lnTo>
                    <a:pt x="3359" y="574"/>
                  </a:lnTo>
                  <a:lnTo>
                    <a:pt x="3359" y="611"/>
                  </a:lnTo>
                  <a:lnTo>
                    <a:pt x="3357" y="648"/>
                  </a:lnTo>
                  <a:lnTo>
                    <a:pt x="3355" y="684"/>
                  </a:lnTo>
                  <a:lnTo>
                    <a:pt x="3351" y="721"/>
                  </a:lnTo>
                  <a:lnTo>
                    <a:pt x="3347" y="758"/>
                  </a:lnTo>
                  <a:lnTo>
                    <a:pt x="3343" y="794"/>
                  </a:lnTo>
                  <a:lnTo>
                    <a:pt x="3337" y="831"/>
                  </a:lnTo>
                  <a:lnTo>
                    <a:pt x="3333" y="868"/>
                  </a:lnTo>
                  <a:lnTo>
                    <a:pt x="3323" y="910"/>
                  </a:lnTo>
                  <a:lnTo>
                    <a:pt x="3312" y="952"/>
                  </a:lnTo>
                  <a:lnTo>
                    <a:pt x="3302" y="995"/>
                  </a:lnTo>
                  <a:lnTo>
                    <a:pt x="3291" y="1038"/>
                  </a:lnTo>
                  <a:lnTo>
                    <a:pt x="3279" y="1082"/>
                  </a:lnTo>
                  <a:lnTo>
                    <a:pt x="3266" y="1125"/>
                  </a:lnTo>
                  <a:lnTo>
                    <a:pt x="3252" y="1171"/>
                  </a:lnTo>
                  <a:lnTo>
                    <a:pt x="3238" y="1218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1520" y="1000080"/>
              <a:ext cx="317160" cy="341280"/>
            </a:xfrm>
            <a:custGeom>
              <a:avLst/>
              <a:gdLst/>
              <a:ahLst/>
              <a:rect l="l" t="t" r="r" b="b"/>
              <a:pathLst>
                <a:path w="2969" h="3763">
                  <a:moveTo>
                    <a:pt x="1553" y="504"/>
                  </a:moveTo>
                  <a:lnTo>
                    <a:pt x="1575" y="475"/>
                  </a:lnTo>
                  <a:lnTo>
                    <a:pt x="1598" y="450"/>
                  </a:lnTo>
                  <a:lnTo>
                    <a:pt x="1621" y="426"/>
                  </a:lnTo>
                  <a:lnTo>
                    <a:pt x="1643" y="404"/>
                  </a:lnTo>
                  <a:lnTo>
                    <a:pt x="1666" y="383"/>
                  </a:lnTo>
                  <a:lnTo>
                    <a:pt x="1688" y="365"/>
                  </a:lnTo>
                  <a:lnTo>
                    <a:pt x="1712" y="349"/>
                  </a:lnTo>
                  <a:lnTo>
                    <a:pt x="1735" y="334"/>
                  </a:lnTo>
                  <a:lnTo>
                    <a:pt x="1757" y="320"/>
                  </a:lnTo>
                  <a:lnTo>
                    <a:pt x="1780" y="310"/>
                  </a:lnTo>
                  <a:lnTo>
                    <a:pt x="1803" y="301"/>
                  </a:lnTo>
                  <a:lnTo>
                    <a:pt x="1825" y="293"/>
                  </a:lnTo>
                  <a:lnTo>
                    <a:pt x="1849" y="287"/>
                  </a:lnTo>
                  <a:lnTo>
                    <a:pt x="1871" y="283"/>
                  </a:lnTo>
                  <a:lnTo>
                    <a:pt x="1894" y="280"/>
                  </a:lnTo>
                  <a:lnTo>
                    <a:pt x="1917" y="279"/>
                  </a:lnTo>
                  <a:lnTo>
                    <a:pt x="1929" y="280"/>
                  </a:lnTo>
                  <a:lnTo>
                    <a:pt x="1940" y="281"/>
                  </a:lnTo>
                  <a:lnTo>
                    <a:pt x="1951" y="283"/>
                  </a:lnTo>
                  <a:lnTo>
                    <a:pt x="1962" y="285"/>
                  </a:lnTo>
                  <a:lnTo>
                    <a:pt x="1972" y="288"/>
                  </a:lnTo>
                  <a:lnTo>
                    <a:pt x="1982" y="292"/>
                  </a:lnTo>
                  <a:lnTo>
                    <a:pt x="1992" y="296"/>
                  </a:lnTo>
                  <a:lnTo>
                    <a:pt x="2001" y="302"/>
                  </a:lnTo>
                  <a:lnTo>
                    <a:pt x="2010" y="309"/>
                  </a:lnTo>
                  <a:lnTo>
                    <a:pt x="2018" y="316"/>
                  </a:lnTo>
                  <a:lnTo>
                    <a:pt x="2026" y="324"/>
                  </a:lnTo>
                  <a:lnTo>
                    <a:pt x="2034" y="333"/>
                  </a:lnTo>
                  <a:lnTo>
                    <a:pt x="2042" y="342"/>
                  </a:lnTo>
                  <a:lnTo>
                    <a:pt x="2050" y="354"/>
                  </a:lnTo>
                  <a:lnTo>
                    <a:pt x="2057" y="365"/>
                  </a:lnTo>
                  <a:lnTo>
                    <a:pt x="2065" y="378"/>
                  </a:lnTo>
                  <a:lnTo>
                    <a:pt x="2075" y="399"/>
                  </a:lnTo>
                  <a:lnTo>
                    <a:pt x="2085" y="425"/>
                  </a:lnTo>
                  <a:lnTo>
                    <a:pt x="2094" y="451"/>
                  </a:lnTo>
                  <a:lnTo>
                    <a:pt x="2102" y="481"/>
                  </a:lnTo>
                  <a:lnTo>
                    <a:pt x="2109" y="512"/>
                  </a:lnTo>
                  <a:lnTo>
                    <a:pt x="2115" y="545"/>
                  </a:lnTo>
                  <a:lnTo>
                    <a:pt x="2116" y="562"/>
                  </a:lnTo>
                  <a:lnTo>
                    <a:pt x="2118" y="579"/>
                  </a:lnTo>
                  <a:lnTo>
                    <a:pt x="2118" y="598"/>
                  </a:lnTo>
                  <a:lnTo>
                    <a:pt x="2119" y="615"/>
                  </a:lnTo>
                  <a:lnTo>
                    <a:pt x="2118" y="647"/>
                  </a:lnTo>
                  <a:lnTo>
                    <a:pt x="2118" y="678"/>
                  </a:lnTo>
                  <a:lnTo>
                    <a:pt x="2116" y="709"/>
                  </a:lnTo>
                  <a:lnTo>
                    <a:pt x="2114" y="740"/>
                  </a:lnTo>
                  <a:lnTo>
                    <a:pt x="2112" y="769"/>
                  </a:lnTo>
                  <a:lnTo>
                    <a:pt x="2107" y="799"/>
                  </a:lnTo>
                  <a:lnTo>
                    <a:pt x="2104" y="830"/>
                  </a:lnTo>
                  <a:lnTo>
                    <a:pt x="2098" y="859"/>
                  </a:lnTo>
                  <a:lnTo>
                    <a:pt x="2094" y="889"/>
                  </a:lnTo>
                  <a:lnTo>
                    <a:pt x="2087" y="917"/>
                  </a:lnTo>
                  <a:lnTo>
                    <a:pt x="2081" y="947"/>
                  </a:lnTo>
                  <a:lnTo>
                    <a:pt x="2074" y="976"/>
                  </a:lnTo>
                  <a:lnTo>
                    <a:pt x="2065" y="1004"/>
                  </a:lnTo>
                  <a:lnTo>
                    <a:pt x="2057" y="1032"/>
                  </a:lnTo>
                  <a:lnTo>
                    <a:pt x="2047" y="1059"/>
                  </a:lnTo>
                  <a:lnTo>
                    <a:pt x="2038" y="1088"/>
                  </a:lnTo>
                  <a:lnTo>
                    <a:pt x="2028" y="1115"/>
                  </a:lnTo>
                  <a:lnTo>
                    <a:pt x="2017" y="1142"/>
                  </a:lnTo>
                  <a:lnTo>
                    <a:pt x="2004" y="1169"/>
                  </a:lnTo>
                  <a:lnTo>
                    <a:pt x="1992" y="1196"/>
                  </a:lnTo>
                  <a:lnTo>
                    <a:pt x="1980" y="1222"/>
                  </a:lnTo>
                  <a:lnTo>
                    <a:pt x="1966" y="1248"/>
                  </a:lnTo>
                  <a:lnTo>
                    <a:pt x="1951" y="1275"/>
                  </a:lnTo>
                  <a:lnTo>
                    <a:pt x="1937" y="1300"/>
                  </a:lnTo>
                  <a:lnTo>
                    <a:pt x="1922" y="1325"/>
                  </a:lnTo>
                  <a:lnTo>
                    <a:pt x="1905" y="1350"/>
                  </a:lnTo>
                  <a:lnTo>
                    <a:pt x="1888" y="1375"/>
                  </a:lnTo>
                  <a:lnTo>
                    <a:pt x="1871" y="1401"/>
                  </a:lnTo>
                  <a:lnTo>
                    <a:pt x="1853" y="1425"/>
                  </a:lnTo>
                  <a:lnTo>
                    <a:pt x="1834" y="1449"/>
                  </a:lnTo>
                  <a:lnTo>
                    <a:pt x="1815" y="1473"/>
                  </a:lnTo>
                  <a:lnTo>
                    <a:pt x="1796" y="1497"/>
                  </a:lnTo>
                  <a:lnTo>
                    <a:pt x="1765" y="1528"/>
                  </a:lnTo>
                  <a:lnTo>
                    <a:pt x="1735" y="1558"/>
                  </a:lnTo>
                  <a:lnTo>
                    <a:pt x="1704" y="1586"/>
                  </a:lnTo>
                  <a:lnTo>
                    <a:pt x="1674" y="1614"/>
                  </a:lnTo>
                  <a:lnTo>
                    <a:pt x="1643" y="1641"/>
                  </a:lnTo>
                  <a:lnTo>
                    <a:pt x="1613" y="1668"/>
                  </a:lnTo>
                  <a:lnTo>
                    <a:pt x="1582" y="1694"/>
                  </a:lnTo>
                  <a:lnTo>
                    <a:pt x="1553" y="1720"/>
                  </a:lnTo>
                  <a:lnTo>
                    <a:pt x="1553" y="2070"/>
                  </a:lnTo>
                  <a:lnTo>
                    <a:pt x="1637" y="2051"/>
                  </a:lnTo>
                  <a:lnTo>
                    <a:pt x="1718" y="2033"/>
                  </a:lnTo>
                  <a:lnTo>
                    <a:pt x="1797" y="2014"/>
                  </a:lnTo>
                  <a:lnTo>
                    <a:pt x="1872" y="1994"/>
                  </a:lnTo>
                  <a:lnTo>
                    <a:pt x="1944" y="1974"/>
                  </a:lnTo>
                  <a:lnTo>
                    <a:pt x="2012" y="1953"/>
                  </a:lnTo>
                  <a:lnTo>
                    <a:pt x="2078" y="1932"/>
                  </a:lnTo>
                  <a:lnTo>
                    <a:pt x="2141" y="1912"/>
                  </a:lnTo>
                  <a:lnTo>
                    <a:pt x="2201" y="1889"/>
                  </a:lnTo>
                  <a:lnTo>
                    <a:pt x="2257" y="1867"/>
                  </a:lnTo>
                  <a:lnTo>
                    <a:pt x="2311" y="1844"/>
                  </a:lnTo>
                  <a:lnTo>
                    <a:pt x="2362" y="1820"/>
                  </a:lnTo>
                  <a:lnTo>
                    <a:pt x="2411" y="1796"/>
                  </a:lnTo>
                  <a:lnTo>
                    <a:pt x="2455" y="1772"/>
                  </a:lnTo>
                  <a:lnTo>
                    <a:pt x="2498" y="1747"/>
                  </a:lnTo>
                  <a:lnTo>
                    <a:pt x="2537" y="1720"/>
                  </a:lnTo>
                  <a:lnTo>
                    <a:pt x="2564" y="1702"/>
                  </a:lnTo>
                  <a:lnTo>
                    <a:pt x="2591" y="1683"/>
                  </a:lnTo>
                  <a:lnTo>
                    <a:pt x="2616" y="1663"/>
                  </a:lnTo>
                  <a:lnTo>
                    <a:pt x="2641" y="1642"/>
                  </a:lnTo>
                  <a:lnTo>
                    <a:pt x="2665" y="1622"/>
                  </a:lnTo>
                  <a:lnTo>
                    <a:pt x="2687" y="1600"/>
                  </a:lnTo>
                  <a:lnTo>
                    <a:pt x="2709" y="1578"/>
                  </a:lnTo>
                  <a:lnTo>
                    <a:pt x="2730" y="1555"/>
                  </a:lnTo>
                  <a:lnTo>
                    <a:pt x="2750" y="1532"/>
                  </a:lnTo>
                  <a:lnTo>
                    <a:pt x="2769" y="1508"/>
                  </a:lnTo>
                  <a:lnTo>
                    <a:pt x="2786" y="1484"/>
                  </a:lnTo>
                  <a:lnTo>
                    <a:pt x="2804" y="1459"/>
                  </a:lnTo>
                  <a:lnTo>
                    <a:pt x="2821" y="1434"/>
                  </a:lnTo>
                  <a:lnTo>
                    <a:pt x="2836" y="1409"/>
                  </a:lnTo>
                  <a:lnTo>
                    <a:pt x="2851" y="1382"/>
                  </a:lnTo>
                  <a:lnTo>
                    <a:pt x="2864" y="1355"/>
                  </a:lnTo>
                  <a:lnTo>
                    <a:pt x="2877" y="1327"/>
                  </a:lnTo>
                  <a:lnTo>
                    <a:pt x="2889" y="1300"/>
                  </a:lnTo>
                  <a:lnTo>
                    <a:pt x="2900" y="1271"/>
                  </a:lnTo>
                  <a:lnTo>
                    <a:pt x="2910" y="1241"/>
                  </a:lnTo>
                  <a:lnTo>
                    <a:pt x="2920" y="1213"/>
                  </a:lnTo>
                  <a:lnTo>
                    <a:pt x="2929" y="1182"/>
                  </a:lnTo>
                  <a:lnTo>
                    <a:pt x="2937" y="1152"/>
                  </a:lnTo>
                  <a:lnTo>
                    <a:pt x="2943" y="1120"/>
                  </a:lnTo>
                  <a:lnTo>
                    <a:pt x="2949" y="1089"/>
                  </a:lnTo>
                  <a:lnTo>
                    <a:pt x="2954" y="1057"/>
                  </a:lnTo>
                  <a:lnTo>
                    <a:pt x="2959" y="1024"/>
                  </a:lnTo>
                  <a:lnTo>
                    <a:pt x="2962" y="991"/>
                  </a:lnTo>
                  <a:lnTo>
                    <a:pt x="2965" y="957"/>
                  </a:lnTo>
                  <a:lnTo>
                    <a:pt x="2968" y="923"/>
                  </a:lnTo>
                  <a:lnTo>
                    <a:pt x="2969" y="889"/>
                  </a:lnTo>
                  <a:lnTo>
                    <a:pt x="2969" y="853"/>
                  </a:lnTo>
                  <a:lnTo>
                    <a:pt x="2968" y="804"/>
                  </a:lnTo>
                  <a:lnTo>
                    <a:pt x="2965" y="756"/>
                  </a:lnTo>
                  <a:lnTo>
                    <a:pt x="2960" y="710"/>
                  </a:lnTo>
                  <a:lnTo>
                    <a:pt x="2954" y="664"/>
                  </a:lnTo>
                  <a:lnTo>
                    <a:pt x="2946" y="620"/>
                  </a:lnTo>
                  <a:lnTo>
                    <a:pt x="2936" y="578"/>
                  </a:lnTo>
                  <a:lnTo>
                    <a:pt x="2923" y="538"/>
                  </a:lnTo>
                  <a:lnTo>
                    <a:pt x="2910" y="498"/>
                  </a:lnTo>
                  <a:lnTo>
                    <a:pt x="2895" y="460"/>
                  </a:lnTo>
                  <a:lnTo>
                    <a:pt x="2877" y="423"/>
                  </a:lnTo>
                  <a:lnTo>
                    <a:pt x="2858" y="389"/>
                  </a:lnTo>
                  <a:lnTo>
                    <a:pt x="2838" y="356"/>
                  </a:lnTo>
                  <a:lnTo>
                    <a:pt x="2816" y="324"/>
                  </a:lnTo>
                  <a:lnTo>
                    <a:pt x="2792" y="293"/>
                  </a:lnTo>
                  <a:lnTo>
                    <a:pt x="2780" y="279"/>
                  </a:lnTo>
                  <a:lnTo>
                    <a:pt x="2767" y="264"/>
                  </a:lnTo>
                  <a:lnTo>
                    <a:pt x="2753" y="250"/>
                  </a:lnTo>
                  <a:lnTo>
                    <a:pt x="2739" y="238"/>
                  </a:lnTo>
                  <a:lnTo>
                    <a:pt x="2711" y="209"/>
                  </a:lnTo>
                  <a:lnTo>
                    <a:pt x="2680" y="183"/>
                  </a:lnTo>
                  <a:lnTo>
                    <a:pt x="2650" y="159"/>
                  </a:lnTo>
                  <a:lnTo>
                    <a:pt x="2616" y="136"/>
                  </a:lnTo>
                  <a:lnTo>
                    <a:pt x="2581" y="114"/>
                  </a:lnTo>
                  <a:lnTo>
                    <a:pt x="2546" y="95"/>
                  </a:lnTo>
                  <a:lnTo>
                    <a:pt x="2508" y="77"/>
                  </a:lnTo>
                  <a:lnTo>
                    <a:pt x="2469" y="61"/>
                  </a:lnTo>
                  <a:lnTo>
                    <a:pt x="2430" y="47"/>
                  </a:lnTo>
                  <a:lnTo>
                    <a:pt x="2389" y="34"/>
                  </a:lnTo>
                  <a:lnTo>
                    <a:pt x="2347" y="24"/>
                  </a:lnTo>
                  <a:lnTo>
                    <a:pt x="2304" y="16"/>
                  </a:lnTo>
                  <a:lnTo>
                    <a:pt x="2258" y="9"/>
                  </a:lnTo>
                  <a:lnTo>
                    <a:pt x="2213" y="4"/>
                  </a:lnTo>
                  <a:lnTo>
                    <a:pt x="2167" y="1"/>
                  </a:lnTo>
                  <a:lnTo>
                    <a:pt x="2119" y="0"/>
                  </a:lnTo>
                  <a:lnTo>
                    <a:pt x="2084" y="1"/>
                  </a:lnTo>
                  <a:lnTo>
                    <a:pt x="2049" y="2"/>
                  </a:lnTo>
                  <a:lnTo>
                    <a:pt x="2013" y="4"/>
                  </a:lnTo>
                  <a:lnTo>
                    <a:pt x="1978" y="8"/>
                  </a:lnTo>
                  <a:lnTo>
                    <a:pt x="1941" y="11"/>
                  </a:lnTo>
                  <a:lnTo>
                    <a:pt x="1906" y="16"/>
                  </a:lnTo>
                  <a:lnTo>
                    <a:pt x="1871" y="21"/>
                  </a:lnTo>
                  <a:lnTo>
                    <a:pt x="1835" y="28"/>
                  </a:lnTo>
                  <a:lnTo>
                    <a:pt x="1765" y="42"/>
                  </a:lnTo>
                  <a:lnTo>
                    <a:pt x="1694" y="59"/>
                  </a:lnTo>
                  <a:lnTo>
                    <a:pt x="1623" y="77"/>
                  </a:lnTo>
                  <a:lnTo>
                    <a:pt x="1553" y="98"/>
                  </a:lnTo>
                  <a:lnTo>
                    <a:pt x="1553" y="504"/>
                  </a:lnTo>
                  <a:close/>
                  <a:moveTo>
                    <a:pt x="1553" y="3666"/>
                  </a:moveTo>
                  <a:lnTo>
                    <a:pt x="1553" y="3231"/>
                  </a:lnTo>
                  <a:lnTo>
                    <a:pt x="1570" y="3228"/>
                  </a:lnTo>
                  <a:lnTo>
                    <a:pt x="1588" y="3225"/>
                  </a:lnTo>
                  <a:lnTo>
                    <a:pt x="1607" y="3221"/>
                  </a:lnTo>
                  <a:lnTo>
                    <a:pt x="1625" y="3215"/>
                  </a:lnTo>
                  <a:lnTo>
                    <a:pt x="1664" y="3204"/>
                  </a:lnTo>
                  <a:lnTo>
                    <a:pt x="1704" y="3189"/>
                  </a:lnTo>
                  <a:lnTo>
                    <a:pt x="1745" y="3172"/>
                  </a:lnTo>
                  <a:lnTo>
                    <a:pt x="1788" y="3152"/>
                  </a:lnTo>
                  <a:lnTo>
                    <a:pt x="1831" y="3131"/>
                  </a:lnTo>
                  <a:lnTo>
                    <a:pt x="1876" y="3105"/>
                  </a:lnTo>
                  <a:lnTo>
                    <a:pt x="1902" y="3089"/>
                  </a:lnTo>
                  <a:lnTo>
                    <a:pt x="1926" y="3072"/>
                  </a:lnTo>
                  <a:lnTo>
                    <a:pt x="1950" y="3055"/>
                  </a:lnTo>
                  <a:lnTo>
                    <a:pt x="1976" y="3037"/>
                  </a:lnTo>
                  <a:lnTo>
                    <a:pt x="2000" y="3018"/>
                  </a:lnTo>
                  <a:lnTo>
                    <a:pt x="2023" y="2999"/>
                  </a:lnTo>
                  <a:lnTo>
                    <a:pt x="2047" y="2978"/>
                  </a:lnTo>
                  <a:lnTo>
                    <a:pt x="2072" y="2956"/>
                  </a:lnTo>
                  <a:lnTo>
                    <a:pt x="2096" y="2935"/>
                  </a:lnTo>
                  <a:lnTo>
                    <a:pt x="2120" y="2912"/>
                  </a:lnTo>
                  <a:lnTo>
                    <a:pt x="2144" y="2888"/>
                  </a:lnTo>
                  <a:lnTo>
                    <a:pt x="2168" y="2864"/>
                  </a:lnTo>
                  <a:lnTo>
                    <a:pt x="2218" y="2811"/>
                  </a:lnTo>
                  <a:lnTo>
                    <a:pt x="2267" y="2756"/>
                  </a:lnTo>
                  <a:lnTo>
                    <a:pt x="2273" y="2746"/>
                  </a:lnTo>
                  <a:lnTo>
                    <a:pt x="2281" y="2734"/>
                  </a:lnTo>
                  <a:lnTo>
                    <a:pt x="2288" y="2724"/>
                  </a:lnTo>
                  <a:lnTo>
                    <a:pt x="2298" y="2712"/>
                  </a:lnTo>
                  <a:lnTo>
                    <a:pt x="2320" y="2687"/>
                  </a:lnTo>
                  <a:lnTo>
                    <a:pt x="2348" y="2657"/>
                  </a:lnTo>
                  <a:lnTo>
                    <a:pt x="2378" y="2623"/>
                  </a:lnTo>
                  <a:lnTo>
                    <a:pt x="2404" y="2592"/>
                  </a:lnTo>
                  <a:lnTo>
                    <a:pt x="2427" y="2566"/>
                  </a:lnTo>
                  <a:lnTo>
                    <a:pt x="2450" y="2544"/>
                  </a:lnTo>
                  <a:lnTo>
                    <a:pt x="2468" y="2527"/>
                  </a:lnTo>
                  <a:lnTo>
                    <a:pt x="2485" y="2514"/>
                  </a:lnTo>
                  <a:lnTo>
                    <a:pt x="2493" y="2510"/>
                  </a:lnTo>
                  <a:lnTo>
                    <a:pt x="2499" y="2506"/>
                  </a:lnTo>
                  <a:lnTo>
                    <a:pt x="2505" y="2505"/>
                  </a:lnTo>
                  <a:lnTo>
                    <a:pt x="2510" y="2504"/>
                  </a:lnTo>
                  <a:lnTo>
                    <a:pt x="2519" y="2505"/>
                  </a:lnTo>
                  <a:lnTo>
                    <a:pt x="2528" y="2506"/>
                  </a:lnTo>
                  <a:lnTo>
                    <a:pt x="2536" y="2509"/>
                  </a:lnTo>
                  <a:lnTo>
                    <a:pt x="2542" y="2513"/>
                  </a:lnTo>
                  <a:lnTo>
                    <a:pt x="2553" y="2521"/>
                  </a:lnTo>
                  <a:lnTo>
                    <a:pt x="2564" y="2531"/>
                  </a:lnTo>
                  <a:lnTo>
                    <a:pt x="2569" y="2535"/>
                  </a:lnTo>
                  <a:lnTo>
                    <a:pt x="2573" y="2538"/>
                  </a:lnTo>
                  <a:lnTo>
                    <a:pt x="2577" y="2541"/>
                  </a:lnTo>
                  <a:lnTo>
                    <a:pt x="2580" y="2545"/>
                  </a:lnTo>
                  <a:lnTo>
                    <a:pt x="2584" y="2553"/>
                  </a:lnTo>
                  <a:lnTo>
                    <a:pt x="2588" y="2561"/>
                  </a:lnTo>
                  <a:lnTo>
                    <a:pt x="2590" y="2572"/>
                  </a:lnTo>
                  <a:lnTo>
                    <a:pt x="2591" y="2581"/>
                  </a:lnTo>
                  <a:lnTo>
                    <a:pt x="2591" y="2591"/>
                  </a:lnTo>
                  <a:lnTo>
                    <a:pt x="2591" y="2601"/>
                  </a:lnTo>
                  <a:lnTo>
                    <a:pt x="2591" y="2619"/>
                  </a:lnTo>
                  <a:lnTo>
                    <a:pt x="2588" y="2638"/>
                  </a:lnTo>
                  <a:lnTo>
                    <a:pt x="2584" y="2660"/>
                  </a:lnTo>
                  <a:lnTo>
                    <a:pt x="2578" y="2683"/>
                  </a:lnTo>
                  <a:lnTo>
                    <a:pt x="2573" y="2694"/>
                  </a:lnTo>
                  <a:lnTo>
                    <a:pt x="2569" y="2707"/>
                  </a:lnTo>
                  <a:lnTo>
                    <a:pt x="2563" y="2719"/>
                  </a:lnTo>
                  <a:lnTo>
                    <a:pt x="2557" y="2732"/>
                  </a:lnTo>
                  <a:lnTo>
                    <a:pt x="2550" y="2745"/>
                  </a:lnTo>
                  <a:lnTo>
                    <a:pt x="2542" y="2757"/>
                  </a:lnTo>
                  <a:lnTo>
                    <a:pt x="2534" y="2771"/>
                  </a:lnTo>
                  <a:lnTo>
                    <a:pt x="2524" y="2783"/>
                  </a:lnTo>
                  <a:lnTo>
                    <a:pt x="2508" y="2816"/>
                  </a:lnTo>
                  <a:lnTo>
                    <a:pt x="2490" y="2846"/>
                  </a:lnTo>
                  <a:lnTo>
                    <a:pt x="2472" y="2879"/>
                  </a:lnTo>
                  <a:lnTo>
                    <a:pt x="2451" y="2912"/>
                  </a:lnTo>
                  <a:lnTo>
                    <a:pt x="2429" y="2945"/>
                  </a:lnTo>
                  <a:lnTo>
                    <a:pt x="2404" y="2978"/>
                  </a:lnTo>
                  <a:lnTo>
                    <a:pt x="2378" y="3014"/>
                  </a:lnTo>
                  <a:lnTo>
                    <a:pt x="2348" y="3049"/>
                  </a:lnTo>
                  <a:lnTo>
                    <a:pt x="2317" y="3091"/>
                  </a:lnTo>
                  <a:lnTo>
                    <a:pt x="2286" y="3132"/>
                  </a:lnTo>
                  <a:lnTo>
                    <a:pt x="2253" y="3171"/>
                  </a:lnTo>
                  <a:lnTo>
                    <a:pt x="2220" y="3210"/>
                  </a:lnTo>
                  <a:lnTo>
                    <a:pt x="2186" y="3246"/>
                  </a:lnTo>
                  <a:lnTo>
                    <a:pt x="2150" y="3283"/>
                  </a:lnTo>
                  <a:lnTo>
                    <a:pt x="2114" y="3318"/>
                  </a:lnTo>
                  <a:lnTo>
                    <a:pt x="2077" y="3352"/>
                  </a:lnTo>
                  <a:lnTo>
                    <a:pt x="2039" y="3385"/>
                  </a:lnTo>
                  <a:lnTo>
                    <a:pt x="2001" y="3417"/>
                  </a:lnTo>
                  <a:lnTo>
                    <a:pt x="1961" y="3447"/>
                  </a:lnTo>
                  <a:lnTo>
                    <a:pt x="1922" y="3477"/>
                  </a:lnTo>
                  <a:lnTo>
                    <a:pt x="1881" y="3504"/>
                  </a:lnTo>
                  <a:lnTo>
                    <a:pt x="1840" y="3532"/>
                  </a:lnTo>
                  <a:lnTo>
                    <a:pt x="1798" y="3557"/>
                  </a:lnTo>
                  <a:lnTo>
                    <a:pt x="1755" y="3581"/>
                  </a:lnTo>
                  <a:lnTo>
                    <a:pt x="1729" y="3592"/>
                  </a:lnTo>
                  <a:lnTo>
                    <a:pt x="1704" y="3604"/>
                  </a:lnTo>
                  <a:lnTo>
                    <a:pt x="1678" y="3616"/>
                  </a:lnTo>
                  <a:lnTo>
                    <a:pt x="1653" y="3628"/>
                  </a:lnTo>
                  <a:lnTo>
                    <a:pt x="1629" y="3639"/>
                  </a:lnTo>
                  <a:lnTo>
                    <a:pt x="1603" y="3650"/>
                  </a:lnTo>
                  <a:lnTo>
                    <a:pt x="1578" y="3659"/>
                  </a:lnTo>
                  <a:lnTo>
                    <a:pt x="1553" y="3666"/>
                  </a:lnTo>
                  <a:close/>
                  <a:moveTo>
                    <a:pt x="1405" y="713"/>
                  </a:moveTo>
                  <a:lnTo>
                    <a:pt x="1423" y="682"/>
                  </a:lnTo>
                  <a:lnTo>
                    <a:pt x="1442" y="653"/>
                  </a:lnTo>
                  <a:lnTo>
                    <a:pt x="1461" y="625"/>
                  </a:lnTo>
                  <a:lnTo>
                    <a:pt x="1479" y="598"/>
                  </a:lnTo>
                  <a:lnTo>
                    <a:pt x="1496" y="572"/>
                  </a:lnTo>
                  <a:lnTo>
                    <a:pt x="1514" y="548"/>
                  </a:lnTo>
                  <a:lnTo>
                    <a:pt x="1533" y="525"/>
                  </a:lnTo>
                  <a:lnTo>
                    <a:pt x="1553" y="504"/>
                  </a:lnTo>
                  <a:lnTo>
                    <a:pt x="1553" y="98"/>
                  </a:lnTo>
                  <a:lnTo>
                    <a:pt x="1523" y="108"/>
                  </a:lnTo>
                  <a:lnTo>
                    <a:pt x="1493" y="120"/>
                  </a:lnTo>
                  <a:lnTo>
                    <a:pt x="1480" y="128"/>
                  </a:lnTo>
                  <a:lnTo>
                    <a:pt x="1467" y="135"/>
                  </a:lnTo>
                  <a:lnTo>
                    <a:pt x="1455" y="144"/>
                  </a:lnTo>
                  <a:lnTo>
                    <a:pt x="1444" y="153"/>
                  </a:lnTo>
                  <a:lnTo>
                    <a:pt x="1401" y="173"/>
                  </a:lnTo>
                  <a:lnTo>
                    <a:pt x="1359" y="192"/>
                  </a:lnTo>
                  <a:lnTo>
                    <a:pt x="1317" y="213"/>
                  </a:lnTo>
                  <a:lnTo>
                    <a:pt x="1275" y="234"/>
                  </a:lnTo>
                  <a:lnTo>
                    <a:pt x="1233" y="257"/>
                  </a:lnTo>
                  <a:lnTo>
                    <a:pt x="1192" y="281"/>
                  </a:lnTo>
                  <a:lnTo>
                    <a:pt x="1152" y="307"/>
                  </a:lnTo>
                  <a:lnTo>
                    <a:pt x="1111" y="332"/>
                  </a:lnTo>
                  <a:lnTo>
                    <a:pt x="1070" y="358"/>
                  </a:lnTo>
                  <a:lnTo>
                    <a:pt x="1030" y="387"/>
                  </a:lnTo>
                  <a:lnTo>
                    <a:pt x="990" y="415"/>
                  </a:lnTo>
                  <a:lnTo>
                    <a:pt x="952" y="445"/>
                  </a:lnTo>
                  <a:lnTo>
                    <a:pt x="912" y="475"/>
                  </a:lnTo>
                  <a:lnTo>
                    <a:pt x="873" y="507"/>
                  </a:lnTo>
                  <a:lnTo>
                    <a:pt x="835" y="539"/>
                  </a:lnTo>
                  <a:lnTo>
                    <a:pt x="797" y="574"/>
                  </a:lnTo>
                  <a:lnTo>
                    <a:pt x="752" y="618"/>
                  </a:lnTo>
                  <a:lnTo>
                    <a:pt x="707" y="664"/>
                  </a:lnTo>
                  <a:lnTo>
                    <a:pt x="664" y="711"/>
                  </a:lnTo>
                  <a:lnTo>
                    <a:pt x="622" y="759"/>
                  </a:lnTo>
                  <a:lnTo>
                    <a:pt x="582" y="808"/>
                  </a:lnTo>
                  <a:lnTo>
                    <a:pt x="542" y="859"/>
                  </a:lnTo>
                  <a:lnTo>
                    <a:pt x="504" y="909"/>
                  </a:lnTo>
                  <a:lnTo>
                    <a:pt x="467" y="962"/>
                  </a:lnTo>
                  <a:lnTo>
                    <a:pt x="430" y="1015"/>
                  </a:lnTo>
                  <a:lnTo>
                    <a:pt x="396" y="1068"/>
                  </a:lnTo>
                  <a:lnTo>
                    <a:pt x="363" y="1123"/>
                  </a:lnTo>
                  <a:lnTo>
                    <a:pt x="331" y="1180"/>
                  </a:lnTo>
                  <a:lnTo>
                    <a:pt x="300" y="1236"/>
                  </a:lnTo>
                  <a:lnTo>
                    <a:pt x="270" y="1294"/>
                  </a:lnTo>
                  <a:lnTo>
                    <a:pt x="242" y="1353"/>
                  </a:lnTo>
                  <a:lnTo>
                    <a:pt x="217" y="1412"/>
                  </a:lnTo>
                  <a:lnTo>
                    <a:pt x="190" y="1473"/>
                  </a:lnTo>
                  <a:lnTo>
                    <a:pt x="165" y="1534"/>
                  </a:lnTo>
                  <a:lnTo>
                    <a:pt x="142" y="1595"/>
                  </a:lnTo>
                  <a:lnTo>
                    <a:pt x="121" y="1656"/>
                  </a:lnTo>
                  <a:lnTo>
                    <a:pt x="101" y="1718"/>
                  </a:lnTo>
                  <a:lnTo>
                    <a:pt x="83" y="1781"/>
                  </a:lnTo>
                  <a:lnTo>
                    <a:pt x="68" y="1843"/>
                  </a:lnTo>
                  <a:lnTo>
                    <a:pt x="53" y="1906"/>
                  </a:lnTo>
                  <a:lnTo>
                    <a:pt x="41" y="1969"/>
                  </a:lnTo>
                  <a:lnTo>
                    <a:pt x="30" y="2032"/>
                  </a:lnTo>
                  <a:lnTo>
                    <a:pt x="21" y="2096"/>
                  </a:lnTo>
                  <a:lnTo>
                    <a:pt x="14" y="2160"/>
                  </a:lnTo>
                  <a:lnTo>
                    <a:pt x="8" y="2224"/>
                  </a:lnTo>
                  <a:lnTo>
                    <a:pt x="4" y="2290"/>
                  </a:lnTo>
                  <a:lnTo>
                    <a:pt x="2" y="2355"/>
                  </a:lnTo>
                  <a:lnTo>
                    <a:pt x="0" y="2420"/>
                  </a:lnTo>
                  <a:lnTo>
                    <a:pt x="2" y="2458"/>
                  </a:lnTo>
                  <a:lnTo>
                    <a:pt x="2" y="2495"/>
                  </a:lnTo>
                  <a:lnTo>
                    <a:pt x="4" y="2531"/>
                  </a:lnTo>
                  <a:lnTo>
                    <a:pt x="6" y="2568"/>
                  </a:lnTo>
                  <a:lnTo>
                    <a:pt x="8" y="2604"/>
                  </a:lnTo>
                  <a:lnTo>
                    <a:pt x="12" y="2639"/>
                  </a:lnTo>
                  <a:lnTo>
                    <a:pt x="15" y="2675"/>
                  </a:lnTo>
                  <a:lnTo>
                    <a:pt x="19" y="2709"/>
                  </a:lnTo>
                  <a:lnTo>
                    <a:pt x="24" y="2742"/>
                  </a:lnTo>
                  <a:lnTo>
                    <a:pt x="29" y="2777"/>
                  </a:lnTo>
                  <a:lnTo>
                    <a:pt x="35" y="2809"/>
                  </a:lnTo>
                  <a:lnTo>
                    <a:pt x="41" y="2842"/>
                  </a:lnTo>
                  <a:lnTo>
                    <a:pt x="49" y="2874"/>
                  </a:lnTo>
                  <a:lnTo>
                    <a:pt x="57" y="2905"/>
                  </a:lnTo>
                  <a:lnTo>
                    <a:pt x="65" y="2937"/>
                  </a:lnTo>
                  <a:lnTo>
                    <a:pt x="73" y="2967"/>
                  </a:lnTo>
                  <a:lnTo>
                    <a:pt x="83" y="2998"/>
                  </a:lnTo>
                  <a:lnTo>
                    <a:pt x="93" y="3027"/>
                  </a:lnTo>
                  <a:lnTo>
                    <a:pt x="103" y="3057"/>
                  </a:lnTo>
                  <a:lnTo>
                    <a:pt x="115" y="3086"/>
                  </a:lnTo>
                  <a:lnTo>
                    <a:pt x="126" y="3115"/>
                  </a:lnTo>
                  <a:lnTo>
                    <a:pt x="140" y="3142"/>
                  </a:lnTo>
                  <a:lnTo>
                    <a:pt x="152" y="3170"/>
                  </a:lnTo>
                  <a:lnTo>
                    <a:pt x="166" y="3197"/>
                  </a:lnTo>
                  <a:lnTo>
                    <a:pt x="181" y="3223"/>
                  </a:lnTo>
                  <a:lnTo>
                    <a:pt x="195" y="3250"/>
                  </a:lnTo>
                  <a:lnTo>
                    <a:pt x="210" y="3276"/>
                  </a:lnTo>
                  <a:lnTo>
                    <a:pt x="227" y="3301"/>
                  </a:lnTo>
                  <a:lnTo>
                    <a:pt x="243" y="3327"/>
                  </a:lnTo>
                  <a:lnTo>
                    <a:pt x="261" y="3352"/>
                  </a:lnTo>
                  <a:lnTo>
                    <a:pt x="279" y="3376"/>
                  </a:lnTo>
                  <a:lnTo>
                    <a:pt x="298" y="3400"/>
                  </a:lnTo>
                  <a:lnTo>
                    <a:pt x="315" y="3422"/>
                  </a:lnTo>
                  <a:lnTo>
                    <a:pt x="334" y="3442"/>
                  </a:lnTo>
                  <a:lnTo>
                    <a:pt x="353" y="3463"/>
                  </a:lnTo>
                  <a:lnTo>
                    <a:pt x="372" y="3483"/>
                  </a:lnTo>
                  <a:lnTo>
                    <a:pt x="392" y="3503"/>
                  </a:lnTo>
                  <a:lnTo>
                    <a:pt x="411" y="3521"/>
                  </a:lnTo>
                  <a:lnTo>
                    <a:pt x="431" y="3540"/>
                  </a:lnTo>
                  <a:lnTo>
                    <a:pt x="452" y="3557"/>
                  </a:lnTo>
                  <a:lnTo>
                    <a:pt x="473" y="3573"/>
                  </a:lnTo>
                  <a:lnTo>
                    <a:pt x="494" y="3589"/>
                  </a:lnTo>
                  <a:lnTo>
                    <a:pt x="516" y="3604"/>
                  </a:lnTo>
                  <a:lnTo>
                    <a:pt x="538" y="3619"/>
                  </a:lnTo>
                  <a:lnTo>
                    <a:pt x="562" y="3632"/>
                  </a:lnTo>
                  <a:lnTo>
                    <a:pt x="585" y="3646"/>
                  </a:lnTo>
                  <a:lnTo>
                    <a:pt x="608" y="3659"/>
                  </a:lnTo>
                  <a:lnTo>
                    <a:pt x="631" y="3670"/>
                  </a:lnTo>
                  <a:lnTo>
                    <a:pt x="656" y="3682"/>
                  </a:lnTo>
                  <a:lnTo>
                    <a:pt x="681" y="3692"/>
                  </a:lnTo>
                  <a:lnTo>
                    <a:pt x="705" y="3701"/>
                  </a:lnTo>
                  <a:lnTo>
                    <a:pt x="731" y="3710"/>
                  </a:lnTo>
                  <a:lnTo>
                    <a:pt x="757" y="3719"/>
                  </a:lnTo>
                  <a:lnTo>
                    <a:pt x="783" y="3726"/>
                  </a:lnTo>
                  <a:lnTo>
                    <a:pt x="809" y="3733"/>
                  </a:lnTo>
                  <a:lnTo>
                    <a:pt x="837" y="3740"/>
                  </a:lnTo>
                  <a:lnTo>
                    <a:pt x="864" y="3745"/>
                  </a:lnTo>
                  <a:lnTo>
                    <a:pt x="892" y="3750"/>
                  </a:lnTo>
                  <a:lnTo>
                    <a:pt x="920" y="3754"/>
                  </a:lnTo>
                  <a:lnTo>
                    <a:pt x="948" y="3757"/>
                  </a:lnTo>
                  <a:lnTo>
                    <a:pt x="977" y="3760"/>
                  </a:lnTo>
                  <a:lnTo>
                    <a:pt x="1007" y="3762"/>
                  </a:lnTo>
                  <a:lnTo>
                    <a:pt x="1037" y="3763"/>
                  </a:lnTo>
                  <a:lnTo>
                    <a:pt x="1066" y="3763"/>
                  </a:lnTo>
                  <a:lnTo>
                    <a:pt x="1097" y="3763"/>
                  </a:lnTo>
                  <a:lnTo>
                    <a:pt x="1127" y="3762"/>
                  </a:lnTo>
                  <a:lnTo>
                    <a:pt x="1158" y="3760"/>
                  </a:lnTo>
                  <a:lnTo>
                    <a:pt x="1188" y="3757"/>
                  </a:lnTo>
                  <a:lnTo>
                    <a:pt x="1219" y="3755"/>
                  </a:lnTo>
                  <a:lnTo>
                    <a:pt x="1249" y="3750"/>
                  </a:lnTo>
                  <a:lnTo>
                    <a:pt x="1280" y="3746"/>
                  </a:lnTo>
                  <a:lnTo>
                    <a:pt x="1310" y="3740"/>
                  </a:lnTo>
                  <a:lnTo>
                    <a:pt x="1340" y="3734"/>
                  </a:lnTo>
                  <a:lnTo>
                    <a:pt x="1370" y="3726"/>
                  </a:lnTo>
                  <a:lnTo>
                    <a:pt x="1400" y="3718"/>
                  </a:lnTo>
                  <a:lnTo>
                    <a:pt x="1431" y="3710"/>
                  </a:lnTo>
                  <a:lnTo>
                    <a:pt x="1461" y="3700"/>
                  </a:lnTo>
                  <a:lnTo>
                    <a:pt x="1492" y="3690"/>
                  </a:lnTo>
                  <a:lnTo>
                    <a:pt x="1522" y="3678"/>
                  </a:lnTo>
                  <a:lnTo>
                    <a:pt x="1553" y="3666"/>
                  </a:lnTo>
                  <a:lnTo>
                    <a:pt x="1553" y="3231"/>
                  </a:lnTo>
                  <a:lnTo>
                    <a:pt x="1543" y="3231"/>
                  </a:lnTo>
                  <a:lnTo>
                    <a:pt x="1533" y="3231"/>
                  </a:lnTo>
                  <a:lnTo>
                    <a:pt x="1522" y="3231"/>
                  </a:lnTo>
                  <a:lnTo>
                    <a:pt x="1512" y="3231"/>
                  </a:lnTo>
                  <a:lnTo>
                    <a:pt x="1480" y="3230"/>
                  </a:lnTo>
                  <a:lnTo>
                    <a:pt x="1448" y="3228"/>
                  </a:lnTo>
                  <a:lnTo>
                    <a:pt x="1417" y="3223"/>
                  </a:lnTo>
                  <a:lnTo>
                    <a:pt x="1386" y="3218"/>
                  </a:lnTo>
                  <a:lnTo>
                    <a:pt x="1356" y="3211"/>
                  </a:lnTo>
                  <a:lnTo>
                    <a:pt x="1327" y="3202"/>
                  </a:lnTo>
                  <a:lnTo>
                    <a:pt x="1300" y="3190"/>
                  </a:lnTo>
                  <a:lnTo>
                    <a:pt x="1272" y="3178"/>
                  </a:lnTo>
                  <a:lnTo>
                    <a:pt x="1247" y="3163"/>
                  </a:lnTo>
                  <a:lnTo>
                    <a:pt x="1221" y="3145"/>
                  </a:lnTo>
                  <a:lnTo>
                    <a:pt x="1197" y="3127"/>
                  </a:lnTo>
                  <a:lnTo>
                    <a:pt x="1175" y="3108"/>
                  </a:lnTo>
                  <a:lnTo>
                    <a:pt x="1153" y="3086"/>
                  </a:lnTo>
                  <a:lnTo>
                    <a:pt x="1132" y="3062"/>
                  </a:lnTo>
                  <a:lnTo>
                    <a:pt x="1112" y="3036"/>
                  </a:lnTo>
                  <a:lnTo>
                    <a:pt x="1094" y="3008"/>
                  </a:lnTo>
                  <a:lnTo>
                    <a:pt x="1074" y="2978"/>
                  </a:lnTo>
                  <a:lnTo>
                    <a:pt x="1055" y="2947"/>
                  </a:lnTo>
                  <a:lnTo>
                    <a:pt x="1039" y="2915"/>
                  </a:lnTo>
                  <a:lnTo>
                    <a:pt x="1023" y="2882"/>
                  </a:lnTo>
                  <a:lnTo>
                    <a:pt x="1008" y="2846"/>
                  </a:lnTo>
                  <a:lnTo>
                    <a:pt x="995" y="2810"/>
                  </a:lnTo>
                  <a:lnTo>
                    <a:pt x="983" y="2772"/>
                  </a:lnTo>
                  <a:lnTo>
                    <a:pt x="973" y="2733"/>
                  </a:lnTo>
                  <a:lnTo>
                    <a:pt x="963" y="2692"/>
                  </a:lnTo>
                  <a:lnTo>
                    <a:pt x="955" y="2651"/>
                  </a:lnTo>
                  <a:lnTo>
                    <a:pt x="947" y="2606"/>
                  </a:lnTo>
                  <a:lnTo>
                    <a:pt x="942" y="2561"/>
                  </a:lnTo>
                  <a:lnTo>
                    <a:pt x="937" y="2514"/>
                  </a:lnTo>
                  <a:lnTo>
                    <a:pt x="934" y="2466"/>
                  </a:lnTo>
                  <a:lnTo>
                    <a:pt x="933" y="2416"/>
                  </a:lnTo>
                  <a:lnTo>
                    <a:pt x="932" y="2364"/>
                  </a:lnTo>
                  <a:lnTo>
                    <a:pt x="932" y="2333"/>
                  </a:lnTo>
                  <a:lnTo>
                    <a:pt x="932" y="2302"/>
                  </a:lnTo>
                  <a:lnTo>
                    <a:pt x="932" y="2276"/>
                  </a:lnTo>
                  <a:lnTo>
                    <a:pt x="932" y="2252"/>
                  </a:lnTo>
                  <a:lnTo>
                    <a:pt x="932" y="2231"/>
                  </a:lnTo>
                  <a:lnTo>
                    <a:pt x="934" y="2211"/>
                  </a:lnTo>
                  <a:lnTo>
                    <a:pt x="935" y="2199"/>
                  </a:lnTo>
                  <a:lnTo>
                    <a:pt x="937" y="2189"/>
                  </a:lnTo>
                  <a:lnTo>
                    <a:pt x="941" y="2179"/>
                  </a:lnTo>
                  <a:lnTo>
                    <a:pt x="945" y="2168"/>
                  </a:lnTo>
                  <a:lnTo>
                    <a:pt x="1026" y="2158"/>
                  </a:lnTo>
                  <a:lnTo>
                    <a:pt x="1105" y="2146"/>
                  </a:lnTo>
                  <a:lnTo>
                    <a:pt x="1182" y="2136"/>
                  </a:lnTo>
                  <a:lnTo>
                    <a:pt x="1259" y="2125"/>
                  </a:lnTo>
                  <a:lnTo>
                    <a:pt x="1334" y="2112"/>
                  </a:lnTo>
                  <a:lnTo>
                    <a:pt x="1408" y="2100"/>
                  </a:lnTo>
                  <a:lnTo>
                    <a:pt x="1481" y="2086"/>
                  </a:lnTo>
                  <a:lnTo>
                    <a:pt x="1553" y="2070"/>
                  </a:lnTo>
                  <a:lnTo>
                    <a:pt x="1553" y="1720"/>
                  </a:lnTo>
                  <a:lnTo>
                    <a:pt x="1522" y="1739"/>
                  </a:lnTo>
                  <a:lnTo>
                    <a:pt x="1491" y="1755"/>
                  </a:lnTo>
                  <a:lnTo>
                    <a:pt x="1460" y="1771"/>
                  </a:lnTo>
                  <a:lnTo>
                    <a:pt x="1429" y="1786"/>
                  </a:lnTo>
                  <a:lnTo>
                    <a:pt x="1397" y="1799"/>
                  </a:lnTo>
                  <a:lnTo>
                    <a:pt x="1365" y="1812"/>
                  </a:lnTo>
                  <a:lnTo>
                    <a:pt x="1332" y="1823"/>
                  </a:lnTo>
                  <a:lnTo>
                    <a:pt x="1300" y="1834"/>
                  </a:lnTo>
                  <a:lnTo>
                    <a:pt x="1266" y="1843"/>
                  </a:lnTo>
                  <a:lnTo>
                    <a:pt x="1233" y="1852"/>
                  </a:lnTo>
                  <a:lnTo>
                    <a:pt x="1199" y="1859"/>
                  </a:lnTo>
                  <a:lnTo>
                    <a:pt x="1166" y="1864"/>
                  </a:lnTo>
                  <a:lnTo>
                    <a:pt x="1131" y="1868"/>
                  </a:lnTo>
                  <a:lnTo>
                    <a:pt x="1096" y="1872"/>
                  </a:lnTo>
                  <a:lnTo>
                    <a:pt x="1062" y="1874"/>
                  </a:lnTo>
                  <a:lnTo>
                    <a:pt x="1027" y="1874"/>
                  </a:lnTo>
                  <a:lnTo>
                    <a:pt x="986" y="1874"/>
                  </a:lnTo>
                  <a:lnTo>
                    <a:pt x="1007" y="1786"/>
                  </a:lnTo>
                  <a:lnTo>
                    <a:pt x="1028" y="1700"/>
                  </a:lnTo>
                  <a:lnTo>
                    <a:pt x="1050" y="1616"/>
                  </a:lnTo>
                  <a:lnTo>
                    <a:pt x="1072" y="1534"/>
                  </a:lnTo>
                  <a:lnTo>
                    <a:pt x="1095" y="1453"/>
                  </a:lnTo>
                  <a:lnTo>
                    <a:pt x="1120" y="1375"/>
                  </a:lnTo>
                  <a:lnTo>
                    <a:pt x="1144" y="1300"/>
                  </a:lnTo>
                  <a:lnTo>
                    <a:pt x="1169" y="1225"/>
                  </a:lnTo>
                  <a:lnTo>
                    <a:pt x="1196" y="1154"/>
                  </a:lnTo>
                  <a:lnTo>
                    <a:pt x="1223" y="1084"/>
                  </a:lnTo>
                  <a:lnTo>
                    <a:pt x="1251" y="1017"/>
                  </a:lnTo>
                  <a:lnTo>
                    <a:pt x="1280" y="952"/>
                  </a:lnTo>
                  <a:lnTo>
                    <a:pt x="1310" y="889"/>
                  </a:lnTo>
                  <a:lnTo>
                    <a:pt x="1340" y="828"/>
                  </a:lnTo>
                  <a:lnTo>
                    <a:pt x="1371" y="769"/>
                  </a:lnTo>
                  <a:lnTo>
                    <a:pt x="1405" y="713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1000" y="996840"/>
              <a:ext cx="303840" cy="342720"/>
            </a:xfrm>
            <a:custGeom>
              <a:avLst/>
              <a:gdLst/>
              <a:ahLst/>
              <a:rect l="l" t="t" r="r" b="b"/>
              <a:pathLst>
                <a:path w="2860" h="3777">
                  <a:moveTo>
                    <a:pt x="2037" y="0"/>
                  </a:moveTo>
                  <a:lnTo>
                    <a:pt x="2082" y="0"/>
                  </a:lnTo>
                  <a:lnTo>
                    <a:pt x="2126" y="2"/>
                  </a:lnTo>
                  <a:lnTo>
                    <a:pt x="2170" y="6"/>
                  </a:lnTo>
                  <a:lnTo>
                    <a:pt x="2212" y="10"/>
                  </a:lnTo>
                  <a:lnTo>
                    <a:pt x="2252" y="16"/>
                  </a:lnTo>
                  <a:lnTo>
                    <a:pt x="2292" y="23"/>
                  </a:lnTo>
                  <a:lnTo>
                    <a:pt x="2332" y="32"/>
                  </a:lnTo>
                  <a:lnTo>
                    <a:pt x="2369" y="41"/>
                  </a:lnTo>
                  <a:lnTo>
                    <a:pt x="2406" y="53"/>
                  </a:lnTo>
                  <a:lnTo>
                    <a:pt x="2441" y="65"/>
                  </a:lnTo>
                  <a:lnTo>
                    <a:pt x="2477" y="79"/>
                  </a:lnTo>
                  <a:lnTo>
                    <a:pt x="2510" y="94"/>
                  </a:lnTo>
                  <a:lnTo>
                    <a:pt x="2542" y="110"/>
                  </a:lnTo>
                  <a:lnTo>
                    <a:pt x="2573" y="128"/>
                  </a:lnTo>
                  <a:lnTo>
                    <a:pt x="2603" y="148"/>
                  </a:lnTo>
                  <a:lnTo>
                    <a:pt x="2631" y="167"/>
                  </a:lnTo>
                  <a:lnTo>
                    <a:pt x="2658" y="191"/>
                  </a:lnTo>
                  <a:lnTo>
                    <a:pt x="2683" y="215"/>
                  </a:lnTo>
                  <a:lnTo>
                    <a:pt x="2708" y="241"/>
                  </a:lnTo>
                  <a:lnTo>
                    <a:pt x="2730" y="266"/>
                  </a:lnTo>
                  <a:lnTo>
                    <a:pt x="2749" y="291"/>
                  </a:lnTo>
                  <a:lnTo>
                    <a:pt x="2768" y="317"/>
                  </a:lnTo>
                  <a:lnTo>
                    <a:pt x="2786" y="345"/>
                  </a:lnTo>
                  <a:lnTo>
                    <a:pt x="2801" y="372"/>
                  </a:lnTo>
                  <a:lnTo>
                    <a:pt x="2815" y="401"/>
                  </a:lnTo>
                  <a:lnTo>
                    <a:pt x="2827" y="431"/>
                  </a:lnTo>
                  <a:lnTo>
                    <a:pt x="2837" y="461"/>
                  </a:lnTo>
                  <a:lnTo>
                    <a:pt x="2846" y="493"/>
                  </a:lnTo>
                  <a:lnTo>
                    <a:pt x="2851" y="525"/>
                  </a:lnTo>
                  <a:lnTo>
                    <a:pt x="2857" y="558"/>
                  </a:lnTo>
                  <a:lnTo>
                    <a:pt x="2859" y="594"/>
                  </a:lnTo>
                  <a:lnTo>
                    <a:pt x="2860" y="629"/>
                  </a:lnTo>
                  <a:lnTo>
                    <a:pt x="2860" y="653"/>
                  </a:lnTo>
                  <a:lnTo>
                    <a:pt x="2858" y="676"/>
                  </a:lnTo>
                  <a:lnTo>
                    <a:pt x="2856" y="699"/>
                  </a:lnTo>
                  <a:lnTo>
                    <a:pt x="2852" y="721"/>
                  </a:lnTo>
                  <a:lnTo>
                    <a:pt x="2849" y="742"/>
                  </a:lnTo>
                  <a:lnTo>
                    <a:pt x="2843" y="764"/>
                  </a:lnTo>
                  <a:lnTo>
                    <a:pt x="2838" y="785"/>
                  </a:lnTo>
                  <a:lnTo>
                    <a:pt x="2831" y="805"/>
                  </a:lnTo>
                  <a:lnTo>
                    <a:pt x="2825" y="826"/>
                  </a:lnTo>
                  <a:lnTo>
                    <a:pt x="2816" y="846"/>
                  </a:lnTo>
                  <a:lnTo>
                    <a:pt x="2807" y="865"/>
                  </a:lnTo>
                  <a:lnTo>
                    <a:pt x="2797" y="883"/>
                  </a:lnTo>
                  <a:lnTo>
                    <a:pt x="2787" y="901"/>
                  </a:lnTo>
                  <a:lnTo>
                    <a:pt x="2776" y="919"/>
                  </a:lnTo>
                  <a:lnTo>
                    <a:pt x="2765" y="935"/>
                  </a:lnTo>
                  <a:lnTo>
                    <a:pt x="2752" y="951"/>
                  </a:lnTo>
                  <a:lnTo>
                    <a:pt x="2740" y="966"/>
                  </a:lnTo>
                  <a:lnTo>
                    <a:pt x="2725" y="980"/>
                  </a:lnTo>
                  <a:lnTo>
                    <a:pt x="2712" y="992"/>
                  </a:lnTo>
                  <a:lnTo>
                    <a:pt x="2696" y="1004"/>
                  </a:lnTo>
                  <a:lnTo>
                    <a:pt x="2681" y="1014"/>
                  </a:lnTo>
                  <a:lnTo>
                    <a:pt x="2664" y="1023"/>
                  </a:lnTo>
                  <a:lnTo>
                    <a:pt x="2648" y="1031"/>
                  </a:lnTo>
                  <a:lnTo>
                    <a:pt x="2631" y="1038"/>
                  </a:lnTo>
                  <a:lnTo>
                    <a:pt x="2613" y="1045"/>
                  </a:lnTo>
                  <a:lnTo>
                    <a:pt x="2594" y="1049"/>
                  </a:lnTo>
                  <a:lnTo>
                    <a:pt x="2575" y="1054"/>
                  </a:lnTo>
                  <a:lnTo>
                    <a:pt x="2555" y="1057"/>
                  </a:lnTo>
                  <a:lnTo>
                    <a:pt x="2534" y="1060"/>
                  </a:lnTo>
                  <a:lnTo>
                    <a:pt x="2513" y="1062"/>
                  </a:lnTo>
                  <a:lnTo>
                    <a:pt x="2491" y="1063"/>
                  </a:lnTo>
                  <a:lnTo>
                    <a:pt x="2469" y="1063"/>
                  </a:lnTo>
                  <a:lnTo>
                    <a:pt x="2451" y="1063"/>
                  </a:lnTo>
                  <a:lnTo>
                    <a:pt x="2435" y="1062"/>
                  </a:lnTo>
                  <a:lnTo>
                    <a:pt x="2417" y="1060"/>
                  </a:lnTo>
                  <a:lnTo>
                    <a:pt x="2400" y="1057"/>
                  </a:lnTo>
                  <a:lnTo>
                    <a:pt x="2384" y="1055"/>
                  </a:lnTo>
                  <a:lnTo>
                    <a:pt x="2368" y="1052"/>
                  </a:lnTo>
                  <a:lnTo>
                    <a:pt x="2353" y="1048"/>
                  </a:lnTo>
                  <a:lnTo>
                    <a:pt x="2337" y="1044"/>
                  </a:lnTo>
                  <a:lnTo>
                    <a:pt x="2308" y="1033"/>
                  </a:lnTo>
                  <a:lnTo>
                    <a:pt x="2279" y="1022"/>
                  </a:lnTo>
                  <a:lnTo>
                    <a:pt x="2252" y="1008"/>
                  </a:lnTo>
                  <a:lnTo>
                    <a:pt x="2226" y="993"/>
                  </a:lnTo>
                  <a:lnTo>
                    <a:pt x="2205" y="969"/>
                  </a:lnTo>
                  <a:lnTo>
                    <a:pt x="2182" y="941"/>
                  </a:lnTo>
                  <a:lnTo>
                    <a:pt x="2156" y="907"/>
                  </a:lnTo>
                  <a:lnTo>
                    <a:pt x="2130" y="868"/>
                  </a:lnTo>
                  <a:lnTo>
                    <a:pt x="2103" y="826"/>
                  </a:lnTo>
                  <a:lnTo>
                    <a:pt x="2077" y="779"/>
                  </a:lnTo>
                  <a:lnTo>
                    <a:pt x="2062" y="753"/>
                  </a:lnTo>
                  <a:lnTo>
                    <a:pt x="2049" y="728"/>
                  </a:lnTo>
                  <a:lnTo>
                    <a:pt x="2037" y="700"/>
                  </a:lnTo>
                  <a:lnTo>
                    <a:pt x="2024" y="671"/>
                  </a:lnTo>
                  <a:lnTo>
                    <a:pt x="2014" y="647"/>
                  </a:lnTo>
                  <a:lnTo>
                    <a:pt x="2002" y="619"/>
                  </a:lnTo>
                  <a:lnTo>
                    <a:pt x="1987" y="584"/>
                  </a:lnTo>
                  <a:lnTo>
                    <a:pt x="1970" y="545"/>
                  </a:lnTo>
                  <a:lnTo>
                    <a:pt x="1962" y="520"/>
                  </a:lnTo>
                  <a:lnTo>
                    <a:pt x="1953" y="497"/>
                  </a:lnTo>
                  <a:lnTo>
                    <a:pt x="1944" y="476"/>
                  </a:lnTo>
                  <a:lnTo>
                    <a:pt x="1934" y="456"/>
                  </a:lnTo>
                  <a:lnTo>
                    <a:pt x="1924" y="438"/>
                  </a:lnTo>
                  <a:lnTo>
                    <a:pt x="1913" y="422"/>
                  </a:lnTo>
                  <a:lnTo>
                    <a:pt x="1902" y="408"/>
                  </a:lnTo>
                  <a:lnTo>
                    <a:pt x="1890" y="395"/>
                  </a:lnTo>
                  <a:lnTo>
                    <a:pt x="1878" y="384"/>
                  </a:lnTo>
                  <a:lnTo>
                    <a:pt x="1866" y="375"/>
                  </a:lnTo>
                  <a:lnTo>
                    <a:pt x="1852" y="367"/>
                  </a:lnTo>
                  <a:lnTo>
                    <a:pt x="1839" y="361"/>
                  </a:lnTo>
                  <a:lnTo>
                    <a:pt x="1825" y="355"/>
                  </a:lnTo>
                  <a:lnTo>
                    <a:pt x="1811" y="352"/>
                  </a:lnTo>
                  <a:lnTo>
                    <a:pt x="1796" y="351"/>
                  </a:lnTo>
                  <a:lnTo>
                    <a:pt x="1781" y="349"/>
                  </a:lnTo>
                  <a:lnTo>
                    <a:pt x="1769" y="351"/>
                  </a:lnTo>
                  <a:lnTo>
                    <a:pt x="1755" y="352"/>
                  </a:lnTo>
                  <a:lnTo>
                    <a:pt x="1742" y="355"/>
                  </a:lnTo>
                  <a:lnTo>
                    <a:pt x="1729" y="360"/>
                  </a:lnTo>
                  <a:lnTo>
                    <a:pt x="1714" y="366"/>
                  </a:lnTo>
                  <a:lnTo>
                    <a:pt x="1701" y="372"/>
                  </a:lnTo>
                  <a:lnTo>
                    <a:pt x="1687" y="380"/>
                  </a:lnTo>
                  <a:lnTo>
                    <a:pt x="1672" y="390"/>
                  </a:lnTo>
                  <a:lnTo>
                    <a:pt x="1657" y="400"/>
                  </a:lnTo>
                  <a:lnTo>
                    <a:pt x="1643" y="411"/>
                  </a:lnTo>
                  <a:lnTo>
                    <a:pt x="1627" y="425"/>
                  </a:lnTo>
                  <a:lnTo>
                    <a:pt x="1612" y="440"/>
                  </a:lnTo>
                  <a:lnTo>
                    <a:pt x="1596" y="455"/>
                  </a:lnTo>
                  <a:lnTo>
                    <a:pt x="1581" y="472"/>
                  </a:lnTo>
                  <a:lnTo>
                    <a:pt x="1564" y="490"/>
                  </a:lnTo>
                  <a:lnTo>
                    <a:pt x="1549" y="510"/>
                  </a:lnTo>
                  <a:lnTo>
                    <a:pt x="1532" y="532"/>
                  </a:lnTo>
                  <a:lnTo>
                    <a:pt x="1514" y="553"/>
                  </a:lnTo>
                  <a:lnTo>
                    <a:pt x="1498" y="577"/>
                  </a:lnTo>
                  <a:lnTo>
                    <a:pt x="1480" y="603"/>
                  </a:lnTo>
                  <a:lnTo>
                    <a:pt x="1445" y="657"/>
                  </a:lnTo>
                  <a:lnTo>
                    <a:pt x="1409" y="715"/>
                  </a:lnTo>
                  <a:lnTo>
                    <a:pt x="1372" y="780"/>
                  </a:lnTo>
                  <a:lnTo>
                    <a:pt x="1334" y="850"/>
                  </a:lnTo>
                  <a:lnTo>
                    <a:pt x="1295" y="926"/>
                  </a:lnTo>
                  <a:lnTo>
                    <a:pt x="1255" y="1007"/>
                  </a:lnTo>
                  <a:lnTo>
                    <a:pt x="1218" y="1088"/>
                  </a:lnTo>
                  <a:lnTo>
                    <a:pt x="1183" y="1170"/>
                  </a:lnTo>
                  <a:lnTo>
                    <a:pt x="1166" y="1211"/>
                  </a:lnTo>
                  <a:lnTo>
                    <a:pt x="1151" y="1252"/>
                  </a:lnTo>
                  <a:lnTo>
                    <a:pt x="1136" y="1293"/>
                  </a:lnTo>
                  <a:lnTo>
                    <a:pt x="1121" y="1335"/>
                  </a:lnTo>
                  <a:lnTo>
                    <a:pt x="1107" y="1377"/>
                  </a:lnTo>
                  <a:lnTo>
                    <a:pt x="1094" y="1418"/>
                  </a:lnTo>
                  <a:lnTo>
                    <a:pt x="1080" y="1460"/>
                  </a:lnTo>
                  <a:lnTo>
                    <a:pt x="1068" y="1502"/>
                  </a:lnTo>
                  <a:lnTo>
                    <a:pt x="1056" y="1543"/>
                  </a:lnTo>
                  <a:lnTo>
                    <a:pt x="1045" y="1586"/>
                  </a:lnTo>
                  <a:lnTo>
                    <a:pt x="1034" y="1628"/>
                  </a:lnTo>
                  <a:lnTo>
                    <a:pt x="1024" y="1669"/>
                  </a:lnTo>
                  <a:lnTo>
                    <a:pt x="1014" y="1712"/>
                  </a:lnTo>
                  <a:lnTo>
                    <a:pt x="1005" y="1755"/>
                  </a:lnTo>
                  <a:lnTo>
                    <a:pt x="997" y="1798"/>
                  </a:lnTo>
                  <a:lnTo>
                    <a:pt x="990" y="1840"/>
                  </a:lnTo>
                  <a:lnTo>
                    <a:pt x="982" y="1882"/>
                  </a:lnTo>
                  <a:lnTo>
                    <a:pt x="975" y="1926"/>
                  </a:lnTo>
                  <a:lnTo>
                    <a:pt x="970" y="1969"/>
                  </a:lnTo>
                  <a:lnTo>
                    <a:pt x="964" y="2012"/>
                  </a:lnTo>
                  <a:lnTo>
                    <a:pt x="960" y="2055"/>
                  </a:lnTo>
                  <a:lnTo>
                    <a:pt x="955" y="2099"/>
                  </a:lnTo>
                  <a:lnTo>
                    <a:pt x="952" y="2144"/>
                  </a:lnTo>
                  <a:lnTo>
                    <a:pt x="950" y="2187"/>
                  </a:lnTo>
                  <a:lnTo>
                    <a:pt x="948" y="2231"/>
                  </a:lnTo>
                  <a:lnTo>
                    <a:pt x="946" y="2275"/>
                  </a:lnTo>
                  <a:lnTo>
                    <a:pt x="944" y="2320"/>
                  </a:lnTo>
                  <a:lnTo>
                    <a:pt x="944" y="2364"/>
                  </a:lnTo>
                  <a:lnTo>
                    <a:pt x="946" y="2410"/>
                  </a:lnTo>
                  <a:lnTo>
                    <a:pt x="947" y="2456"/>
                  </a:lnTo>
                  <a:lnTo>
                    <a:pt x="950" y="2501"/>
                  </a:lnTo>
                  <a:lnTo>
                    <a:pt x="954" y="2545"/>
                  </a:lnTo>
                  <a:lnTo>
                    <a:pt x="960" y="2587"/>
                  </a:lnTo>
                  <a:lnTo>
                    <a:pt x="968" y="2629"/>
                  </a:lnTo>
                  <a:lnTo>
                    <a:pt x="975" y="2669"/>
                  </a:lnTo>
                  <a:lnTo>
                    <a:pt x="985" y="2708"/>
                  </a:lnTo>
                  <a:lnTo>
                    <a:pt x="995" y="2746"/>
                  </a:lnTo>
                  <a:lnTo>
                    <a:pt x="1007" y="2784"/>
                  </a:lnTo>
                  <a:lnTo>
                    <a:pt x="1021" y="2819"/>
                  </a:lnTo>
                  <a:lnTo>
                    <a:pt x="1036" y="2854"/>
                  </a:lnTo>
                  <a:lnTo>
                    <a:pt x="1052" y="2887"/>
                  </a:lnTo>
                  <a:lnTo>
                    <a:pt x="1068" y="2919"/>
                  </a:lnTo>
                  <a:lnTo>
                    <a:pt x="1087" y="2950"/>
                  </a:lnTo>
                  <a:lnTo>
                    <a:pt x="1107" y="2980"/>
                  </a:lnTo>
                  <a:lnTo>
                    <a:pt x="1127" y="3005"/>
                  </a:lnTo>
                  <a:lnTo>
                    <a:pt x="1148" y="3029"/>
                  </a:lnTo>
                  <a:lnTo>
                    <a:pt x="1170" y="3052"/>
                  </a:lnTo>
                  <a:lnTo>
                    <a:pt x="1193" y="3074"/>
                  </a:lnTo>
                  <a:lnTo>
                    <a:pt x="1216" y="3093"/>
                  </a:lnTo>
                  <a:lnTo>
                    <a:pt x="1239" y="3112"/>
                  </a:lnTo>
                  <a:lnTo>
                    <a:pt x="1265" y="3129"/>
                  </a:lnTo>
                  <a:lnTo>
                    <a:pt x="1290" y="3144"/>
                  </a:lnTo>
                  <a:lnTo>
                    <a:pt x="1317" y="3157"/>
                  </a:lnTo>
                  <a:lnTo>
                    <a:pt x="1343" y="3170"/>
                  </a:lnTo>
                  <a:lnTo>
                    <a:pt x="1372" y="3179"/>
                  </a:lnTo>
                  <a:lnTo>
                    <a:pt x="1401" y="3188"/>
                  </a:lnTo>
                  <a:lnTo>
                    <a:pt x="1430" y="3195"/>
                  </a:lnTo>
                  <a:lnTo>
                    <a:pt x="1460" y="3200"/>
                  </a:lnTo>
                  <a:lnTo>
                    <a:pt x="1492" y="3202"/>
                  </a:lnTo>
                  <a:lnTo>
                    <a:pt x="1524" y="3203"/>
                  </a:lnTo>
                  <a:lnTo>
                    <a:pt x="1545" y="3203"/>
                  </a:lnTo>
                  <a:lnTo>
                    <a:pt x="1565" y="3201"/>
                  </a:lnTo>
                  <a:lnTo>
                    <a:pt x="1586" y="3199"/>
                  </a:lnTo>
                  <a:lnTo>
                    <a:pt x="1607" y="3195"/>
                  </a:lnTo>
                  <a:lnTo>
                    <a:pt x="1629" y="3192"/>
                  </a:lnTo>
                  <a:lnTo>
                    <a:pt x="1650" y="3186"/>
                  </a:lnTo>
                  <a:lnTo>
                    <a:pt x="1671" y="3180"/>
                  </a:lnTo>
                  <a:lnTo>
                    <a:pt x="1693" y="3173"/>
                  </a:lnTo>
                  <a:lnTo>
                    <a:pt x="1714" y="3167"/>
                  </a:lnTo>
                  <a:lnTo>
                    <a:pt x="1736" y="3157"/>
                  </a:lnTo>
                  <a:lnTo>
                    <a:pt x="1757" y="3148"/>
                  </a:lnTo>
                  <a:lnTo>
                    <a:pt x="1778" y="3138"/>
                  </a:lnTo>
                  <a:lnTo>
                    <a:pt x="1799" y="3128"/>
                  </a:lnTo>
                  <a:lnTo>
                    <a:pt x="1820" y="3116"/>
                  </a:lnTo>
                  <a:lnTo>
                    <a:pt x="1841" y="3105"/>
                  </a:lnTo>
                  <a:lnTo>
                    <a:pt x="1861" y="3091"/>
                  </a:lnTo>
                  <a:lnTo>
                    <a:pt x="1885" y="3077"/>
                  </a:lnTo>
                  <a:lnTo>
                    <a:pt x="1909" y="3062"/>
                  </a:lnTo>
                  <a:lnTo>
                    <a:pt x="1933" y="3045"/>
                  </a:lnTo>
                  <a:lnTo>
                    <a:pt x="1957" y="3027"/>
                  </a:lnTo>
                  <a:lnTo>
                    <a:pt x="1983" y="3006"/>
                  </a:lnTo>
                  <a:lnTo>
                    <a:pt x="2009" y="2984"/>
                  </a:lnTo>
                  <a:lnTo>
                    <a:pt x="2036" y="2962"/>
                  </a:lnTo>
                  <a:lnTo>
                    <a:pt x="2062" y="2937"/>
                  </a:lnTo>
                  <a:lnTo>
                    <a:pt x="2090" y="2912"/>
                  </a:lnTo>
                  <a:lnTo>
                    <a:pt x="2118" y="2885"/>
                  </a:lnTo>
                  <a:lnTo>
                    <a:pt x="2146" y="2857"/>
                  </a:lnTo>
                  <a:lnTo>
                    <a:pt x="2175" y="2828"/>
                  </a:lnTo>
                  <a:lnTo>
                    <a:pt x="2234" y="2766"/>
                  </a:lnTo>
                  <a:lnTo>
                    <a:pt x="2293" y="2700"/>
                  </a:lnTo>
                  <a:lnTo>
                    <a:pt x="2307" y="2689"/>
                  </a:lnTo>
                  <a:lnTo>
                    <a:pt x="2322" y="2675"/>
                  </a:lnTo>
                  <a:lnTo>
                    <a:pt x="2331" y="2667"/>
                  </a:lnTo>
                  <a:lnTo>
                    <a:pt x="2341" y="2657"/>
                  </a:lnTo>
                  <a:lnTo>
                    <a:pt x="2351" y="2644"/>
                  </a:lnTo>
                  <a:lnTo>
                    <a:pt x="2361" y="2629"/>
                  </a:lnTo>
                  <a:lnTo>
                    <a:pt x="2385" y="2605"/>
                  </a:lnTo>
                  <a:lnTo>
                    <a:pt x="2407" y="2582"/>
                  </a:lnTo>
                  <a:lnTo>
                    <a:pt x="2427" y="2564"/>
                  </a:lnTo>
                  <a:lnTo>
                    <a:pt x="2446" y="2548"/>
                  </a:lnTo>
                  <a:lnTo>
                    <a:pt x="2455" y="2541"/>
                  </a:lnTo>
                  <a:lnTo>
                    <a:pt x="2462" y="2535"/>
                  </a:lnTo>
                  <a:lnTo>
                    <a:pt x="2471" y="2530"/>
                  </a:lnTo>
                  <a:lnTo>
                    <a:pt x="2479" y="2525"/>
                  </a:lnTo>
                  <a:lnTo>
                    <a:pt x="2487" y="2523"/>
                  </a:lnTo>
                  <a:lnTo>
                    <a:pt x="2494" y="2519"/>
                  </a:lnTo>
                  <a:lnTo>
                    <a:pt x="2502" y="2518"/>
                  </a:lnTo>
                  <a:lnTo>
                    <a:pt x="2510" y="2518"/>
                  </a:lnTo>
                  <a:lnTo>
                    <a:pt x="2515" y="2518"/>
                  </a:lnTo>
                  <a:lnTo>
                    <a:pt x="2522" y="2520"/>
                  </a:lnTo>
                  <a:lnTo>
                    <a:pt x="2529" y="2523"/>
                  </a:lnTo>
                  <a:lnTo>
                    <a:pt x="2536" y="2526"/>
                  </a:lnTo>
                  <a:lnTo>
                    <a:pt x="2544" y="2531"/>
                  </a:lnTo>
                  <a:lnTo>
                    <a:pt x="2551" y="2535"/>
                  </a:lnTo>
                  <a:lnTo>
                    <a:pt x="2557" y="2541"/>
                  </a:lnTo>
                  <a:lnTo>
                    <a:pt x="2564" y="2546"/>
                  </a:lnTo>
                  <a:lnTo>
                    <a:pt x="2568" y="2551"/>
                  </a:lnTo>
                  <a:lnTo>
                    <a:pt x="2572" y="2558"/>
                  </a:lnTo>
                  <a:lnTo>
                    <a:pt x="2574" y="2566"/>
                  </a:lnTo>
                  <a:lnTo>
                    <a:pt x="2575" y="2575"/>
                  </a:lnTo>
                  <a:lnTo>
                    <a:pt x="2577" y="2595"/>
                  </a:lnTo>
                  <a:lnTo>
                    <a:pt x="2577" y="2616"/>
                  </a:lnTo>
                  <a:lnTo>
                    <a:pt x="2576" y="2633"/>
                  </a:lnTo>
                  <a:lnTo>
                    <a:pt x="2574" y="2652"/>
                  </a:lnTo>
                  <a:lnTo>
                    <a:pt x="2571" y="2673"/>
                  </a:lnTo>
                  <a:lnTo>
                    <a:pt x="2565" y="2696"/>
                  </a:lnTo>
                  <a:lnTo>
                    <a:pt x="2557" y="2721"/>
                  </a:lnTo>
                  <a:lnTo>
                    <a:pt x="2548" y="2746"/>
                  </a:lnTo>
                  <a:lnTo>
                    <a:pt x="2536" y="2771"/>
                  </a:lnTo>
                  <a:lnTo>
                    <a:pt x="2523" y="2798"/>
                  </a:lnTo>
                  <a:lnTo>
                    <a:pt x="2506" y="2829"/>
                  </a:lnTo>
                  <a:lnTo>
                    <a:pt x="2488" y="2861"/>
                  </a:lnTo>
                  <a:lnTo>
                    <a:pt x="2468" y="2893"/>
                  </a:lnTo>
                  <a:lnTo>
                    <a:pt x="2446" y="2925"/>
                  </a:lnTo>
                  <a:lnTo>
                    <a:pt x="2422" y="2958"/>
                  </a:lnTo>
                  <a:lnTo>
                    <a:pt x="2398" y="2992"/>
                  </a:lnTo>
                  <a:lnTo>
                    <a:pt x="2373" y="3028"/>
                  </a:lnTo>
                  <a:lnTo>
                    <a:pt x="2347" y="3064"/>
                  </a:lnTo>
                  <a:lnTo>
                    <a:pt x="2314" y="3105"/>
                  </a:lnTo>
                  <a:lnTo>
                    <a:pt x="2280" y="3146"/>
                  </a:lnTo>
                  <a:lnTo>
                    <a:pt x="2246" y="3185"/>
                  </a:lnTo>
                  <a:lnTo>
                    <a:pt x="2210" y="3223"/>
                  </a:lnTo>
                  <a:lnTo>
                    <a:pt x="2175" y="3261"/>
                  </a:lnTo>
                  <a:lnTo>
                    <a:pt x="2139" y="3297"/>
                  </a:lnTo>
                  <a:lnTo>
                    <a:pt x="2102" y="3332"/>
                  </a:lnTo>
                  <a:lnTo>
                    <a:pt x="2065" y="3366"/>
                  </a:lnTo>
                  <a:lnTo>
                    <a:pt x="2026" y="3399"/>
                  </a:lnTo>
                  <a:lnTo>
                    <a:pt x="1987" y="3430"/>
                  </a:lnTo>
                  <a:lnTo>
                    <a:pt x="1947" y="3461"/>
                  </a:lnTo>
                  <a:lnTo>
                    <a:pt x="1908" y="3491"/>
                  </a:lnTo>
                  <a:lnTo>
                    <a:pt x="1867" y="3518"/>
                  </a:lnTo>
                  <a:lnTo>
                    <a:pt x="1825" y="3546"/>
                  </a:lnTo>
                  <a:lnTo>
                    <a:pt x="1783" y="3571"/>
                  </a:lnTo>
                  <a:lnTo>
                    <a:pt x="1741" y="3595"/>
                  </a:lnTo>
                  <a:lnTo>
                    <a:pt x="1698" y="3618"/>
                  </a:lnTo>
                  <a:lnTo>
                    <a:pt x="1655" y="3639"/>
                  </a:lnTo>
                  <a:lnTo>
                    <a:pt x="1612" y="3659"/>
                  </a:lnTo>
                  <a:lnTo>
                    <a:pt x="1569" y="3676"/>
                  </a:lnTo>
                  <a:lnTo>
                    <a:pt x="1525" y="3694"/>
                  </a:lnTo>
                  <a:lnTo>
                    <a:pt x="1482" y="3709"/>
                  </a:lnTo>
                  <a:lnTo>
                    <a:pt x="1439" y="3721"/>
                  </a:lnTo>
                  <a:lnTo>
                    <a:pt x="1396" y="3734"/>
                  </a:lnTo>
                  <a:lnTo>
                    <a:pt x="1353" y="3744"/>
                  </a:lnTo>
                  <a:lnTo>
                    <a:pt x="1310" y="3753"/>
                  </a:lnTo>
                  <a:lnTo>
                    <a:pt x="1267" y="3760"/>
                  </a:lnTo>
                  <a:lnTo>
                    <a:pt x="1224" y="3766"/>
                  </a:lnTo>
                  <a:lnTo>
                    <a:pt x="1182" y="3772"/>
                  </a:lnTo>
                  <a:lnTo>
                    <a:pt x="1139" y="3774"/>
                  </a:lnTo>
                  <a:lnTo>
                    <a:pt x="1096" y="3776"/>
                  </a:lnTo>
                  <a:lnTo>
                    <a:pt x="1053" y="3777"/>
                  </a:lnTo>
                  <a:lnTo>
                    <a:pt x="1024" y="3776"/>
                  </a:lnTo>
                  <a:lnTo>
                    <a:pt x="995" y="3776"/>
                  </a:lnTo>
                  <a:lnTo>
                    <a:pt x="967" y="3774"/>
                  </a:lnTo>
                  <a:lnTo>
                    <a:pt x="939" y="3772"/>
                  </a:lnTo>
                  <a:lnTo>
                    <a:pt x="911" y="3768"/>
                  </a:lnTo>
                  <a:lnTo>
                    <a:pt x="884" y="3764"/>
                  </a:lnTo>
                  <a:lnTo>
                    <a:pt x="856" y="3759"/>
                  </a:lnTo>
                  <a:lnTo>
                    <a:pt x="830" y="3753"/>
                  </a:lnTo>
                  <a:lnTo>
                    <a:pt x="803" y="3747"/>
                  </a:lnTo>
                  <a:lnTo>
                    <a:pt x="778" y="3741"/>
                  </a:lnTo>
                  <a:lnTo>
                    <a:pt x="751" y="3733"/>
                  </a:lnTo>
                  <a:lnTo>
                    <a:pt x="726" y="3725"/>
                  </a:lnTo>
                  <a:lnTo>
                    <a:pt x="701" y="3715"/>
                  </a:lnTo>
                  <a:lnTo>
                    <a:pt x="676" y="3706"/>
                  </a:lnTo>
                  <a:lnTo>
                    <a:pt x="652" y="3696"/>
                  </a:lnTo>
                  <a:lnTo>
                    <a:pt x="627" y="3684"/>
                  </a:lnTo>
                  <a:lnTo>
                    <a:pt x="603" y="3673"/>
                  </a:lnTo>
                  <a:lnTo>
                    <a:pt x="580" y="3660"/>
                  </a:lnTo>
                  <a:lnTo>
                    <a:pt x="557" y="3647"/>
                  </a:lnTo>
                  <a:lnTo>
                    <a:pt x="533" y="3633"/>
                  </a:lnTo>
                  <a:lnTo>
                    <a:pt x="511" y="3618"/>
                  </a:lnTo>
                  <a:lnTo>
                    <a:pt x="489" y="3603"/>
                  </a:lnTo>
                  <a:lnTo>
                    <a:pt x="467" y="3587"/>
                  </a:lnTo>
                  <a:lnTo>
                    <a:pt x="445" y="3570"/>
                  </a:lnTo>
                  <a:lnTo>
                    <a:pt x="424" y="3553"/>
                  </a:lnTo>
                  <a:lnTo>
                    <a:pt x="403" y="3536"/>
                  </a:lnTo>
                  <a:lnTo>
                    <a:pt x="382" y="3516"/>
                  </a:lnTo>
                  <a:lnTo>
                    <a:pt x="362" y="3498"/>
                  </a:lnTo>
                  <a:lnTo>
                    <a:pt x="342" y="3477"/>
                  </a:lnTo>
                  <a:lnTo>
                    <a:pt x="322" y="3456"/>
                  </a:lnTo>
                  <a:lnTo>
                    <a:pt x="303" y="3435"/>
                  </a:lnTo>
                  <a:lnTo>
                    <a:pt x="284" y="3413"/>
                  </a:lnTo>
                  <a:lnTo>
                    <a:pt x="266" y="3390"/>
                  </a:lnTo>
                  <a:lnTo>
                    <a:pt x="250" y="3365"/>
                  </a:lnTo>
                  <a:lnTo>
                    <a:pt x="233" y="3341"/>
                  </a:lnTo>
                  <a:lnTo>
                    <a:pt x="218" y="3316"/>
                  </a:lnTo>
                  <a:lnTo>
                    <a:pt x="202" y="3290"/>
                  </a:lnTo>
                  <a:lnTo>
                    <a:pt x="188" y="3264"/>
                  </a:lnTo>
                  <a:lnTo>
                    <a:pt x="173" y="3238"/>
                  </a:lnTo>
                  <a:lnTo>
                    <a:pt x="160" y="3211"/>
                  </a:lnTo>
                  <a:lnTo>
                    <a:pt x="147" y="3184"/>
                  </a:lnTo>
                  <a:lnTo>
                    <a:pt x="134" y="3156"/>
                  </a:lnTo>
                  <a:lnTo>
                    <a:pt x="123" y="3128"/>
                  </a:lnTo>
                  <a:lnTo>
                    <a:pt x="110" y="3100"/>
                  </a:lnTo>
                  <a:lnTo>
                    <a:pt x="100" y="3070"/>
                  </a:lnTo>
                  <a:lnTo>
                    <a:pt x="89" y="3042"/>
                  </a:lnTo>
                  <a:lnTo>
                    <a:pt x="81" y="3012"/>
                  </a:lnTo>
                  <a:lnTo>
                    <a:pt x="71" y="2981"/>
                  </a:lnTo>
                  <a:lnTo>
                    <a:pt x="63" y="2950"/>
                  </a:lnTo>
                  <a:lnTo>
                    <a:pt x="54" y="2919"/>
                  </a:lnTo>
                  <a:lnTo>
                    <a:pt x="47" y="2888"/>
                  </a:lnTo>
                  <a:lnTo>
                    <a:pt x="40" y="2856"/>
                  </a:lnTo>
                  <a:lnTo>
                    <a:pt x="34" y="2823"/>
                  </a:lnTo>
                  <a:lnTo>
                    <a:pt x="28" y="2790"/>
                  </a:lnTo>
                  <a:lnTo>
                    <a:pt x="23" y="2756"/>
                  </a:lnTo>
                  <a:lnTo>
                    <a:pt x="18" y="2723"/>
                  </a:lnTo>
                  <a:lnTo>
                    <a:pt x="14" y="2689"/>
                  </a:lnTo>
                  <a:lnTo>
                    <a:pt x="10" y="2653"/>
                  </a:lnTo>
                  <a:lnTo>
                    <a:pt x="8" y="2618"/>
                  </a:lnTo>
                  <a:lnTo>
                    <a:pt x="4" y="2582"/>
                  </a:lnTo>
                  <a:lnTo>
                    <a:pt x="3" y="2546"/>
                  </a:lnTo>
                  <a:lnTo>
                    <a:pt x="1" y="2509"/>
                  </a:lnTo>
                  <a:lnTo>
                    <a:pt x="0" y="2471"/>
                  </a:lnTo>
                  <a:lnTo>
                    <a:pt x="0" y="2433"/>
                  </a:lnTo>
                  <a:lnTo>
                    <a:pt x="1" y="2376"/>
                  </a:lnTo>
                  <a:lnTo>
                    <a:pt x="3" y="2319"/>
                  </a:lnTo>
                  <a:lnTo>
                    <a:pt x="5" y="2263"/>
                  </a:lnTo>
                  <a:lnTo>
                    <a:pt x="10" y="2205"/>
                  </a:lnTo>
                  <a:lnTo>
                    <a:pt x="16" y="2149"/>
                  </a:lnTo>
                  <a:lnTo>
                    <a:pt x="23" y="2093"/>
                  </a:lnTo>
                  <a:lnTo>
                    <a:pt x="31" y="2037"/>
                  </a:lnTo>
                  <a:lnTo>
                    <a:pt x="41" y="1981"/>
                  </a:lnTo>
                  <a:lnTo>
                    <a:pt x="52" y="1926"/>
                  </a:lnTo>
                  <a:lnTo>
                    <a:pt x="64" y="1870"/>
                  </a:lnTo>
                  <a:lnTo>
                    <a:pt x="77" y="1815"/>
                  </a:lnTo>
                  <a:lnTo>
                    <a:pt x="92" y="1759"/>
                  </a:lnTo>
                  <a:lnTo>
                    <a:pt x="107" y="1704"/>
                  </a:lnTo>
                  <a:lnTo>
                    <a:pt x="124" y="1649"/>
                  </a:lnTo>
                  <a:lnTo>
                    <a:pt x="142" y="1594"/>
                  </a:lnTo>
                  <a:lnTo>
                    <a:pt x="162" y="1539"/>
                  </a:lnTo>
                  <a:lnTo>
                    <a:pt x="183" y="1484"/>
                  </a:lnTo>
                  <a:lnTo>
                    <a:pt x="205" y="1430"/>
                  </a:lnTo>
                  <a:lnTo>
                    <a:pt x="229" y="1377"/>
                  </a:lnTo>
                  <a:lnTo>
                    <a:pt x="253" y="1326"/>
                  </a:lnTo>
                  <a:lnTo>
                    <a:pt x="278" y="1275"/>
                  </a:lnTo>
                  <a:lnTo>
                    <a:pt x="306" y="1225"/>
                  </a:lnTo>
                  <a:lnTo>
                    <a:pt x="334" y="1174"/>
                  </a:lnTo>
                  <a:lnTo>
                    <a:pt x="362" y="1126"/>
                  </a:lnTo>
                  <a:lnTo>
                    <a:pt x="393" y="1078"/>
                  </a:lnTo>
                  <a:lnTo>
                    <a:pt x="424" y="1030"/>
                  </a:lnTo>
                  <a:lnTo>
                    <a:pt x="457" y="983"/>
                  </a:lnTo>
                  <a:lnTo>
                    <a:pt x="490" y="937"/>
                  </a:lnTo>
                  <a:lnTo>
                    <a:pt x="525" y="890"/>
                  </a:lnTo>
                  <a:lnTo>
                    <a:pt x="560" y="846"/>
                  </a:lnTo>
                  <a:lnTo>
                    <a:pt x="596" y="800"/>
                  </a:lnTo>
                  <a:lnTo>
                    <a:pt x="634" y="755"/>
                  </a:lnTo>
                  <a:lnTo>
                    <a:pt x="670" y="714"/>
                  </a:lnTo>
                  <a:lnTo>
                    <a:pt x="707" y="674"/>
                  </a:lnTo>
                  <a:lnTo>
                    <a:pt x="744" y="634"/>
                  </a:lnTo>
                  <a:lnTo>
                    <a:pt x="783" y="595"/>
                  </a:lnTo>
                  <a:lnTo>
                    <a:pt x="823" y="558"/>
                  </a:lnTo>
                  <a:lnTo>
                    <a:pt x="864" y="521"/>
                  </a:lnTo>
                  <a:lnTo>
                    <a:pt x="906" y="486"/>
                  </a:lnTo>
                  <a:lnTo>
                    <a:pt x="948" y="451"/>
                  </a:lnTo>
                  <a:lnTo>
                    <a:pt x="991" y="417"/>
                  </a:lnTo>
                  <a:lnTo>
                    <a:pt x="1036" y="385"/>
                  </a:lnTo>
                  <a:lnTo>
                    <a:pt x="1081" y="353"/>
                  </a:lnTo>
                  <a:lnTo>
                    <a:pt x="1128" y="322"/>
                  </a:lnTo>
                  <a:lnTo>
                    <a:pt x="1174" y="292"/>
                  </a:lnTo>
                  <a:lnTo>
                    <a:pt x="1223" y="264"/>
                  </a:lnTo>
                  <a:lnTo>
                    <a:pt x="1273" y="236"/>
                  </a:lnTo>
                  <a:lnTo>
                    <a:pt x="1322" y="210"/>
                  </a:lnTo>
                  <a:lnTo>
                    <a:pt x="1370" y="185"/>
                  </a:lnTo>
                  <a:lnTo>
                    <a:pt x="1417" y="160"/>
                  </a:lnTo>
                  <a:lnTo>
                    <a:pt x="1465" y="139"/>
                  </a:lnTo>
                  <a:lnTo>
                    <a:pt x="1512" y="118"/>
                  </a:lnTo>
                  <a:lnTo>
                    <a:pt x="1559" y="99"/>
                  </a:lnTo>
                  <a:lnTo>
                    <a:pt x="1604" y="81"/>
                  </a:lnTo>
                  <a:lnTo>
                    <a:pt x="1650" y="67"/>
                  </a:lnTo>
                  <a:lnTo>
                    <a:pt x="1695" y="53"/>
                  </a:lnTo>
                  <a:lnTo>
                    <a:pt x="1740" y="40"/>
                  </a:lnTo>
                  <a:lnTo>
                    <a:pt x="1784" y="29"/>
                  </a:lnTo>
                  <a:lnTo>
                    <a:pt x="1827" y="21"/>
                  </a:lnTo>
                  <a:lnTo>
                    <a:pt x="1870" y="13"/>
                  </a:lnTo>
                  <a:lnTo>
                    <a:pt x="1913" y="7"/>
                  </a:lnTo>
                  <a:lnTo>
                    <a:pt x="1955" y="3"/>
                  </a:lnTo>
                  <a:lnTo>
                    <a:pt x="1996" y="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733920" y="762120"/>
            <a:ext cx="17524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762120"/>
            <a:ext cx="175248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ÑO  20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5105520"/>
            <a:ext cx="2971800" cy="12189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TALLERES GRÁFICOS DEL IN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828800"/>
            <a:ext cx="4800600" cy="4768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9560" y="1905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8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209680"/>
            <a:ext cx="345780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Byron  Villacís Cru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avid  Vera Alcív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GESTIÒN ESTRATÉGICA INSTITU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ésar 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ASESORIA JURID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laudio  Gallardo Le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LANIFICACIÒ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Edmundo  Salazar Espino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uth 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A DE RECURSOS HUMAN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Y SERVICIOS ADMINISTRATIV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Cristhian  Cruz Rodrígu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Galo 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RODUCCIÒN ESTADÌSTICAS ECONÒ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Milton  Paucar Bar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PRODUCCIÒN D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ESTADÌSTICAS SOCIODEMOGRÀ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ossman 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DIRECTOR DE DESARROLLO TECNOLÒGICO ESTADÌ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José  Intriago Conforme</a:t>
            </a: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800" spc="-1" strike="noStrike">
                <a:solidFill>
                  <a:srgbClr val="000000"/>
                </a:solidFill>
                <a:latin typeface="Times New Roman"/>
              </a:rPr>
              <a:t>            Jorge  García 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REGIONAL DEL NORTE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O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Rodrigo  Segarra Aguirre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C" sz="700" spc="-1" strike="noStrike">
                <a:solidFill>
                  <a:srgbClr val="000000"/>
                </a:solidFill>
                <a:latin typeface="Times New Roman"/>
              </a:rPr>
              <a:t>      Brenda  Reyes Benavid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DIRECTOR REGIONAL DEL SUR                           DIRECTORA REGIONAL DEL LITOR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895480"/>
            <a:ext cx="2819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35268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1480" y="3276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80988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880" y="3733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160" y="43434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2670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8006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72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2578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840" y="52578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2840" y="5562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51460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1341360" cy="1440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4880" y="1447920"/>
            <a:ext cx="1002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00" spc="-1" strike="noStrike">
                <a:solidFill>
                  <a:srgbClr val="000000"/>
                </a:solidFill>
                <a:latin typeface="Times New Roman"/>
              </a:rPr>
              <a:t>REPUBLICA DEL ECUAD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5715000" y="1219320"/>
            <a:ext cx="1511280" cy="1743120"/>
            <a:chOff x="5715000" y="1219320"/>
            <a:chExt cx="1511280" cy="1743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790960" y="1219320"/>
              <a:ext cx="1341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15000" y="2819520"/>
              <a:ext cx="151128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 baseline="30000">
                  <a:solidFill>
                    <a:srgbClr val="0000ff"/>
                  </a:solidFill>
                  <a:latin typeface="Times New Roman"/>
                </a:rPr>
                <a:t>REPÚBLICA DEL ECUAD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0:43:05Z</dcterms:created>
  <dc:creator>Estadísticas Industriales</dc:creator>
  <dc:description/>
  <dc:language>en-US</dc:language>
  <cp:lastModifiedBy>jpazmino</cp:lastModifiedBy>
  <cp:lastPrinted>2000-09-19T06:11:10Z</cp:lastPrinted>
  <dcterms:modified xsi:type="dcterms:W3CDTF">2007-10-15T13:53:08Z</dcterms:modified>
  <cp:revision>96</cp:revision>
  <dc:subject/>
  <dc:title>Sin título de diapositiva</dc:title>
</cp:coreProperties>
</file>