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471025" cy="6335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15800" y="333360"/>
            <a:ext cx="9220320" cy="6064200"/>
          </a:xfrm>
          <a:prstGeom prst="rect">
            <a:avLst/>
          </a:prstGeom>
          <a:solidFill>
            <a:srgbClr val="f2bf6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79600" y="333360"/>
            <a:ext cx="905328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ANUARIO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ESTADÍSTICAS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D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TRANSPORTE</a:t>
            </a: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581280" y="5562720"/>
            <a:ext cx="3316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6897600" y="620640"/>
          <a:ext cx="23623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7600" y="620640"/>
                    <a:ext cx="23623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3962520"/>
          <a:ext cx="27432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962520"/>
                    <a:ext cx="27432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0" y="3429000"/>
          <a:ext cx="22860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0" y="3429000"/>
                    <a:ext cx="22860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6320" y="3809880"/>
          <a:ext cx="218916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6320" y="3809880"/>
                    <a:ext cx="21891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31800" y="692280"/>
            <a:ext cx="1883880" cy="1038240"/>
            <a:chOff x="631800" y="692280"/>
            <a:chExt cx="1883880" cy="1038240"/>
          </a:xfrm>
        </p:grpSpPr>
        <p:sp>
          <p:nvSpPr>
            <p:cNvPr id="50" name=""/>
            <p:cNvSpPr/>
            <p:nvPr/>
          </p:nvSpPr>
          <p:spPr>
            <a:xfrm>
              <a:off x="934200" y="692280"/>
              <a:ext cx="13788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2880" y="812880"/>
              <a:ext cx="33192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1800" y="1001880"/>
              <a:ext cx="3751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95480" y="898560"/>
              <a:ext cx="2232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19600" y="89712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09240" y="898560"/>
              <a:ext cx="5724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72600" y="898560"/>
              <a:ext cx="5400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20840" y="898560"/>
              <a:ext cx="244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51080" y="898560"/>
              <a:ext cx="5184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01480" y="898560"/>
              <a:ext cx="727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77800" y="898560"/>
              <a:ext cx="5184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26040" y="898560"/>
              <a:ext cx="8964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1840" y="1015920"/>
              <a:ext cx="8784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42480" y="1015920"/>
              <a:ext cx="8172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32120" y="1017720"/>
              <a:ext cx="741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4840" y="101916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30760" y="1017720"/>
              <a:ext cx="9144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24000" y="101592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04280" y="101592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92120" y="1019160"/>
              <a:ext cx="370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6640" y="1019160"/>
              <a:ext cx="727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42960" y="1019160"/>
              <a:ext cx="5940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47080" y="1138320"/>
              <a:ext cx="5940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5040" y="1136520"/>
              <a:ext cx="594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0200" y="1138320"/>
              <a:ext cx="5220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00440" y="113508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87920" y="1138320"/>
              <a:ext cx="727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62440" y="1138320"/>
              <a:ext cx="244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88360" y="1136520"/>
              <a:ext cx="576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54240" y="1138320"/>
              <a:ext cx="5184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0680" y="113832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8400" y="1136520"/>
              <a:ext cx="727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92120" y="1135080"/>
              <a:ext cx="8172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8840" y="1138320"/>
              <a:ext cx="6480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30760" y="1246320"/>
              <a:ext cx="745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03480" y="1246320"/>
              <a:ext cx="5976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61440" y="1243080"/>
              <a:ext cx="8964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51080" y="1246320"/>
              <a:ext cx="5940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12280" y="1246320"/>
              <a:ext cx="8964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03720" y="1246320"/>
              <a:ext cx="59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400" y="811080"/>
              <a:ext cx="70848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68920" y="1438200"/>
              <a:ext cx="1695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94640" y="1390680"/>
              <a:ext cx="37296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95680" y="1389240"/>
              <a:ext cx="31716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5160" y="1386000"/>
              <a:ext cx="303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5T19:27:40Z</dcterms:created>
  <dc:creator>César Caamaño Barba</dc:creator>
  <dc:description/>
  <cp:keywords/>
  <dc:language>en-US</dc:language>
  <cp:lastModifiedBy>jpazmino</cp:lastModifiedBy>
  <cp:lastPrinted>2003-09-08T16:08:41Z</cp:lastPrinted>
  <dcterms:modified xsi:type="dcterms:W3CDTF">2007-06-27T14:37:44Z</dcterms:modified>
  <cp:revision>27</cp:revision>
  <dc:subject/>
  <dc:title>Sin título de diapositiva</dc:title>
</cp:coreProperties>
</file>