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CE5-1749-40C3-96E8-0E146252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265-853F-4EE4-8E02-738E8ABA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6C4-A6E7-4A4C-9102-232C545C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990-EA0D-4FF8-BF65-1C89C4A9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B82-7173-42A6-A82A-4BF35CBB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087-2BD2-447C-8E29-8B8B22A4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80B-C0BC-473A-861D-74203BB3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B3C-FF24-4037-8BB0-5086DC66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A11-7187-4A8E-8373-B72E01E6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59C-4A81-4039-A7AC-26F8A1E4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ECE-1958-4BFA-85FB-4CA4642C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B2F-10A2-45BD-987D-2DAEEDE8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EB0C-7CFC-4E6C-802F-A6C9BD642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04920"/>
            <a:ext cx="7543800" cy="57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7680" y="685800"/>
            <a:ext cx="146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lbertus Medium"/>
              </a:rPr>
              <a:t>PRES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040" y="1066680"/>
            <a:ext cx="656928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tiene a bien poner a disposición de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general, los resultados del Anuario de Estadísticas de Transporte correspondiente al año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contiene información referente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hículos motorizados matricu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cidentes de tránsito y Vícti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Ferrov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Aére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de Cabotaje y Marítim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s fuentes de información que hicieron posible la preparación de este Anuario son:  Dirección General de Tránsito,  Comisión de Tránsito del Guayas,  Empresa  de  Ferrocarriles   del estado,  Dirección de Aviación Civil y  las Capitanías de Puerto dependientes  de  la Dirección de la Marina Merc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, al hacer la entrega de este documento, deja constancia de su agradecimiento a las Instituciones antes mencionadas por la colaboración prestada y al mismo tiempo les reitera el ped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 cordial de seguir proporcionando en forma oportuna los datos que se  requieren  para la preparación  de esta publicación, cuya finalidad es satisfacer los requerimientos de  los  usuarios, de quienes esper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s sus valiosos comentarios, a fin de mejorar en lo posterior su contenido y pres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38:20Z</dcterms:created>
  <dc:creator>Estadísticas Industriales</dc:creator>
  <dc:description/>
  <dc:language>en-US</dc:language>
  <cp:lastModifiedBy>mpazmino</cp:lastModifiedBy>
  <cp:lastPrinted>2003-08-14T19:08:22Z</cp:lastPrinted>
  <dcterms:modified xsi:type="dcterms:W3CDTF">2008-07-17T14:36:28Z</dcterms:modified>
  <cp:revision>23</cp:revision>
  <dc:subject/>
  <dc:title>Sin título de diapositiva</dc:title>
</cp:coreProperties>
</file>