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394-6160-4387-8FC9-9071D0A7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6E7-7619-4A49-B87F-41771B30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1E6-E071-4F6D-998D-D0F215C5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C29-DBE4-44C2-A161-2B4675C4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77B-7BEE-4CCA-9C4D-C20A534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A2A-124A-4DFC-83F2-D00D5ED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D3E-5CD8-43DA-A19E-60CCAB49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7FF-F2BA-4C6E-99E9-540004B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331-F1C5-43EF-9933-8B5725DD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393-F101-4D41-92CF-A1B62F5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85E-D240-4986-B124-4F1F1D0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2E1-20A8-4C02-B67A-1D90EAD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4433-73DE-43CC-A0BF-28CA934DB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905120"/>
            <a:ext cx="3581640" cy="2819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STADÍSTICAS ESTRUCTURALES DE EMPRESAS Y ESTABLECIMIENTOS ECONÓM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uro de la Cadena B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co Pazmiño G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usto Sánchez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762120"/>
            <a:ext cx="175248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ÑO  2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5105520"/>
            <a:ext cx="2971800" cy="12189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TALLERES GRÁFICOS DEL IN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828800"/>
            <a:ext cx="4800600" cy="4768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9560" y="1905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28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09680"/>
            <a:ext cx="381636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Byron 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ossman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ésar 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ASESORI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laudio  Gallardo Le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LANIFICACIÒ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uth 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A DE RECURSOS HUMAN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Y SERVICIOS ADMINISTRATIV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Hugo Freire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Galo 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RODUCCIÒN ESTADÌSTICAS ECONÒ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Julio Ortega And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RODUCCIÒN D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ESTADÌ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avid Manosalvas Vinueza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Jorge 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odrigo  Segarra Aguirre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José Castro Carras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REGIONAL DEL SUR     DIRECTOR REGIONAL DEL LITORAL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895480"/>
            <a:ext cx="2819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35268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1480" y="3276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098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3733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160" y="43434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2670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800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472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2578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840" y="5257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2840" y="5562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1460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134136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7120" y="1484280"/>
            <a:ext cx="1002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00" spc="-1" strike="noStrike">
                <a:solidFill>
                  <a:srgbClr val="000000"/>
                </a:solidFill>
                <a:latin typeface="Times New Roman"/>
              </a:rPr>
              <a:t>REPUBLICA DEL ECUAD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715000" y="1219320"/>
            <a:ext cx="1511280" cy="1743120"/>
            <a:chOff x="5715000" y="1219320"/>
            <a:chExt cx="1511280" cy="1743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790960" y="1219320"/>
              <a:ext cx="134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715000" y="281952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8-08-21T16:50:49Z</dcterms:modified>
  <cp:revision>105</cp:revision>
  <dc:subject/>
  <dc:title>Sin título de diapositiva</dc:title>
</cp:coreProperties>
</file>