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037-2E09-498E-95A4-8B0398AA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763-496A-4C26-9D19-FE8DA3BA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BE2-D327-47DB-889F-8BD8829C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AD5-FD64-4E01-8806-9F71FAEA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D4C-CC6B-415C-9244-BF83F7C2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636-16C3-4E7A-B18B-479C7ADE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0CA-CAC2-4BC7-B233-D87F21A1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11D-6345-4DC7-AA53-8CDA459F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429-BAAD-47C9-8810-910BA32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71C-EF83-4AC5-9F9F-EBC704C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4F2-9BFB-47FC-9808-4671C8FB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D34-071C-46E1-B9C3-466619E9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C60C-13CB-4596-A926-8A80A26B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7621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1905120"/>
            <a:ext cx="3581640" cy="28191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989000"/>
            <a:ext cx="313236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STADÍSTICAS ESTRUCTURALES DE EMPRESAS Y ESTABLECIMIENTOS ECONÓM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uro de la Cadena B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co Pazmiño G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ARROLLO TECNOLÓGICO ESTADÍSTIC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usto Sánchez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IONAL DEL LI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io Merchá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7621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762120"/>
            <a:ext cx="1752480" cy="42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ÑO  2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5105520"/>
            <a:ext cx="2971800" cy="12189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TALLERES GRÁFICOS DEL IN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828800"/>
            <a:ext cx="4800600" cy="502920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5029200"/>
              <a:gd name="textAreaBottom" fmla="*/ 4794840 h 5029200"/>
            </a:gdLst>
            <a:ahLst/>
            <a:rect l="textAreaLeft" t="textAreaTop" r="textAreaRight" b="textAreaBottom"/>
            <a:pathLst>
              <a:path w="21600" h="22628">
                <a:moveTo>
                  <a:pt x="3600" y="0"/>
                </a:moveTo>
                <a:arcTo wR="3600" hR="3600" stAng="16200000" swAng="-5400000"/>
                <a:lnTo>
                  <a:pt x="0" y="19028"/>
                </a:lnTo>
                <a:arcTo wR="3600" hR="3600" stAng="10800000" swAng="-5400000"/>
                <a:lnTo>
                  <a:pt x="18000" y="22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9560" y="190512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28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209680"/>
            <a:ext cx="38163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Byron 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Jorge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SUB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César 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ASESORI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Julio Ortega And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PLANIFICACIÒ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César Morales Pá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SECRETARIO GENERA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Ruth 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A DE RECURSOS HUMAN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Y SERVICIOS ADMINISTRATIV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Rossman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Galo 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PRODUCCIÒN ESTADÌSTICAS ECONÒ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José Intriago Confor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PRODUCCIÒN D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ESTADÌ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Elizabeth Geoconda Ocampo Gavilán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A DE DESARROLLO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Yajaira Vásquez Tenorio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Eduardo Montero 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A REGIONAL DEL NORTE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Rodrigo  Segarra Aguirre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Jéssica Me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REGIONAL DEL SUR     DIRECTORA REGIONAL DEL LITORAL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895480"/>
            <a:ext cx="2819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35268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1480" y="3276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8098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880" y="37339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160" y="43434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26708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8006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472428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2578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840" y="5257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2840" y="55627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51460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134136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57120" y="1484280"/>
            <a:ext cx="1002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500" spc="-1" strike="noStrike">
                <a:solidFill>
                  <a:srgbClr val="000000"/>
                </a:solidFill>
                <a:latin typeface="Times New Roman"/>
              </a:rPr>
              <a:t>REPUBLICA DEL ECUADO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715000" y="1219320"/>
            <a:ext cx="1511280" cy="1743120"/>
            <a:chOff x="5715000" y="1219320"/>
            <a:chExt cx="1511280" cy="17431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790960" y="1219320"/>
              <a:ext cx="134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715000" y="281952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pazmino</cp:lastModifiedBy>
  <cp:lastPrinted>2000-09-19T06:11:10Z</cp:lastPrinted>
  <dcterms:modified xsi:type="dcterms:W3CDTF">2009-09-29T17:05:12Z</dcterms:modified>
  <cp:revision>109</cp:revision>
  <dc:subject/>
  <dc:title>Sin título de diapositiva</dc:title>
</cp:coreProperties>
</file>