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980-ADEF-4206-9E41-2ADC8A90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ED0-1B3E-42D4-A775-F2DF68D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B72-B07B-4F51-94E9-8822D0CE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D75-5743-404A-ACAC-D026C36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D39-8B16-4881-94AC-36536784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D78-089D-416D-9247-1114245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AE1-390C-4A05-B57B-83B39EE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81B-7F6A-470D-9129-5DD5324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685-AEEC-4A1F-AEA0-B4D64C02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0CE-192A-45C8-9AB6-D78BA91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FFE-8BBA-4C08-903C-1F7F32A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840-1BD7-41A1-8DCA-486ECF8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16F-BF2A-42B3-B626-9D68BC0AD9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54380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 y Vícti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Consejo Nacional de Transito y Transporte Terrestre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cp:lastPrinted>2003-08-14T19:08:22Z</cp:lastPrinted>
  <dcterms:modified xsi:type="dcterms:W3CDTF">2009-09-29T17:02:03Z</dcterms:modified>
  <cp:revision>27</cp:revision>
  <dc:subject/>
  <dc:title>Sin título de diapositiva</dc:title>
</cp:coreProperties>
</file>