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85B-3B95-4344-B34C-48D45ABE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374-E2AE-4EFA-8601-64F24CFC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968-0EF9-4707-A81D-69E54BE4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073-CD8B-49F6-B632-B75AF5A0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443-671B-4094-96C2-3F2271E0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8AB-F9F8-4404-B987-5393BFB5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E5B-CFF0-4BF3-AF63-1B474031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BDE-2884-46AC-A3DE-922C8EDF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D68-BB87-42BC-A226-784464A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EC6-8190-464F-A65F-CFB6CDE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453-7A89-46EA-8AAA-C308AB9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F38-A336-4AA8-811A-84CE45B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EE9-1B81-4F91-8E74-24C79A0AB2E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16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113"/>
          <p:cNvSpPr/>
          <p:nvPr/>
        </p:nvSpPr>
        <p:spPr>
          <a:xfrm>
            <a:off x="5410080" y="1905120"/>
            <a:ext cx="3581640" cy="281916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724360" y="1989000"/>
            <a:ext cx="313236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ESTADÍSTICAS ECONÓMICAS ESTRUCTUR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turo de la Cadena B.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co Pazmiño G                                  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Fausto Sánchez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17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733920" y="762120"/>
            <a:ext cx="175248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Bookman Old Style"/>
              </a:rPr>
              <a:t>AÑO 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23"/>
          <p:cNvSpPr/>
          <p:nvPr/>
        </p:nvSpPr>
        <p:spPr>
          <a:xfrm>
            <a:off x="5867280" y="5105520"/>
            <a:ext cx="2971800" cy="1218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COMUNICACIÓN SOCIAL Y REL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PÚBL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IMPRENTA DEL IN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5"/>
          <p:cNvSpPr/>
          <p:nvPr/>
        </p:nvSpPr>
        <p:spPr>
          <a:xfrm>
            <a:off x="304920" y="1700280"/>
            <a:ext cx="4800600" cy="515772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5157720"/>
              <a:gd name="textAreaBottom" fmla="*/ 4923360 h 5157720"/>
            </a:gdLst>
            <a:ahLst/>
            <a:rect l="textAreaLeft" t="textAreaTop" r="textAreaRight" b="textAreaBottom"/>
            <a:pathLst>
              <a:path w="21600" h="23207">
                <a:moveTo>
                  <a:pt x="3600" y="0"/>
                </a:moveTo>
                <a:arcTo wR="3600" hR="3600" stAng="16200000" swAng="-5400000"/>
                <a:lnTo>
                  <a:pt x="0" y="19607"/>
                </a:lnTo>
                <a:arcTo wR="3600" hR="3600" stAng="10800000" swAng="-5400000"/>
                <a:lnTo>
                  <a:pt x="18000" y="23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7"/>
          <p:cNvSpPr/>
          <p:nvPr/>
        </p:nvSpPr>
        <p:spPr>
          <a:xfrm>
            <a:off x="2050920" y="148428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8"/>
          <p:cNvSpPr/>
          <p:nvPr/>
        </p:nvSpPr>
        <p:spPr>
          <a:xfrm>
            <a:off x="2438280" y="228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9"/>
          <p:cNvSpPr/>
          <p:nvPr/>
        </p:nvSpPr>
        <p:spPr>
          <a:xfrm>
            <a:off x="1042920" y="1773360"/>
            <a:ext cx="3816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Byron Antonio Villacís Cru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EJECUTI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Jamile Campozano Vás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DE PLANIF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César Oswaldo Zanafria Niquin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DE ASESORIA JURÍD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Brenda Sempértegui Vaneg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Rossman Ramiro Camacho Carr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ADMINISTRATIVO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Ruth Elena Puyol Cord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DE ADMINISTRACIÓN DEL TALENTO HUMANO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César Roberto Morales P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SECRETARIO GENERAL Y GESTIÓN DOCUMENTA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Elizabeth Geoconda Ocampo Gavilan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DE TECNOLOGIAS DE LA INFORMACIÓN Y COMUN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Jorge Eduardo García Guerrer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COORDINADOR TÉCNICO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avid Gonzalo Vera Alcív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DE NORMATIVAS Y METODOLOGÍAS DEL SE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Rosa Catalina Valle Piñue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DE INFORMACIÓN CARTOGRÁFICA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alia Magaly Paredes B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DE ESTADÌSTICAS ECON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Jorge Luis Gómez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DE ESTADÍSTICAS SOCIO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Jennifer Nathaly Marcillo Chas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DE ESTADÍSTICAS AMBIEN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Livino Manuel Armijos To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DE ESTUDIOS ANALÍTICOS ESTADÍST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Shyrley Jacqueline Padilla P.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 Juana Noemí Gamboa Varg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REGIONAL DEL NORTE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A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Oswaldo Uyaguari Quezada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    Jéssica Alexandra Menéndez Camp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REGIONAL DEL SUR  (E)                             DIRECTORA REGIONAL DEL LITORAL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0"/>
          <p:cNvSpPr/>
          <p:nvPr/>
        </p:nvSpPr>
        <p:spPr>
          <a:xfrm>
            <a:off x="380880" y="2895480"/>
            <a:ext cx="2819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2"/>
          <p:cNvSpPr/>
          <p:nvPr/>
        </p:nvSpPr>
        <p:spPr>
          <a:xfrm>
            <a:off x="533520" y="335268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3"/>
          <p:cNvSpPr/>
          <p:nvPr/>
        </p:nvSpPr>
        <p:spPr>
          <a:xfrm>
            <a:off x="3201480" y="3276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4"/>
          <p:cNvSpPr/>
          <p:nvPr/>
        </p:nvSpPr>
        <p:spPr>
          <a:xfrm>
            <a:off x="380880" y="38098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5"/>
          <p:cNvSpPr/>
          <p:nvPr/>
        </p:nvSpPr>
        <p:spPr>
          <a:xfrm>
            <a:off x="2819880" y="3733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6"/>
          <p:cNvSpPr/>
          <p:nvPr/>
        </p:nvSpPr>
        <p:spPr>
          <a:xfrm>
            <a:off x="380160" y="43434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7"/>
          <p:cNvSpPr/>
          <p:nvPr/>
        </p:nvSpPr>
        <p:spPr>
          <a:xfrm>
            <a:off x="2971800" y="42670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8"/>
          <p:cNvSpPr/>
          <p:nvPr/>
        </p:nvSpPr>
        <p:spPr>
          <a:xfrm>
            <a:off x="380880" y="4800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9"/>
          <p:cNvSpPr/>
          <p:nvPr/>
        </p:nvSpPr>
        <p:spPr>
          <a:xfrm>
            <a:off x="2895480" y="472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0"/>
          <p:cNvSpPr/>
          <p:nvPr/>
        </p:nvSpPr>
        <p:spPr>
          <a:xfrm>
            <a:off x="457200" y="52578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1"/>
          <p:cNvSpPr/>
          <p:nvPr/>
        </p:nvSpPr>
        <p:spPr>
          <a:xfrm>
            <a:off x="3048840" y="5257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2"/>
          <p:cNvSpPr/>
          <p:nvPr/>
        </p:nvSpPr>
        <p:spPr>
          <a:xfrm>
            <a:off x="2742840" y="5562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3"/>
          <p:cNvSpPr/>
          <p:nvPr/>
        </p:nvSpPr>
        <p:spPr>
          <a:xfrm>
            <a:off x="1523880" y="251460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8" descr=""/>
          <p:cNvPicPr/>
          <p:nvPr/>
        </p:nvPicPr>
        <p:blipFill>
          <a:blip r:embed="rId1"/>
          <a:stretch/>
        </p:blipFill>
        <p:spPr>
          <a:xfrm>
            <a:off x="6300720" y="404640"/>
            <a:ext cx="2232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6"/>
          <p:cNvGrpSpPr/>
          <p:nvPr/>
        </p:nvGrpSpPr>
        <p:grpSpPr>
          <a:xfrm>
            <a:off x="5715000" y="1219320"/>
            <a:ext cx="1511280" cy="1743120"/>
            <a:chOff x="5715000" y="1219320"/>
            <a:chExt cx="1511280" cy="1743120"/>
          </a:xfrm>
        </p:grpSpPr>
        <p:pic>
          <p:nvPicPr>
            <p:cNvPr id="66" name="Picture 3" descr="ecuador escudo"/>
            <p:cNvPicPr/>
            <p:nvPr/>
          </p:nvPicPr>
          <p:blipFill>
            <a:blip r:embed="rId1"/>
            <a:stretch/>
          </p:blipFill>
          <p:spPr>
            <a:xfrm>
              <a:off x="5790960" y="1219320"/>
              <a:ext cx="134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4"/>
            <p:cNvSpPr/>
            <p:nvPr/>
          </p:nvSpPr>
          <p:spPr>
            <a:xfrm>
              <a:off x="5715000" y="281952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INEC Francisco Camacho</cp:lastModifiedBy>
  <cp:lastPrinted>2000-09-19T06:11:10Z</cp:lastPrinted>
  <dcterms:modified xsi:type="dcterms:W3CDTF">2012-02-08T20:19:21Z</dcterms:modified>
  <cp:revision>132</cp:revision>
  <dc:subject/>
  <dc:title>Sin título de diapositiva</dc:title>
</cp:coreProperties>
</file>