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A06-6359-4FE1-8CEE-7F41D2E6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F7A-315F-4871-A7BD-8CBADA62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536-A4FD-4C26-99DC-A4E43F83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3C7-379B-4C43-8621-96270EA6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A7D-592E-4228-B64F-C7E8CE21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CA2-ED2B-40F1-B9B0-193F358B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CD6-65E2-46CC-83E1-02D1D47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98F-65CD-4CA8-BE6A-1AAEFA6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E30-2509-43B4-8557-2C487125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1F4-FB0D-4870-8D75-FA66E4B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50B-34BE-41FD-AC6A-1BCA2FB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4AC-22CB-4BA1-ACD8-2101ED5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3E9B-C18B-44D9-80A6-5871985D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51160" y="33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90920" y="22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60520" y="260280"/>
            <a:ext cx="8785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ÍNDICES DE EMPLEO, REMUNERACIONES Y HORAS TRABAJ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lbertus Extra Bold"/>
              </a:rPr>
              <a:t>AGOSTO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5283360" y="45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5240160" y="1197000"/>
            <a:ext cx="4104000" cy="29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400" spc="-1" strike="noStrike">
                <a:solidFill>
                  <a:srgbClr val="000000"/>
                </a:solidFill>
                <a:latin typeface="Arial Unicode MS"/>
              </a:rPr>
              <a:t>PERSONAL TÉCNICO 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Jaime Cevallos Sa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Luis Llugcha Ló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Procesos a nivel 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60520" y="1197000"/>
            <a:ext cx="4248000" cy="525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vid Rafael Maya Alme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renda Sempértigue Vane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 ADMINISTRATIVO FINANCI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 DE ADMINISTRACIÓN 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izabeth Geoconda Ocampo Gavián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INFORAM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osé Alfredo Intriago Confo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halía 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uana Noemí 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Rodrigo Miguel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5240160" y="4581360"/>
            <a:ext cx="4105440" cy="71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La información  referente a los índices y sus variaciones, será considerada de carácter </a:t>
            </a: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i="1" lang="en-US" sz="900" spc="-1" strike="noStrike">
                <a:solidFill>
                  <a:srgbClr val="000000"/>
                </a:solidFill>
                <a:latin typeface="Arial Unicode MS"/>
              </a:rPr>
              <a:t>provisional”</a:t>
            </a: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, por el lapso de tres meses contados a partir del mes de su publ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4" descr="LOGO INE_0"/>
          <p:cNvPicPr/>
          <p:nvPr/>
        </p:nvPicPr>
        <p:blipFill>
          <a:blip r:embed="rId5"/>
          <a:stretch/>
        </p:blipFill>
        <p:spPr>
          <a:xfrm>
            <a:off x="5313240" y="5445000"/>
            <a:ext cx="3996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19:14Z</dcterms:created>
  <dc:creator>epalacios</dc:creator>
  <dc:description/>
  <dc:language>en-US</dc:language>
  <cp:lastModifiedBy>lllugcha</cp:lastModifiedBy>
  <dcterms:modified xsi:type="dcterms:W3CDTF">2011-12-07T17:00:28Z</dcterms:modified>
  <cp:revision>103</cp:revision>
  <dc:subject/>
  <dc:title>Presentación de PowerPoint</dc:title>
</cp:coreProperties>
</file>