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F92-F9C3-4E94-BEE7-69F3C8C0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EDE-3B3C-42C8-B6E4-717D9924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608-B92B-42B9-8CD0-031DAC05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066-956D-480A-8A9A-98BFD82D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3D1-4A24-42FB-B724-9D016656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754-8EC3-4742-A7DA-95E4AA66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4B7-9525-44D9-86AC-7EE35B13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565-1DEB-4B9B-B34E-E8907D26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907-B08C-4E71-A317-2F835A3C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FFB-8017-41E9-B098-3560E04C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84F-1D77-42AD-91C9-60F782F0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A20-7DC0-4EA0-A01F-17869E5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3F10-2718-435E-932A-1C27FF53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51160" y="33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90920" y="22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60520" y="260280"/>
            <a:ext cx="8785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ÍNDICES DE EMPLEO, REMUNERACIONES Y HORAS TRABAJ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SEPTIEMBR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5283360" y="45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5240160" y="1197000"/>
            <a:ext cx="4104000" cy="296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4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Luis Llugcha Ló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Procesos a nivel 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60520" y="1197000"/>
            <a:ext cx="4248000" cy="525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vid Rafael Maya Almei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PLAN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renda Sempértigue Vane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 ADMINISTRATIVO FINANCI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 DE ADMINISTRACIÓN DEL TALENTO HUM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izabeth Geoconda Ocampo Gavián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COORDINADOR TÉCNIC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INFORAMCIÓN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ADÍSTIC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sé Alfredo Intriago Confo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Dalia  Magaly Paredes Bañ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uana Noemí 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Rodrigo Miguel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5240160" y="4581360"/>
            <a:ext cx="4105440" cy="713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La información  referente a los índices y sus variaciones, será considerada de carácter </a:t>
            </a:r>
            <a:r>
              <a:rPr b="1" lang="en-US" sz="9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i="1" lang="en-US" sz="900" spc="-1" strike="noStrike">
                <a:solidFill>
                  <a:srgbClr val="000000"/>
                </a:solidFill>
                <a:latin typeface="Arial Unicode MS"/>
              </a:rPr>
              <a:t>provisional”</a:t>
            </a: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, por el lapso de tres meses contados a partir del mes de su public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4" descr="LOGO INE_0"/>
          <p:cNvPicPr/>
          <p:nvPr/>
        </p:nvPicPr>
        <p:blipFill>
          <a:blip r:embed="rId5"/>
          <a:stretch/>
        </p:blipFill>
        <p:spPr>
          <a:xfrm>
            <a:off x="5313240" y="5445000"/>
            <a:ext cx="3996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lllugcha</cp:lastModifiedBy>
  <dcterms:modified xsi:type="dcterms:W3CDTF">2011-12-26T18:46:21Z</dcterms:modified>
  <cp:revision>105</cp:revision>
  <dc:subject/>
  <dc:title>Presentación de PowerPoint</dc:title>
</cp:coreProperties>
</file>