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66A-E276-4DA3-BF71-711DC987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030-2C56-4C4F-AEE8-D04AE953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9D7-41F7-476B-B84F-DACBCA29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DA0-6078-42F1-89C3-948E5DCD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E0A-E9AE-4D68-8558-6A8B959C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C64-FE61-4C93-8332-503E8FA2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9EE-ECF7-4BE8-865F-C0E3F92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43B-FA5F-4A27-AE97-F0DC16E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89E-0692-4134-B814-ECE9D9DF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FE2-4F5D-42D2-AD1F-3205B48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715-EE8C-4E23-97F8-C83E49D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A6F-3ACE-4548-88E6-4253E5B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DB8-0289-4A61-93DA-53B3E6EA0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51160" y="33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90920" y="22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60520" y="260280"/>
            <a:ext cx="8785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ÍNDICES DE EMPLEO, REMUNERACIONES Y HORAS TRABAJ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OCTUBR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283360" y="45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5240160" y="1197000"/>
            <a:ext cx="4104000" cy="29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4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Luis Llugcha Ló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Procesos a nivel 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60520" y="1197000"/>
            <a:ext cx="4248000" cy="525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amilé Campozano Vásqu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renda Sempértigue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 ADMINISTRATIVO FINANCI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 DE ADMINISTRACIÓN 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, E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INFORAM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uana Noemí 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, Enc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5240160" y="4581360"/>
            <a:ext cx="4105440" cy="71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La información  referente a los índices y sus variaciones, será considerada de carácter </a:t>
            </a: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i="1" lang="en-US" sz="900" spc="-1" strike="noStrike">
                <a:solidFill>
                  <a:srgbClr val="000000"/>
                </a:solidFill>
                <a:latin typeface="Arial Unicode MS"/>
              </a:rPr>
              <a:t>provisional”</a:t>
            </a: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, por el lapso de tres meses contados a partir del mes de su publ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4" descr="LOGO INE_0"/>
          <p:cNvPicPr/>
          <p:nvPr/>
        </p:nvPicPr>
        <p:blipFill>
          <a:blip r:embed="rId5"/>
          <a:stretch/>
        </p:blipFill>
        <p:spPr>
          <a:xfrm>
            <a:off x="5313240" y="5445000"/>
            <a:ext cx="3996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lllugcha</cp:lastModifiedBy>
  <dcterms:modified xsi:type="dcterms:W3CDTF">2012-02-01T22:31:45Z</dcterms:modified>
  <cp:revision>107</cp:revision>
  <dc:subject/>
  <dc:title>Presentación de PowerPoint</dc:title>
</cp:coreProperties>
</file>