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F4F8-5028-450C-ADD0-AF1AAEA1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3D22-0EA2-4CDA-A5AE-34822EFB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1F69-F5C9-435E-9F13-0D57B61A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6B2B-E22B-4BEF-92C7-E602AA4F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CD82-EBC0-47A5-B624-986B2BA4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A2AD-2C09-4000-9EB6-0E2F8FEC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2E07-C060-4BB8-A496-0E312701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08B0-BE23-4032-BC7D-79662181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CB47-2B93-4AE1-BCD8-701DA4EE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76BF-5B20-4092-A421-00A1CBA5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2839-2F60-4131-BEFD-CA513B54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CBA8-52C3-4D33-A4C3-3B6E8D42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797F-8DAF-4011-A405-C05F38C07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251160" y="338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590920" y="224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60520" y="260280"/>
            <a:ext cx="878508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000" spc="-1" strike="noStrike">
                <a:solidFill>
                  <a:srgbClr val="000000"/>
                </a:solidFill>
                <a:latin typeface="Albertus Extra Bold"/>
              </a:rPr>
              <a:t>ÍNDICES DE EMPLEO, REMUNERACIONES Y HORAS TRABAJ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000" spc="-1" strike="noStrike">
                <a:solidFill>
                  <a:srgbClr val="000000"/>
                </a:solidFill>
                <a:latin typeface="Albertus Extra Bold"/>
              </a:rPr>
              <a:t>NOVIEMBRE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5283360" y="451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9"/>
          <p:cNvSpPr/>
          <p:nvPr/>
        </p:nvSpPr>
        <p:spPr>
          <a:xfrm>
            <a:off x="5240160" y="1197000"/>
            <a:ext cx="4104000" cy="2967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C" sz="1400" spc="-1" strike="noStrike">
                <a:solidFill>
                  <a:srgbClr val="000000"/>
                </a:solidFill>
                <a:latin typeface="Arial Unicode MS"/>
              </a:rPr>
              <a:t>PERSONAL TÉCNICO RESPONS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Jaime Cevallos Sa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Luis Llugcha Ló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OPERACIONALIZ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Procesos a nivel  reg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560520" y="1197000"/>
            <a:ext cx="4248000" cy="5256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yron Antonio Villacís Cru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DIRECTOR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amilé Campozano Vásqu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A DE PLAN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ésar Oswaldo Zanafria Niquin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 DE ASESORÍA JURÍ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renda Sempértigue Vaneg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A DE COMUNICACIÓN SO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ossman Ramiro Camacho Carr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  ADMINISTRATIVO FINANCI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uth Elena Puyol Cord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A  DE ADMINISTRACIÓN DEL TALENTO HUMA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ésar Roberto Morales Pá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SECRETARIO GENERAL Y GESTIÓN DOCUMEN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lizabeth Geoconda Ocampo Gavilán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A DE TECNOLOGÍAS DE LA INFORMACIÓN Y COMUNICACIÓN, E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orge Eduardo García Guerr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COORDINADOR TÉCNIC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osa Catalina Valle Piñue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A DE INFORAMCIÓN CARTOGRÁFICA ESTADÍS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alia Magaly Paredes Ba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A DE ESTADÍSTICAS ECONÓM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orge Gómez Pala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 DE ESTADÍSTICAS SOCIODEMOGRÁF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Jennifer Nathaly Marcillo Chas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A DE ESTADÍSTICAS AMBIENT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Livino Manuel Armijos To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 DE ESTUDIOS ANALÍTICOS ESTADÍSTICOS</a:t>
            </a: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ROCESOS A NIVEL REG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Shyrley Jacqueline Padilla Pro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NOR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Juana Noemí  Gamboa Varg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CENT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Oswaldo Uyaguari Queza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REGIONAL DEL SUR, Enc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Jessica Alexandra Menéndez Campos</a:t>
            </a: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LITO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23"/>
          <p:cNvSpPr/>
          <p:nvPr/>
        </p:nvSpPr>
        <p:spPr>
          <a:xfrm>
            <a:off x="5240160" y="4581360"/>
            <a:ext cx="4105440" cy="713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</a:rPr>
              <a:t>La información  referente a los índices y sus variaciones, será considerada de carácter </a:t>
            </a:r>
            <a:r>
              <a:rPr b="1" lang="en-US" sz="9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1" i="1" lang="en-US" sz="900" spc="-1" strike="noStrike">
                <a:solidFill>
                  <a:srgbClr val="000000"/>
                </a:solidFill>
                <a:latin typeface="Arial Unicode MS"/>
              </a:rPr>
              <a:t>provisional”</a:t>
            </a:r>
            <a:r>
              <a:rPr b="0" lang="en-US" sz="900" spc="-1" strike="noStrike">
                <a:solidFill>
                  <a:srgbClr val="000000"/>
                </a:solidFill>
                <a:latin typeface="Arial Unicode MS"/>
              </a:rPr>
              <a:t>, por el lapso de tres meses contados a partir del mes de su publicació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4" descr="LOGO INE_0"/>
          <p:cNvPicPr/>
          <p:nvPr/>
        </p:nvPicPr>
        <p:blipFill>
          <a:blip r:embed="rId5"/>
          <a:stretch/>
        </p:blipFill>
        <p:spPr>
          <a:xfrm>
            <a:off x="5313240" y="5445000"/>
            <a:ext cx="39960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9:19:14Z</dcterms:created>
  <dc:creator>epalacios</dc:creator>
  <dc:description/>
  <dc:language>en-US</dc:language>
  <cp:lastModifiedBy>lllugcha</cp:lastModifiedBy>
  <dcterms:modified xsi:type="dcterms:W3CDTF">2012-03-08T19:35:20Z</dcterms:modified>
  <cp:revision>108</cp:revision>
  <dc:subject/>
  <dc:title>Presentación de PowerPoint</dc:title>
</cp:coreProperties>
</file>