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508-F62B-4091-8FD2-7F044CA7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F8F7-6F4A-43D4-ACA5-0989FF9C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EEC-CECF-4329-917E-5AC40FD1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BE2F-29ED-4EF0-AE32-69C2B547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2A2B-CC3A-446B-9C84-A234A985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329D-63D6-4B67-9332-43528B4C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6715-AEE3-408E-94D6-C3AE7908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9083-484D-415B-B5ED-9344412D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D155-413C-4790-81EA-14EC950D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E468-DF8E-4D50-B493-1B26B030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850D-F0FC-4607-AB32-D30BB27B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C99-8321-4C1A-98B8-2A5C2225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1BD1-39F6-47EB-8DFE-FBB2D91C8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251160" y="338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590920" y="224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60520" y="260280"/>
            <a:ext cx="878508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000000"/>
                </a:solidFill>
                <a:latin typeface="Albertus Extra Bold"/>
              </a:rPr>
              <a:t>ÍNDICES DE EMPLEO, REMUNERACIONES Y HORAS TRABAJ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000000"/>
                </a:solidFill>
                <a:latin typeface="Albertus Extra Bold"/>
              </a:rPr>
              <a:t>DICIEMBRE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5283360" y="451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5240160" y="1197000"/>
            <a:ext cx="4104000" cy="2821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C" sz="1400" spc="-1" strike="noStrike">
                <a:solidFill>
                  <a:srgbClr val="000000"/>
                </a:solidFill>
                <a:latin typeface="Arial Unicode MS"/>
              </a:rPr>
              <a:t>PERSONAL TÉCNICO RESPONS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Jaime Cevallos Sa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OPERACIONAL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Procesos a nivel  reg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560520" y="1197000"/>
            <a:ext cx="4248000" cy="525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yron Antonio Villacís Cru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IRECTOR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amilé Campozano Vásqu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DE PLAN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ésar Oswaldo Zanafria Niquin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 DE ASESORÍA JURÍ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renda Sempértigue Vane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DE COMUNICACIÓN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ossman Ramiro Camacho Carr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  ADMINISTRATIVO FINANCI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uth Elena Puyol Cord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 DE ADMINISTRACIÓN DEL TALENTO HUMA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ésar Roberto Morales Pá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SECRETARIO GENERAL Y GESTIÓN DOCUMEN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izabeth Geoconda Ocampo Gavilán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DE TECNOLOGÍAS DE LA INFORMACIÓN Y COMUNICACIÓN, E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orge Eduardo García Guerr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COORDINADOR TÉCNIC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osa Catalina Valle Piñue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DE INFORAMCIÓN CARTOGRÁFICA ESTADÍS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avid vera Alcív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 DE NORMATIVAS Y METODOLOGÍAS DEL S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alia Magaly Paredes Ba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DE ESTADÍSTICAS ECONÓM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orge Gómez Pala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 DE ESTADÍSTICAS SOCIODEMOGRÁF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Jennifer Nathaly Marcillo Chas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DE ESTADÍSTICAS AMBIENT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Livino Manuel Armijos To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 DE ESTUDIOS ANALÍTICOS ESTADÍSTICOS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ROCESOS A NIVEL REG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Shyrley Jacqueline Padilla Pro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NO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Juana Noemí  Gamboa Varg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CENT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Oswaldo Uyaguari Queza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REGIONAL DEL SUR, Enc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Jessica Alexandra Menéndez Campos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LITO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23"/>
          <p:cNvSpPr/>
          <p:nvPr/>
        </p:nvSpPr>
        <p:spPr>
          <a:xfrm>
            <a:off x="5240160" y="4581360"/>
            <a:ext cx="4105440" cy="713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</a:rPr>
              <a:t>La información  referente a los índices y sus variaciones, será considerada de carácter </a:t>
            </a:r>
            <a:r>
              <a:rPr b="1" lang="en-US" sz="9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1" i="1" lang="en-US" sz="900" spc="-1" strike="noStrike">
                <a:solidFill>
                  <a:srgbClr val="000000"/>
                </a:solidFill>
                <a:latin typeface="Arial Unicode MS"/>
              </a:rPr>
              <a:t>provisional”</a:t>
            </a:r>
            <a:r>
              <a:rPr b="0" lang="en-US" sz="900" spc="-1" strike="noStrike">
                <a:solidFill>
                  <a:srgbClr val="000000"/>
                </a:solidFill>
                <a:latin typeface="Arial Unicode MS"/>
              </a:rPr>
              <a:t>, por el lapso de tres meses contados a partir del mes de su publicació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4" descr="LOGO INE_0"/>
          <p:cNvPicPr/>
          <p:nvPr/>
        </p:nvPicPr>
        <p:blipFill>
          <a:blip r:embed="rId5"/>
          <a:stretch/>
        </p:blipFill>
        <p:spPr>
          <a:xfrm>
            <a:off x="5313240" y="5445000"/>
            <a:ext cx="39960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9:19:14Z</dcterms:created>
  <dc:creator>epalacios</dc:creator>
  <dc:description/>
  <dc:language>en-US</dc:language>
  <cp:lastModifiedBy>lllugcha</cp:lastModifiedBy>
  <dcterms:modified xsi:type="dcterms:W3CDTF">2012-03-27T22:17:03Z</dcterms:modified>
  <cp:revision>110</cp:revision>
  <dc:subject/>
  <dc:title>Presentación de PowerPoint</dc:title>
</cp:coreProperties>
</file>