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D271-9662-49B2-99AD-2D876C410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E0E0-3A17-4E22-89BF-3F8122689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7A93-70AD-4F11-87C7-7585420EE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AEBA-20C6-43FA-9EAD-04AB24024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BD0B-68E4-4F98-A6AF-113AE4039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4074-071F-437B-9BFF-D3A912597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BB29-3577-43DB-9FB8-BA458A988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F7C4-A539-4EDC-99F5-1DEBCE5BA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B8EF-7DC7-4A53-8B65-FD2DFD6BB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5429-AA7F-4C29-9770-A04828EF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9AA2-64CE-48AD-8648-4992BFC5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02D5-5DFB-4EF3-9461-483197B2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7D986-DB2C-482A-A98F-0490E50A016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3"/>
          <p:cNvSpPr/>
          <p:nvPr/>
        </p:nvSpPr>
        <p:spPr>
          <a:xfrm>
            <a:off x="272880" y="457200"/>
            <a:ext cx="6324840" cy="1182600"/>
          </a:xfrm>
          <a:prstGeom prst="flowChartAlternateProcess">
            <a:avLst/>
          </a:prstGeom>
          <a:gradFill rotWithShape="0">
            <a:gsLst>
              <a:gs pos="0">
                <a:srgbClr val="33cccc"/>
              </a:gs>
              <a:gs pos="100000">
                <a:srgbClr val="ffffff"/>
              </a:gs>
            </a:gsLst>
            <a:lin ang="2700000"/>
          </a:gradFill>
          <a:ln w="22320">
            <a:solidFill>
              <a:srgbClr val="ffffff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2251080" y="487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793880" y="3238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923760" y="631800"/>
            <a:ext cx="4953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000" spc="-1" strike="noStrike">
                <a:solidFill>
                  <a:srgbClr val="003399"/>
                </a:solidFill>
                <a:latin typeface="Albertus Extra Bold"/>
              </a:rPr>
              <a:t>ÍNDICES DE VOLUMEN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003399"/>
                </a:solidFill>
                <a:latin typeface="Albertus Extra Bold"/>
              </a:rPr>
              <a:t>AGOSTO 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desk1"/>
          <p:cNvSpPr/>
          <p:nvPr/>
        </p:nvSpPr>
        <p:spPr>
          <a:xfrm>
            <a:off x="192240" y="8825040"/>
            <a:ext cx="3236760" cy="73656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800" spc="-1" strike="noStrike">
                <a:solidFill>
                  <a:srgbClr val="000000"/>
                </a:solidFill>
                <a:latin typeface="Arial Unicode MS"/>
              </a:rPr>
              <a:t>La información mensual referente a los Índices y a sus variaciones, serán consideradas de carácter “</a:t>
            </a:r>
            <a:r>
              <a:rPr b="1" i="1" lang="es-EC" sz="800" spc="-1" strike="noStrike">
                <a:solidFill>
                  <a:srgbClr val="000000"/>
                </a:solidFill>
                <a:latin typeface="Arial Unicode MS"/>
              </a:rPr>
              <a:t>provisional</a:t>
            </a:r>
            <a:r>
              <a:rPr b="0" lang="es-EC" sz="800" spc="-1" strike="noStrike">
                <a:solidFill>
                  <a:srgbClr val="000000"/>
                </a:solidFill>
                <a:latin typeface="Arial Unicode MS"/>
              </a:rPr>
              <a:t> “, por el lapso de tres meses contados a partir del mes de su publicación.</a:t>
            </a:r>
            <a:r>
              <a:rPr b="0" lang="es-EC" sz="6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10"/>
          <p:cNvSpPr/>
          <p:nvPr/>
        </p:nvSpPr>
        <p:spPr>
          <a:xfrm>
            <a:off x="3645000" y="1784520"/>
            <a:ext cx="2971800" cy="4176720"/>
          </a:xfrm>
          <a:custGeom>
            <a:avLst/>
            <a:gdLst>
              <a:gd name="textAreaLeft" fmla="*/ 137520 w 2971800"/>
              <a:gd name="textAreaRight" fmla="*/ 2834280 w 2971800"/>
              <a:gd name="textAreaTop" fmla="*/ 193320 h 4176720"/>
              <a:gd name="textAreaBottom" fmla="*/ 3983400 h 41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11"/>
          <p:cNvSpPr/>
          <p:nvPr/>
        </p:nvSpPr>
        <p:spPr>
          <a:xfrm>
            <a:off x="3645000" y="6105600"/>
            <a:ext cx="2976480" cy="2519280"/>
          </a:xfrm>
          <a:custGeom>
            <a:avLst/>
            <a:gdLst>
              <a:gd name="textAreaLeft" fmla="*/ 137520 w 2976480"/>
              <a:gd name="textAreaRight" fmla="*/ 2838960 w 2976480"/>
              <a:gd name="textAreaTop" fmla="*/ 116640 h 2519280"/>
              <a:gd name="textAreaBottom" fmla="*/ 2402640 h 25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3051000" y="687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8"/>
          <p:cNvSpPr/>
          <p:nvPr/>
        </p:nvSpPr>
        <p:spPr>
          <a:xfrm>
            <a:off x="3657600" y="652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9"/>
          <p:cNvSpPr/>
          <p:nvPr/>
        </p:nvSpPr>
        <p:spPr>
          <a:xfrm>
            <a:off x="3689280" y="6105600"/>
            <a:ext cx="290844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C" sz="1200" spc="-1" strike="noStrike">
                <a:solidFill>
                  <a:srgbClr val="000000"/>
                </a:solidFill>
                <a:latin typeface="Arial Unicode MS"/>
              </a:rPr>
              <a:t>PERSONAL TÉCNICO RESPONS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Arial Unicode MS"/>
              </a:rPr>
              <a:t>ADMINISTRACIÓN CENT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800" spc="-1" strike="noStrike">
                <a:solidFill>
                  <a:srgbClr val="000000"/>
                </a:solidFill>
                <a:latin typeface="Arial Unicode MS"/>
              </a:rPr>
              <a:t>Jaime Cevallos Sal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800" spc="-1" strike="noStrike">
                <a:solidFill>
                  <a:srgbClr val="000000"/>
                </a:solidFill>
                <a:latin typeface="Arial Unicode MS"/>
              </a:rPr>
              <a:t>Luis Llugcha López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Arial Unicode MS"/>
              </a:rPr>
              <a:t>OPERACIONALIZ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9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s-EC" sz="900" spc="-1" strike="noStrike">
                <a:solidFill>
                  <a:srgbClr val="000000"/>
                </a:solidFill>
                <a:latin typeface="Arial Unicode MS"/>
              </a:rPr>
              <a:t>Direcciones Region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192240" y="1784520"/>
            <a:ext cx="3236760" cy="6840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IRECTO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BYRON ANTONIO VILLACÍS CRUZ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DIRECTOR EJECUTIV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avid Rafael Maya Almeida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 DE PLANIFICACI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César Oswaldo Zanafria Niquing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 DE ASESORÍA JURÍDIC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Brenda Sampértigue Vaneg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A DE COMUNICACIÓN SOCI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Rossman Ramiro Camacho Carri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 ADMINISTRATIVO Y FINANCIER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Ruth Elena Puyol Corder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A DE ADMINISTRACIÓN DEL TALENTO HUMANO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César Roberto Morales Páez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SECRETARIO GENERAL Y GESTIÓN DOCUMENT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Elizabeth Geoconda Ocampo Gavilánez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A DE TECNOLOG. DE LA INFORMACIÓN Y COMUNICACI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José Eduardo García Guerrer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COORDINADOR TÉCNICO GENER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Rosa Catalina Valle Piñuel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A DE INFORMACIÓN CARTOGRÁFICA ESTADÍSTIC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Jorge Luis Gómez Palacio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 DE ESTADÍSTICAS ECONÓMIC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José Alfredo Intriago Conform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 DE ESTADÍSTICAS SOCIODEMOGRÁFIC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Jennifer Nathaly Marcillo Chas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A DE ESTADÍSTICAS AMBIENTA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Livinio Manuel Armijos Tor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 DE ESTUDIOS ANALÍTICOS ESTADÍSTICO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PROCESOS A NIVEL REG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Thalía Magaly Paredes Bañ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A REGIONAL DEL NOR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Juana Noemí Gamboa Varg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A REGIONAL DEL CENTR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Miguel Rodrigo Segarra Aguir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 REGIONAL DEL SU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Jéssica Alexandra Menéndez Campo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A REGIONAL DEL LITOR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21"/>
          <p:cNvSpPr/>
          <p:nvPr/>
        </p:nvSpPr>
        <p:spPr>
          <a:xfrm>
            <a:off x="3625920" y="2144880"/>
            <a:ext cx="2971800" cy="35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Stencil"/>
                <a:ea typeface="Times New Roman"/>
              </a:rPr>
              <a:t>PRESENTACIÓN</a:t>
            </a:r>
            <a:r>
              <a:rPr b="1" lang="es-EC" sz="1400" spc="-1" strike="noStrike">
                <a:solidFill>
                  <a:srgbClr val="000000"/>
                </a:solidFill>
                <a:latin typeface="Stenci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 Unicode MS"/>
                <a:ea typeface="Arial"/>
              </a:rPr>
              <a:t>El Instituto Nacional de Estadística y Censos (INEC), desde el año 2003 viene realizando una investigación orientada al sector manufacturero del país y que tiene como objetivo la elaboración del</a:t>
            </a:r>
            <a:r>
              <a:rPr b="0" lang="es-EC" sz="700" spc="-1" strike="noStrike">
                <a:solidFill>
                  <a:srgbClr val="000000"/>
                </a:solidFill>
                <a:latin typeface="Arial Unicode MS"/>
                <a:ea typeface="Arial"/>
              </a:rPr>
              <a:t> Índice de Volumen Industrial “IVI”. A través de estos índices se determinan las variaciones infranuales y la tendencia que tiene la producción de bienes en el país. También, servirán de instrumento de análisis para los organismos públicos y privados que estudian y diagnostican la economía nacional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700" spc="-1" strike="noStrike">
                <a:solidFill>
                  <a:srgbClr val="000000"/>
                </a:solidFill>
                <a:latin typeface="Arial Unicode MS"/>
                <a:ea typeface="Arial"/>
              </a:rPr>
              <a:t>Este indicador es el resultado del procesamiento de la información de los valores monetarios de las ventas e inventarios mensuales de los productos terminados fabricados por los establecimientos manufactureros observados, esta información se la obtiene mediante entrevistas que se realizan en los mismos centros de producción.</a:t>
            </a:r>
            <a:r>
              <a:rPr b="0" lang="es-ES" sz="700" spc="-1" strike="noStrike">
                <a:solidFill>
                  <a:srgbClr val="000000"/>
                </a:solidFill>
                <a:latin typeface="Arial Unicode MS"/>
                <a:ea typeface="Arial"/>
              </a:rPr>
              <a:t> Para ello </a:t>
            </a:r>
            <a:r>
              <a:rPr b="0" lang="es-EC" sz="700" spc="-1" strike="noStrike">
                <a:solidFill>
                  <a:srgbClr val="000000"/>
                </a:solidFill>
                <a:latin typeface="Arial Unicode MS"/>
                <a:ea typeface="Arial"/>
              </a:rPr>
              <a:t>se </a:t>
            </a:r>
            <a:r>
              <a:rPr b="0" lang="es-ES" sz="700" spc="-1" strike="noStrike">
                <a:solidFill>
                  <a:srgbClr val="000000"/>
                </a:solidFill>
                <a:latin typeface="Arial Unicode MS"/>
                <a:ea typeface="Arial"/>
              </a:rPr>
              <a:t>diseñó una muestra de establecimientos manufactureros, teniendo como marco muestral el Directorio de la Encuesta Anual de Manufactura del año 2001. El </a:t>
            </a:r>
            <a:r>
              <a:rPr b="1" i="1" lang="es-ES" sz="700" spc="-1" strike="noStrike">
                <a:solidFill>
                  <a:srgbClr val="000000"/>
                </a:solidFill>
                <a:latin typeface="Arial Unicode MS"/>
                <a:ea typeface="Arial"/>
              </a:rPr>
              <a:t>período base</a:t>
            </a:r>
            <a:r>
              <a:rPr b="0" lang="es-ES" sz="700" spc="-1" strike="noStrike">
                <a:solidFill>
                  <a:srgbClr val="000000"/>
                </a:solidFill>
                <a:latin typeface="Arial Unicode MS"/>
                <a:ea typeface="Arial"/>
              </a:rPr>
              <a:t> al que corresponden los índices es julio-diciembre del año 2003.</a:t>
            </a:r>
            <a:r>
              <a:rPr b="0" lang="es-EC" sz="7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s-ES" sz="700" spc="-1" strike="noStrike">
                <a:solidFill>
                  <a:srgbClr val="000000"/>
                </a:solidFill>
                <a:latin typeface="Arial Unicode MS"/>
                <a:ea typeface="Arial"/>
              </a:rPr>
              <a:t>La investigación tiene una frecuencia mensual y se aplica en todas las provincias del país, excepto Galápagos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 Unicode MS"/>
                <a:ea typeface="Arial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 Unicode MS"/>
                <a:ea typeface="Arial"/>
              </a:rPr>
              <a:t>En esta oportunidad el INEC se complace en presentar el </a:t>
            </a:r>
            <a:r>
              <a:rPr b="1" i="1" lang="es-ES" sz="700" spc="-1" strike="noStrike">
                <a:solidFill>
                  <a:srgbClr val="000000"/>
                </a:solidFill>
                <a:latin typeface="Arial Unicode MS"/>
                <a:ea typeface="Arial"/>
              </a:rPr>
              <a:t>informativo</a:t>
            </a:r>
            <a:r>
              <a:rPr b="0" lang="es-ES" sz="700" spc="-1" strike="noStrike">
                <a:solidFill>
                  <a:srgbClr val="000000"/>
                </a:solidFill>
                <a:latin typeface="Arial Unicode MS"/>
                <a:ea typeface="Arial"/>
              </a:rPr>
              <a:t> que contiene los Índices de Volumen Industrial</a:t>
            </a:r>
            <a:r>
              <a:rPr b="0" lang="es-EC" sz="700" spc="-1" strike="noStrike">
                <a:solidFill>
                  <a:srgbClr val="000000"/>
                </a:solidFill>
                <a:latin typeface="Arial Unicode MS"/>
                <a:ea typeface="Arial"/>
              </a:rPr>
              <a:t> por Productos</a:t>
            </a:r>
            <a:r>
              <a:rPr b="0" lang="es-ES" sz="700" spc="-1" strike="noStrike">
                <a:solidFill>
                  <a:srgbClr val="000000"/>
                </a:solidFill>
                <a:latin typeface="Arial Unicode MS"/>
                <a:ea typeface="Arial"/>
              </a:rPr>
              <a:t> codificado de acuerdo a la Clasificación Central de Productos-CPC y los Índices de Volumen Industrial por Actividades Económicas codificado de acuerdo a la Clasificación Industrial Internacional Uniforme-CIIU3, su variación porcentual mensual, anual y en lo que del presente año.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23" descr="LOGO INE_0"/>
          <p:cNvPicPr/>
          <p:nvPr/>
        </p:nvPicPr>
        <p:blipFill>
          <a:blip r:embed="rId5"/>
          <a:stretch/>
        </p:blipFill>
        <p:spPr>
          <a:xfrm>
            <a:off x="3860640" y="8729640"/>
            <a:ext cx="284328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1T19:19:14Z</dcterms:created>
  <dc:creator>epalacios</dc:creator>
  <dc:description/>
  <dc:language>en-US</dc:language>
  <cp:lastModifiedBy>jcevallos</cp:lastModifiedBy>
  <dcterms:modified xsi:type="dcterms:W3CDTF">2011-12-07T15:29:16Z</dcterms:modified>
  <cp:revision>120</cp:revision>
  <dc:subject/>
  <dc:title>Presentación de PowerPoint</dc:title>
</cp:coreProperties>
</file>