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081-76ED-4019-B000-A67FD033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998-C379-475E-B04C-FB6AE7E1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A9E1-1637-4462-87C1-364477A5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723C-80EB-4E19-8CAD-EE806592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6E3-DDCE-4307-A246-0B12F610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943B-F725-4E90-9F30-BAD1FEAB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EE3E-D01E-4999-9808-C9A2128B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1735-311A-44EC-B1CD-EDDC84C5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D780-33B1-49BB-92A6-DD087109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D0E3-7463-49B1-B7B8-E2CCDFCC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C41B-8569-4AEF-8C71-B58A3CF6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DA2-C732-4F89-9DE2-7FBCECB2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F60C-9F92-4180-9958-B26EE1FB017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3"/>
          <p:cNvSpPr/>
          <p:nvPr/>
        </p:nvSpPr>
        <p:spPr>
          <a:xfrm>
            <a:off x="272880" y="457200"/>
            <a:ext cx="6324840" cy="1182600"/>
          </a:xfrm>
          <a:prstGeom prst="flowChartAlternateProcess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2700000"/>
          </a:gradFill>
          <a:ln w="2232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25108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793880" y="3238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23760" y="631800"/>
            <a:ext cx="4953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003399"/>
                </a:solidFill>
                <a:latin typeface="Albertus Extra Bold"/>
              </a:rPr>
              <a:t>ÍNDICES DE VOLUMEN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3399"/>
                </a:solidFill>
                <a:latin typeface="Albertus Extra Bold"/>
              </a:rPr>
              <a:t>NOVIEMBRE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esk1"/>
          <p:cNvSpPr/>
          <p:nvPr/>
        </p:nvSpPr>
        <p:spPr>
          <a:xfrm>
            <a:off x="192240" y="8825040"/>
            <a:ext cx="3236760" cy="7365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800" spc="-1" strike="noStrike">
                <a:solidFill>
                  <a:srgbClr val="000000"/>
                </a:solidFill>
                <a:latin typeface="Arial Unicode MS"/>
              </a:rPr>
              <a:t>La información mensual referente a los Índices y a sus variaciones, serán consideradas de carácter “</a:t>
            </a:r>
            <a:r>
              <a:rPr b="1" i="1" lang="es-EC" sz="800" spc="-1" strike="noStrike">
                <a:solidFill>
                  <a:srgbClr val="000000"/>
                </a:solidFill>
                <a:latin typeface="Arial Unicode MS"/>
              </a:rPr>
              <a:t>provisional</a:t>
            </a:r>
            <a:r>
              <a:rPr b="0" lang="es-EC" sz="800" spc="-1" strike="noStrike">
                <a:solidFill>
                  <a:srgbClr val="000000"/>
                </a:solidFill>
                <a:latin typeface="Arial Unicode MS"/>
              </a:rPr>
              <a:t> “, por el lapso de tres meses contados a partir del mes de su publicación.</a:t>
            </a:r>
            <a:r>
              <a:rPr b="0" lang="es-EC" sz="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3645000" y="1784520"/>
            <a:ext cx="2971800" cy="4176720"/>
          </a:xfrm>
          <a:custGeom>
            <a:avLst/>
            <a:gdLst>
              <a:gd name="textAreaLeft" fmla="*/ 137520 w 2971800"/>
              <a:gd name="textAreaRight" fmla="*/ 2834280 w 2971800"/>
              <a:gd name="textAreaTop" fmla="*/ 193320 h 4176720"/>
              <a:gd name="textAreaBottom" fmla="*/ 39834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3645000" y="6105600"/>
            <a:ext cx="2976480" cy="2519280"/>
          </a:xfrm>
          <a:custGeom>
            <a:avLst/>
            <a:gdLst>
              <a:gd name="textAreaLeft" fmla="*/ 137520 w 2976480"/>
              <a:gd name="textAreaRight" fmla="*/ 2838960 w 2976480"/>
              <a:gd name="textAreaTop" fmla="*/ 116640 h 2519280"/>
              <a:gd name="textAreaBottom" fmla="*/ 240264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3051000" y="687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3657600" y="652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9"/>
          <p:cNvSpPr/>
          <p:nvPr/>
        </p:nvSpPr>
        <p:spPr>
          <a:xfrm>
            <a:off x="3689280" y="6105600"/>
            <a:ext cx="2908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C" sz="1200" spc="-1" strike="noStrike">
                <a:solidFill>
                  <a:srgbClr val="000000"/>
                </a:solidFill>
                <a:latin typeface="Arial Unicode MS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Arial Unicode MS"/>
              </a:rPr>
              <a:t>Jaime Cevallos Sa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OPERACIONAL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s-EC" sz="900" spc="-1" strike="noStrike">
                <a:solidFill>
                  <a:srgbClr val="000000"/>
                </a:solidFill>
                <a:latin typeface="Arial Unicode MS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192240" y="1784520"/>
            <a:ext cx="3236760" cy="6840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BYRON ANTONIO VILLACÍS CRU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IRECTOR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amilé Campozano Vásqu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PLAN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César Oswaldo Zanafria Niquin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ASESORÍA JURÍD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Brenda Sempértegui Vaneg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COMUNICACIÓN SOC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Rossman Ramiro Camacho Carr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ADMINISTRATIVO Y FINANCI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Ruth Elena Puyol Cord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ADMINISTRACIÓN DEL TALENTO HUMAN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César Roberto Morales Pá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SECRETARIO GENERAL Y GESTIÓN DOCUMENT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Elizabeth Geoconda Ocampo Gavilán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TECNOLOG. DE LA INFORMACIÓN Y COMUNICACIÓN, En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osé Eduardo García Guerr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COORDINADOR TÉCNICO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avid Vera Alcív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NORMATIVAS Y METODOLOGÍAS DEL S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Rosa Catalina Valle Piñuel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INFORMACIÓN CARTOGRÁFICA ESTADÍST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alia Magaly Paredes Bañ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ESTADÍSTICAS ECONÓM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orge Luis Gómez Palaci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ESTADÍSTICAS SOCIODEMOGRÁF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ennifer Nathaly Marcillo Chas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ESTADÍSTICAS AMBIENTA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Livino Manuel Armijos To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ESTUDIOS ANALÍTICOS ESTADÍSTIC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ROCESOS A NIVEL REG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Shyrley Jacqueline Padilla Pro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NO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uana Noemí Gamboa Varg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C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Oswaldo Uyaguari Queza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REGIONAL DEL SUR, Enc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éssica Alexandra Menéndez Camp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3625920" y="2144880"/>
            <a:ext cx="2971800" cy="35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tencil"/>
                <a:ea typeface="Times New Roman"/>
              </a:rPr>
              <a:t>PRESENTACIÓN</a:t>
            </a:r>
            <a:r>
              <a:rPr b="1" lang="es-EC" sz="1400" spc="-1" strike="noStrike">
                <a:solidFill>
                  <a:srgbClr val="000000"/>
                </a:solidFill>
                <a:latin typeface="Stenci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El Instituto Nacional de Estadística y Censos (INEC), desde el año 2003 viene realizando una investigación orientada al sector manufacturero del país y que tiene como objetivo la elaboración del</a:t>
            </a: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Índice de Volumen Industrial “IVI”. A través de estos índices se determinan las variaciones infranuales y la tendencia que tiene la producción de bienes en el país. También, servirán de instrumento de análisis para los organismos públicos y privados que estudian y diagnostican la economía naciona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Este indicador es el resultado del procesamiento de la información de los valores monetarios de las ventas e inventarios mensuales de los productos terminados fabricados por los establecimientos manufactureros observados, esta información se la obtiene mediante entrevistas que se realizan en los mismos centros de producción.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Para ello </a:t>
            </a: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se 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diseñó una muestra de establecimientos manufactureros, teniendo como marco muestral el Directorio de la Encuesta Anual de Manufactura del año 2001. El </a:t>
            </a:r>
            <a:r>
              <a:rPr b="1" i="1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período base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al que corresponden los índices es julio-diciembre del año 2003.</a:t>
            </a: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La investigación tiene una frecuencia mensual y se aplica en todas las provincias del país, excepto Galápago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En esta oportunidad el INEC se complace en presentar el </a:t>
            </a:r>
            <a:r>
              <a:rPr b="1" i="1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informativo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que contiene los Índices de Volumen Industrial</a:t>
            </a: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por Productos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codificado de acuerdo a la Clasificación Central de Productos-CPC y los Índices de Volumen Industrial por Actividades Económicas codificado de acuerdo a la Clasificación Industrial Internacional Uniforme-CIIU3, su variación porcentual mensual, anual y en lo que del presente año.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3" descr="LOGO INE_0"/>
          <p:cNvPicPr/>
          <p:nvPr/>
        </p:nvPicPr>
        <p:blipFill>
          <a:blip r:embed="rId5"/>
          <a:stretch/>
        </p:blipFill>
        <p:spPr>
          <a:xfrm>
            <a:off x="3860640" y="8729640"/>
            <a:ext cx="28432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9:19:14Z</dcterms:created>
  <dc:creator>epalacios</dc:creator>
  <dc:description/>
  <dc:language>en-US</dc:language>
  <cp:lastModifiedBy>jcevallos</cp:lastModifiedBy>
  <dcterms:modified xsi:type="dcterms:W3CDTF">2012-03-26T13:48:10Z</dcterms:modified>
  <cp:revision>127</cp:revision>
  <dc:subject/>
  <dc:title>Presentación de PowerPoint</dc:title>
</cp:coreProperties>
</file>