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F96-7569-47A0-9D3A-48BB0A22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108-57AD-44F9-BA49-EAFBB5DB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E8B-8F96-4A7E-89CC-6F220C97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A79-8E54-4246-A3DE-05992E80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85C-A6EC-44AA-9B07-BC79409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BEF-A417-4510-AA6A-1DEFB80F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B5E-5C13-416F-8CBC-D889E62C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938-EDB9-4174-8458-40C8897E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DBA-8836-4D05-A189-A72D3CE2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647-C200-4C8F-8619-7AA95CC0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CFD-3A59-4EEF-8537-791427B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F60-47FA-4D87-A1CE-827AA6A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339E-91A7-4648-97D7-97D240E961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2880" y="457200"/>
            <a:ext cx="6324840" cy="1182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13500000"/>
          </a:gradFill>
          <a:ln w="2232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3880" y="32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3760" y="631800"/>
            <a:ext cx="49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3399"/>
                </a:solidFill>
                <a:latin typeface="Albertus Extra Bold"/>
              </a:rPr>
              <a:t>ÍNDICES DE VOLUME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99"/>
                </a:solidFill>
                <a:latin typeface="Albertus Extra Bold"/>
              </a:rPr>
              <a:t>SEPTIEMBRE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esk1"/>
          <p:cNvSpPr/>
          <p:nvPr/>
        </p:nvSpPr>
        <p:spPr>
          <a:xfrm>
            <a:off x="192240" y="8825040"/>
            <a:ext cx="3236760" cy="736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La información mensual referente a los Índices y a sus variaciones, serán consideradas de carácter “</a:t>
            </a:r>
            <a:r>
              <a:rPr b="1" i="1" lang="es-EC" sz="800" spc="-1" strike="noStrike">
                <a:solidFill>
                  <a:srgbClr val="000000"/>
                </a:solidFill>
                <a:latin typeface="Arial Unicode MS"/>
              </a:rPr>
              <a:t>provisional</a:t>
            </a: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 “, por el lapso de tres meses contados a partir del mes de su publicación.</a:t>
            </a:r>
            <a:r>
              <a:rPr b="0" lang="es-EC" sz="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45000" y="1784520"/>
            <a:ext cx="2971800" cy="41767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45000" y="6105600"/>
            <a:ext cx="2976480" cy="2519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1000" y="68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652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9280" y="6105600"/>
            <a:ext cx="2908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2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Arial Unicode MS"/>
              </a:rPr>
              <a:t>Luis Llugcha López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s-EC" sz="900" spc="-1" strike="noStrike">
                <a:solidFill>
                  <a:srgbClr val="000000"/>
                </a:solidFill>
                <a:latin typeface="Arial Unicode MS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784520"/>
            <a:ext cx="3236760" cy="684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avid Rafael Maya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PLANIFICACIÓN, E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arco Vinici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I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RECURSOS HUMANOS Y SERV. ADMINISTRATIV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GESTIÓN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Edwin Vladimir Buenaño Herm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GESTIÓN DE PROD.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Alfredo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GESTIÓN DE PROD. DE ESTAD.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William Rafael Huertas Quish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GESTIÓN DE DESARRO. TECNOLÓG. ESTADÍ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drigo Miguel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é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25920" y="2144880"/>
            <a:ext cx="29718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PRESENTACIÓN</a:t>
            </a:r>
            <a:r>
              <a:rPr b="1" lang="es-EC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l Instituto Nacional de Estadística y Censos (INEC), desde el año 2003 viene realizando una investigación orientada al sector manufacturero del país y que tiene como objetivo la elaboración de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Índice de Volumen Industrial “IVI”. A través de estos índices se determinan las variaciones infranuales y la tendencia que tiene la producción de bienes en el país. También, servirán de instrumento de análisis para los organismos públicos y privados que estudian y diagnostican la economía nacion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ste indicador es el resultado del procesamiento de la información de los valores monetarios de las ventas e inventarios mensuales de los productos terminados fabricados por los establecimientos manufactureros observados, esta información se la obtiene mediante entrevistas que se realizan en los mismos centros de producción.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ara ello 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se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ó una muestra de establecimientos manufactureros, teniendo como marco muestral el Directorio de la Encuesta Anual de Manufactura del año 2001.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período base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al que corresponden los índices es julio-diciembre del año 2003.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La investigación tiene una frecuencia mensual y se aplica en todas las provincias del país, excepto Galápago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n esta oportunidad el INEC se complace en presentar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informativo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que contiene los Índices de Volumen Industria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or Productos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codificado de acuerdo a la Clasificación Central de Productos-CPC y los Índices de Volumen Industrial por Actividades Económicas codificado de acuerdo a la Clasificación Industrial Internacional Uniforme-CIIU3, su variación porcentual mensual, anual y en lo que del presente año.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860640" y="8729640"/>
            <a:ext cx="2843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jcevallos</cp:lastModifiedBy>
  <dcterms:modified xsi:type="dcterms:W3CDTF">2010-12-03T19:44:28Z</dcterms:modified>
  <cp:revision>102</cp:revision>
  <dc:subject/>
  <dc:title>Presentación de PowerPoint</dc:title>
</cp:coreProperties>
</file>