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171-2D4B-4D06-9609-4549E36E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C98-6DBA-4CBE-9113-63170781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747-2CF1-4F73-A3B2-1731124C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ADA-43C0-4237-B7BB-ABBAAF5B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436-423E-49FC-AC3E-A31ED129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0EF-19E6-4FC5-A1C4-CECADE1B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CA8-9EF7-4451-A719-7F99D6D4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D4A-E631-4005-B76C-392E8D3F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0BD-4D93-49DA-A7BC-3600E79C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A07-18C9-4094-A9C9-B77EE4C6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990-7DCF-4934-BF32-7D954FBA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0F0-0B24-4510-8473-B998A54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10B2-95D7-4E54-8B10-8905A094D4D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"/>
          <p:cNvSpPr/>
          <p:nvPr/>
        </p:nvSpPr>
        <p:spPr>
          <a:xfrm>
            <a:off x="272880" y="457200"/>
            <a:ext cx="6324840" cy="1182600"/>
          </a:xfrm>
          <a:prstGeom prst="flowChartAlternateProcess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25108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3880" y="32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23760" y="631800"/>
            <a:ext cx="49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3399"/>
                </a:solidFill>
                <a:latin typeface="Albertus Extra Bold"/>
              </a:rPr>
              <a:t>ÍNDICES DE VOLUME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99"/>
                </a:solidFill>
                <a:latin typeface="Albertus Extra Bold"/>
              </a:rPr>
              <a:t>DICIEMBR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esk1"/>
          <p:cNvSpPr/>
          <p:nvPr/>
        </p:nvSpPr>
        <p:spPr>
          <a:xfrm>
            <a:off x="192240" y="8825040"/>
            <a:ext cx="3236760" cy="736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La información mensual referente a los Índices y a sus variaciones, serán consideradas de carácter “</a:t>
            </a:r>
            <a:r>
              <a:rPr b="1" i="1" lang="es-EC" sz="800" spc="-1" strike="noStrike">
                <a:solidFill>
                  <a:srgbClr val="000000"/>
                </a:solidFill>
                <a:latin typeface="Arial Unicode MS"/>
              </a:rPr>
              <a:t>provisional</a:t>
            </a: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 “, por el lapso de tres meses contados a partir del mes de su publicación.</a:t>
            </a:r>
            <a:r>
              <a:rPr b="0" lang="es-EC" sz="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645000" y="1784520"/>
            <a:ext cx="2971800" cy="4176720"/>
          </a:xfrm>
          <a:custGeom>
            <a:avLst/>
            <a:gdLst>
              <a:gd name="textAreaLeft" fmla="*/ 137520 w 2971800"/>
              <a:gd name="textAreaRight" fmla="*/ 2834280 w 2971800"/>
              <a:gd name="textAreaTop" fmla="*/ 193320 h 4176720"/>
              <a:gd name="textAreaBottom" fmla="*/ 39834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3645000" y="6105600"/>
            <a:ext cx="2976480" cy="2519280"/>
          </a:xfrm>
          <a:custGeom>
            <a:avLst/>
            <a:gdLst>
              <a:gd name="textAreaLeft" fmla="*/ 137520 w 2976480"/>
              <a:gd name="textAreaRight" fmla="*/ 2838960 w 2976480"/>
              <a:gd name="textAreaTop" fmla="*/ 116640 h 2519280"/>
              <a:gd name="textAreaBottom" fmla="*/ 2402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051000" y="68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3657600" y="652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3689280" y="6105600"/>
            <a:ext cx="2908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2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s-EC" sz="900" spc="-1" strike="noStrike">
                <a:solidFill>
                  <a:srgbClr val="000000"/>
                </a:solidFill>
                <a:latin typeface="Arial Unicode MS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92240" y="1784520"/>
            <a:ext cx="3236760" cy="684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amilé Campozano Vásq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PLAN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ADMINISTRATIVO Y FINANCI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ADMINISTRACIÓN DEL TALENTO HUMAN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Elizabeth Geoconda Ocampo Gavilán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. DE LA INFORMACIÓN Y COMUNICACIÓN, En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sé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avid Vera Alcív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NORMATIVAS Y METODOLOGÍAS DEL S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, Enc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é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625920" y="2144880"/>
            <a:ext cx="29718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PRESENTACIÓN</a:t>
            </a:r>
            <a:r>
              <a:rPr b="1" lang="es-EC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l Instituto Nacional de Estadística y Censos (INEC), desde el año 2003 viene realizando una investigación orientada al sector manufacturero del país y que tiene como objetivo la elaboración de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Índice de Volumen Industrial “IVI”. A través de estos índices se determinan las variaciones infranuales y la tendencia que tiene la producción de bienes en el país. También, servirán de instrumento de análisis para los organismos públicos y privados que estudian y diagnostican la economía nacion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ste indicador es el resultado del procesamiento de la información de los valores monetarios de las ventas e inventarios mensuales de los productos terminados fabricados por los establecimientos manufactureros observados, esta información se la obtiene mediante entrevistas que se realizan en los mismos centros de producción.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ara ello 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se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diseñó una muestra de establecimientos manufactureros, teniendo como marco muestral el Directorio de la Encuesta Anual de Manufactura del año 2001.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período base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al que corresponden los índices es julio-diciembre del año 2003.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La investigación tiene una frecuencia mensual y se aplica en todas las provincias del país, excepto Galápago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n esta oportunidad el INEC se complace en presentar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informativo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que contiene los Índices de Volumen Industria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or Productos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codificado de acuerdo a la Clasificación Central de Productos-CPC y los Índices de Volumen Industrial por Actividades Económicas codificado de acuerdo a la Clasificación Industrial Internacional Uniforme-CIIU3, su variación porcentual mensual, anual y en lo que del presente año.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3" descr="LOGO INE_0"/>
          <p:cNvPicPr/>
          <p:nvPr/>
        </p:nvPicPr>
        <p:blipFill>
          <a:blip r:embed="rId5"/>
          <a:stretch/>
        </p:blipFill>
        <p:spPr>
          <a:xfrm>
            <a:off x="3860640" y="8729640"/>
            <a:ext cx="2843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jcevallos</cp:lastModifiedBy>
  <dcterms:modified xsi:type="dcterms:W3CDTF">2012-03-26T17:17:20Z</dcterms:modified>
  <cp:revision>128</cp:revision>
  <dc:subject/>
  <dc:title>Presentación de PowerPoint</dc:title>
</cp:coreProperties>
</file>