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380960" y="1973160"/>
            <a:ext cx="71438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1380960" y="4522320"/>
            <a:ext cx="71438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38096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4144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380960" y="452232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041440" y="452232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380960" y="197316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796560" y="197316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211800" y="197316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1380960" y="452232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796560" y="452232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211800" y="452232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1380960" y="1973160"/>
            <a:ext cx="7143840" cy="488016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1380960" y="1973160"/>
            <a:ext cx="7143840" cy="48801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1380960" y="1973160"/>
            <a:ext cx="3485880" cy="48801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041440" y="1973160"/>
            <a:ext cx="3485880" cy="48801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380960" y="501480"/>
            <a:ext cx="7143840" cy="62859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38096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1440" y="1973160"/>
            <a:ext cx="3485880" cy="48801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1380960" y="452232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1380960" y="1973160"/>
            <a:ext cx="3485880" cy="48801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04144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41440" y="452232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38096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4144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1380960" y="4522320"/>
            <a:ext cx="71438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380960" y="1973160"/>
            <a:ext cx="7143840" cy="4880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495360" y="380880"/>
            <a:ext cx="3467160" cy="6019920"/>
          </a:xfrm>
          <a:custGeom>
            <a:avLst/>
            <a:gdLst>
              <a:gd name="textAreaLeft" fmla="*/ 126720 w 3467160"/>
              <a:gd name="textAreaRight" fmla="*/ 3340440 w 3467160"/>
              <a:gd name="textAreaTop" fmla="*/ 126720 h 6019920"/>
              <a:gd name="textAreaBottom" fmla="*/ 5893200 h 6019920"/>
            </a:gdLst>
            <a:ahLst/>
            <a:rect l="textAreaLeft" t="textAreaTop" r="textAreaRight" b="textAreaBottom"/>
            <a:pathLst>
              <a:path w="21600" h="37502">
                <a:moveTo>
                  <a:pt x="2699" y="0"/>
                </a:moveTo>
                <a:arcTo wR="2699" hR="2699" stAng="16200000" swAng="-5400000"/>
                <a:lnTo>
                  <a:pt x="0" y="34803"/>
                </a:lnTo>
                <a:arcTo wR="2699" hR="2699" stAng="10800000" swAng="-5400000"/>
                <a:lnTo>
                  <a:pt x="18901" y="37502"/>
                </a:lnTo>
                <a:arcTo wR="2699" hR="2699" stAng="5400000" swAng="-5400000"/>
                <a:lnTo>
                  <a:pt x="21600" y="2699"/>
                </a:lnTo>
                <a:arcTo wR="2699" hR="269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228600" y="260280"/>
            <a:ext cx="2506680" cy="5329440"/>
          </a:xfrm>
          <a:custGeom>
            <a:avLst/>
            <a:gdLst>
              <a:gd name="textAreaLeft" fmla="*/ 91440 w 2506680"/>
              <a:gd name="textAreaRight" fmla="*/ 2415240 w 2506680"/>
              <a:gd name="textAreaTop" fmla="*/ 91440 h 5329440"/>
              <a:gd name="textAreaBottom" fmla="*/ 5238000 h 5329440"/>
            </a:gdLst>
            <a:ahLst/>
            <a:rect l="textAreaLeft" t="textAreaTop" r="textAreaRight" b="textAreaBottom"/>
            <a:pathLst>
              <a:path w="21600" h="45920">
                <a:moveTo>
                  <a:pt x="2699" y="0"/>
                </a:moveTo>
                <a:arcTo wR="2699" hR="2699" stAng="16200000" swAng="-5400000"/>
                <a:lnTo>
                  <a:pt x="0" y="43221"/>
                </a:lnTo>
                <a:arcTo wR="2699" hR="2699" stAng="10800000" swAng="-5400000"/>
                <a:lnTo>
                  <a:pt x="18901" y="45920"/>
                </a:lnTo>
                <a:arcTo wR="2699" hR="2699" stAng="5400000" swAng="-5400000"/>
                <a:lnTo>
                  <a:pt x="21600" y="2699"/>
                </a:lnTo>
                <a:arcTo wR="2699" hR="2699" stAng="0" swAng="-5400000"/>
                <a:close/>
              </a:path>
            </a:pathLst>
          </a:custGeom>
          <a:solidFill>
            <a:srgbClr val="ffffff"/>
          </a:solidFill>
          <a:ln w="12600">
            <a:solidFill>
              <a:srgbClr val="00000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2936880" y="260280"/>
            <a:ext cx="6691320" cy="532944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272880" y="404640"/>
            <a:ext cx="2492640" cy="4676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IO</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GENERAL</a:t>
            </a:r>
            <a:r>
              <a:rPr b="1" lang="es-ES_tradnl" sz="700" spc="-1" strike="noStrike">
                <a:solidFill>
                  <a:srgbClr val="000000"/>
                </a:solidFill>
                <a:latin typeface="Arial"/>
              </a:rPr>
              <a:t> </a:t>
            </a:r>
            <a:endParaRPr b="0" lang="en-US" sz="7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Byron Villacís Cruz</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SUBDIRECTOR GENERAL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Rossman Camacho Carrión</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ASESORÍA JURÍDICA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César Zanafria Niquinga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AUDITOR INTERNO</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Marco Villavicencio</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PRODUCCIÓN DE ESTADÍSTICAS ECONÓMICAS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 </a:t>
            </a:r>
            <a:r>
              <a:rPr b="0" lang="es-ES_tradnl" sz="600" spc="-1" strike="noStrike">
                <a:solidFill>
                  <a:srgbClr val="000000"/>
                </a:solidFill>
                <a:latin typeface="Arial"/>
              </a:rPr>
              <a:t>Galo Arias Veloz</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PLANIFICACIÓN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Claudio Gallardo León</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DESARROLLO TECNOLÓGICO ESTADÍSTICO (Sub)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Carlos Obando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PRODUCCIÓN DE ESTADÍSTICAS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SOCIODEMOGRÁFICA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Julio Ortega Andrade</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RECURSOS FINANCIERO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Hugo Freire Almeida</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A DE RECURSOS HUMANOS Y SERV. ADMINISTRATIVOS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Ruth Puyol Cordero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PROCESOS A NIVEL REGIONAL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REGIONAL DEL LITORAL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José Castro Carrasco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REGIONAL DEL NORTE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 </a:t>
            </a:r>
            <a:r>
              <a:rPr b="0" lang="es-ES_tradnl" sz="600" spc="-1" strike="noStrike">
                <a:solidFill>
                  <a:srgbClr val="000000"/>
                </a:solidFill>
                <a:latin typeface="Arial"/>
              </a:rPr>
              <a:t>David Manosalvas Vinueza</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REGIONAL DEL CENTRO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Jorge García Guerrero</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REGIONAL DEL SUR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Rodrigo Segarra Aguirre</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COORDINACIÓN SISTEMA  DE  INDICADORES ECONÓMICO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Galo Arias Veloz</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PERSONAL TÉCNICO RESPONSABLE</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         </a:t>
            </a:r>
            <a:r>
              <a:rPr b="0" lang="es-ES_tradnl" sz="600" spc="-1" strike="noStrike">
                <a:solidFill>
                  <a:srgbClr val="000000"/>
                </a:solidFill>
                <a:latin typeface="Arial"/>
              </a:rPr>
              <a:t>Marcia Ortiz                       Georgina Bolaño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 </a:t>
            </a:r>
            <a:r>
              <a:rPr b="0" lang="es-ES_tradnl" sz="600" spc="-1" strike="noStrike">
                <a:solidFill>
                  <a:srgbClr val="000000"/>
                </a:solidFill>
                <a:latin typeface="Arial"/>
              </a:rPr>
              <a:t>Marcelo Calderón              Ligia Villacré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EDICIÓN</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Comunicación y Difusión Estadística</a:t>
            </a:r>
            <a:endParaRPr b="0" lang="en-US" sz="600" spc="-1" strike="noStrike">
              <a:solidFill>
                <a:srgbClr val="000000"/>
              </a:solidFill>
              <a:latin typeface="Times New Roman"/>
            </a:endParaRPr>
          </a:p>
        </p:txBody>
      </p:sp>
      <p:sp>
        <p:nvSpPr>
          <p:cNvPr id="42" name=""/>
          <p:cNvSpPr/>
          <p:nvPr/>
        </p:nvSpPr>
        <p:spPr>
          <a:xfrm>
            <a:off x="849240" y="5084640"/>
            <a:ext cx="129564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IMPRESIÓN</a:t>
            </a:r>
            <a:endParaRPr b="0" lang="en-US" sz="7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rPr>
              <a:t>Talleres Gráficos del INEC</a:t>
            </a:r>
            <a:endParaRPr b="0" lang="en-US" sz="700" spc="-1" strike="noStrike">
              <a:solidFill>
                <a:srgbClr val="000000"/>
              </a:solidFill>
              <a:latin typeface="Times New Roman"/>
            </a:endParaRPr>
          </a:p>
        </p:txBody>
      </p:sp>
      <p:sp>
        <p:nvSpPr>
          <p:cNvPr id="43" name=""/>
          <p:cNvSpPr/>
          <p:nvPr/>
        </p:nvSpPr>
        <p:spPr>
          <a:xfrm>
            <a:off x="3614760" y="166680"/>
            <a:ext cx="1789200" cy="82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873600" y="692280"/>
            <a:ext cx="12682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000" spc="-1" strike="noStrike">
                <a:solidFill>
                  <a:srgbClr val="000000"/>
                </a:solidFill>
                <a:latin typeface="Arial"/>
              </a:rPr>
              <a:t>PRESENTACIÓN</a:t>
            </a:r>
            <a:endParaRPr b="0" lang="en-US" sz="1000" spc="-1" strike="noStrike">
              <a:solidFill>
                <a:srgbClr val="000000"/>
              </a:solidFill>
              <a:latin typeface="Times New Roman"/>
            </a:endParaRPr>
          </a:p>
        </p:txBody>
      </p:sp>
      <p:sp>
        <p:nvSpPr>
          <p:cNvPr id="45" name=""/>
          <p:cNvSpPr/>
          <p:nvPr/>
        </p:nvSpPr>
        <p:spPr>
          <a:xfrm>
            <a:off x="2936880" y="1125360"/>
            <a:ext cx="6473880" cy="42004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Arial"/>
              </a:rPr>
              <a:t>	</a:t>
            </a:r>
            <a:r>
              <a:rPr b="0" i="1" lang="es-ES_tradnl" sz="1000" spc="-1" strike="noStrike">
                <a:solidFill>
                  <a:srgbClr val="000000"/>
                </a:solidFill>
                <a:latin typeface="Arial"/>
              </a:rPr>
              <a:t>El Instituto Nacional de Estadística y Censos, en cumplimiento de lo dispuesto en la Ley  2000-4 de Transformación Económica del Ecuador, Disposición General Séptima, emitida en el Registro Oficial No. 34, Suplemento del 13 de Marzo del 2000, publica en el presente Boletín, los índices de precios de materiales, equipo y maquinaria de la construcción, en función de la nueva base igual 100.00, correspondiente al lapso 14 de marzo al 12 de abril del 2000 (en este lapso no existe variación).</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Arial"/>
              </a:rPr>
              <a:t>	</a:t>
            </a:r>
            <a:r>
              <a:rPr b="0" i="1" lang="es-ES_tradnl" sz="1000" spc="-1" strike="noStrike">
                <a:solidFill>
                  <a:srgbClr val="000000"/>
                </a:solidFill>
                <a:latin typeface="Arial"/>
              </a:rPr>
              <a:t>El  período de referencia de esta publicación es </a:t>
            </a:r>
            <a:r>
              <a:rPr b="1" i="1" lang="es-ES_tradnl" sz="1000" spc="-1" strike="noStrike">
                <a:solidFill>
                  <a:srgbClr val="000000"/>
                </a:solidFill>
                <a:latin typeface="Arial"/>
              </a:rPr>
              <a:t>Diciembre 2008.</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Arial"/>
              </a:rPr>
              <a:t>	</a:t>
            </a:r>
            <a:r>
              <a:rPr b="0" i="1" lang="es-ES_tradnl" sz="1000" spc="-1" strike="noStrike">
                <a:solidFill>
                  <a:srgbClr val="000000"/>
                </a:solidFill>
                <a:latin typeface="Arial"/>
              </a:rPr>
              <a:t>Los índices que figuran en la presente publicación se calculan con precios a nivel productor o importador e incluyen el Impuesto al Valor Agregado, cuando no hay exoneraciones.</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Arial"/>
              </a:rPr>
              <a:t>	</a:t>
            </a:r>
            <a:r>
              <a:rPr b="0" i="1" lang="es-ES_tradnl" sz="1000" spc="-1" strike="noStrike">
                <a:solidFill>
                  <a:srgbClr val="000000"/>
                </a:solidFill>
                <a:latin typeface="Arial"/>
              </a:rPr>
              <a:t>Para los meses en que aparece guión ( - ), en lugar de los índices, se debe a que no hay dato disponible.</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Arial"/>
              </a:rPr>
              <a:t>	</a:t>
            </a:r>
            <a:r>
              <a:rPr b="0" i="1" lang="es-ES_tradnl" sz="1000" spc="-1" strike="noStrike">
                <a:solidFill>
                  <a:srgbClr val="000000"/>
                </a:solidFill>
                <a:latin typeface="Arial"/>
              </a:rPr>
              <a:t>En cada tabla de índices de precios se hace referencia a la provincia en que se encuentra la planta productora o el establecimiento importador, salvo el caso de aquellos, que ha sido factible obtener un índice de precios de carácter nacional.</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Arial"/>
              </a:rPr>
              <a:t>	</a:t>
            </a:r>
            <a:r>
              <a:rPr b="0" i="1" lang="es-ES_tradnl" sz="1000" spc="-1" strike="noStrike">
                <a:solidFill>
                  <a:srgbClr val="000000"/>
                </a:solidFill>
                <a:latin typeface="Arial"/>
              </a:rPr>
              <a:t>Para la edición de índices de materiales, equipo y/o maquinaria de la construcción que no consten en este boletín se solicitarán oportunamente al INEC. La fórmula utilizada en su cálculo es de Laspeyres con base fija. El mes de arranque se cierra al 12 de  abril  del 2000, cuyos índices tienen un valor 100. Se publican índices parciales y generales que engloban a los primeros, salvo los casos en que, por falta de datos para efectos de ponderación, no ha sido posible llegar a ese nivel de agregación.</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Arial"/>
              </a:rPr>
              <a:t>	</a:t>
            </a:r>
            <a:r>
              <a:rPr b="0" i="1" lang="es-ES_tradnl" sz="1000" spc="-1" strike="noStrike">
                <a:solidFill>
                  <a:srgbClr val="000000"/>
                </a:solidFill>
                <a:latin typeface="Arial"/>
              </a:rPr>
              <a:t>Se debe reiterar que los índices de precios, que se publican en este boletín, tienen el propósito fundamental de que sean aplicados en las fórmulas de reajuste de precios de las obras públicas.  </a:t>
            </a:r>
            <a:r>
              <a:rPr b="0" i="1" lang="es-ES_tradnl" sz="1000" spc="-1" strike="noStrike">
                <a:solidFill>
                  <a:srgbClr val="000000"/>
                </a:solidFill>
                <a:latin typeface="Arial"/>
              </a:rPr>
              <a:t>	</a:t>
            </a:r>
            <a:r>
              <a:rPr b="0" i="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46" name=""/>
          <p:cNvSpPr/>
          <p:nvPr/>
        </p:nvSpPr>
        <p:spPr>
          <a:xfrm>
            <a:off x="4778280" y="5565600"/>
            <a:ext cx="3816360" cy="23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027320" y="5796000"/>
            <a:ext cx="1811520" cy="22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027320" y="6022800"/>
            <a:ext cx="5383440" cy="50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6897600" y="5661000"/>
            <a:ext cx="2448000" cy="831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9T18:26:28Z</dcterms:created>
  <dc:creator>CESAR CAAMAÑO BARBA</dc:creator>
  <dc:description/>
  <cp:keywords/>
  <dc:language>en-US</dc:language>
  <cp:lastModifiedBy>Marcelo Calderon</cp:lastModifiedBy>
  <cp:lastPrinted>2004-11-12T20:16:06Z</cp:lastPrinted>
  <dcterms:modified xsi:type="dcterms:W3CDTF">2009-01-15T15:41:18Z</dcterms:modified>
  <cp:revision>240</cp:revision>
  <dc:subject/>
  <dc:title>Sin título de diapositiva</dc:title>
</cp:coreProperties>
</file>