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9F43-C571-4D5A-899B-4B7580AA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B43E-99C5-4871-A633-A6558C3B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9274-424C-4A64-BB75-67B028AC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9D1A-F279-4D44-974C-0B5BA92A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BD7F-5034-4474-BE85-06EBDD5E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8836-94CA-4356-9BD4-8F1F3EE5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2830-2483-4C77-A19A-E19DE0C0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EAD9-7C61-40C7-94BB-4FEAA18C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82AB-B220-4014-B3DF-D2829344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DBEE-A47E-4AE4-BA62-FCAC5F68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C208-09CF-48CF-A776-3CE2163E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197-A538-4670-809A-65C1C7C6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0EFF-D747-46A7-ADCF-AF831F41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A6C3-D963-4BF2-A019-C7C59110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3A61-6B69-4CA7-B1BE-36FA26C9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8664-4950-40BB-9C2F-F4CFD22C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91CB-FD61-407F-B74C-9ACC9080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989-058B-4B6D-8FC4-58306A00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9F72-0F4D-4E38-8168-A17D3359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4C2E-C62F-4DD1-B99D-43C059C5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7803-3B42-47AB-B2C8-F333CABD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F272-73A4-44EC-9234-8B789255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240-35C8-4114-BCEE-99D22D6A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BC0-2BD9-4535-BCFD-480FB62E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3cb277"/>
              </a:gs>
              <a:gs pos="50000">
                <a:srgbClr val="00cc99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3cb277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0528-E58B-4EC5-B7E5-2508C0F0C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3cb277"/>
              </a:gs>
              <a:gs pos="50000">
                <a:srgbClr val="00cc99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3cb277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20B6-F6C6-42FC-B9CF-EB10D681236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2209320"/>
            <a:ext cx="9162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Bookman Old Style"/>
              </a:rPr>
              <a:t>INDICE DE PRECIOS AL PRODUCTOR</a:t>
            </a:r>
            <a:br>
              <a:rPr sz="3000"/>
            </a:br>
            <a:br>
              <a:rPr sz="3000"/>
            </a:br>
            <a:r>
              <a:rPr b="1" i="1" lang="es-ES_tradnl" sz="3000" spc="-1" strike="noStrike">
                <a:solidFill>
                  <a:srgbClr val="000000"/>
                </a:solidFill>
                <a:latin typeface="Bookman Old Style"/>
              </a:rPr>
              <a:t>IP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BASE:  Año 1995 = 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Boletín Mens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Octubre de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38080" y="552600"/>
            <a:ext cx="17384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9T16:34:32Z</dcterms:created>
  <dc:creator>SUBDIRECCION TECNICA</dc:creator>
  <dc:description/>
  <dc:language>en-US</dc:language>
  <cp:lastModifiedBy>mllerena</cp:lastModifiedBy>
  <cp:lastPrinted>2002-12-13T19:32:47Z</cp:lastPrinted>
  <dcterms:modified xsi:type="dcterms:W3CDTF">2003-11-06T19:27:16Z</dcterms:modified>
  <cp:revision>86</cp:revision>
  <dc:subject/>
  <dc:title>INDICE DE PRECIOS AL PRODUCTOR IPP</dc:title>
</cp:coreProperties>
</file>