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1023-E466-45A2-B18F-64CF9023F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485720" y="48020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D0B6-8BA6-4535-A466-D2B1E1DBC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485720" y="48020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38920" y="48020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9DC0-4920-4F19-961F-6A6D4C163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30040" y="38862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74360" y="38862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485720" y="48020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30040" y="48020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74360" y="48020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33A2-2DBD-40A7-9600-1328443F0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E44FF-7759-441F-87A8-BB24B54D5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EB784-F8E6-4C2B-9411-28538E099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F4428-358E-452D-97FC-68C21D710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FB8DA-D2BD-4C7D-A391-B23E17436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B9F65-D6AD-499A-89E4-788D55EC6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742680" y="22856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713A7-E148-4E75-ABBA-F2422BE01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485720" y="48020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822AA-05AD-4BDD-84C6-7B3E4513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177D-F019-457F-AD60-4AC2DEFFD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38920" y="48020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4E0CB-BE80-4702-A9EE-4E10FA48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485720" y="48020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28F96-0503-43D3-BDA2-F4354DF3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485720" y="48020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ECF5F-A539-443A-9B34-05F080ED4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485720" y="48020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038920" y="48020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0D6D2-8042-4A6F-A458-DEB0D4AFA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30040" y="38862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74360" y="38862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485720" y="48020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30040" y="48020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74360" y="48020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74A91-0B85-4CC4-8C46-AC626B88D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66D4-62D5-4040-AF1D-F589F6DAB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9489-DB2B-411F-ACB2-DF18783C7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B9FA-2149-4E0A-AE8F-AF9AFEBE9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742680" y="22856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6A53-5DC6-4630-83AC-52CD3EBB2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85720" y="48020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7F11-354B-44AF-A17B-28C1E689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8920" y="48020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FA90-F19B-4B93-BA76-8794020D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85720" y="48020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4AA1-C139-4738-973E-5FBF5C87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515520" y="444600"/>
            <a:ext cx="390600" cy="3152520"/>
          </a:xfrm>
          <a:prstGeom prst="rect">
            <a:avLst/>
          </a:prstGeom>
          <a:gradFill rotWithShape="0">
            <a:gsLst>
              <a:gs pos="0">
                <a:srgbClr val="3cb277"/>
              </a:gs>
              <a:gs pos="50000">
                <a:srgbClr val="00cc99"/>
              </a:gs>
              <a:gs pos="100000">
                <a:srgbClr val="3cb27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90612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cb277"/>
              </a:gs>
              <a:gs pos="50000">
                <a:srgbClr val="3366ff"/>
              </a:gs>
              <a:gs pos="100000">
                <a:srgbClr val="3cb27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63520"/>
            <a:ext cx="990612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3cb277"/>
              </a:gs>
              <a:gs pos="50000">
                <a:srgbClr val="3366ff"/>
              </a:gs>
              <a:gs pos="100000">
                <a:srgbClr val="3cb27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91960"/>
            <a:ext cx="990612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3cb277"/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05160"/>
            <a:ext cx="990612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dc8d6a"/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682720" y="1522440"/>
            <a:ext cx="722340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dc8d6a"/>
              </a:gs>
              <a:gs pos="50000">
                <a:srgbClr val="3366ff"/>
              </a:gs>
              <a:gs pos="100000">
                <a:srgbClr val="dc8d6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443400"/>
            <a:ext cx="990612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dc8d6a"/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52840"/>
            <a:ext cx="675648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dc8d6a"/>
              </a:gs>
              <a:gs pos="50000">
                <a:srgbClr val="3366ff"/>
              </a:gs>
              <a:gs pos="100000">
                <a:srgbClr val="dc8d6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242CE-7B3D-43E6-BFDF-6A7E9DFB13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515520" y="444600"/>
            <a:ext cx="390600" cy="3152520"/>
          </a:xfrm>
          <a:prstGeom prst="rect">
            <a:avLst/>
          </a:prstGeom>
          <a:gradFill rotWithShape="0">
            <a:gsLst>
              <a:gs pos="0">
                <a:srgbClr val="3cb277"/>
              </a:gs>
              <a:gs pos="50000">
                <a:srgbClr val="00cc99"/>
              </a:gs>
              <a:gs pos="100000">
                <a:srgbClr val="3cb27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90612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cb277"/>
              </a:gs>
              <a:gs pos="50000">
                <a:srgbClr val="3366ff"/>
              </a:gs>
              <a:gs pos="100000">
                <a:srgbClr val="3cb27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63520"/>
            <a:ext cx="990612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3cb277"/>
              </a:gs>
              <a:gs pos="50000">
                <a:srgbClr val="3366ff"/>
              </a:gs>
              <a:gs pos="100000">
                <a:srgbClr val="3cb27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91960"/>
            <a:ext cx="990612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3cb277"/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405160"/>
            <a:ext cx="990612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dc8d6a"/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82720" y="1522440"/>
            <a:ext cx="722340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dc8d6a"/>
              </a:gs>
              <a:gs pos="50000">
                <a:srgbClr val="3366ff"/>
              </a:gs>
              <a:gs pos="100000">
                <a:srgbClr val="dc8d6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443400"/>
            <a:ext cx="990612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dc8d6a"/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552840"/>
            <a:ext cx="675648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dc8d6a"/>
              </a:gs>
              <a:gs pos="50000">
                <a:srgbClr val="3366ff"/>
              </a:gs>
              <a:gs pos="100000">
                <a:srgbClr val="dc8d6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7609A-AE08-4B78-B63B-C9D2FEF04E4E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2920" y="2209320"/>
            <a:ext cx="91627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Bookman Old Style"/>
              </a:rPr>
              <a:t>INDICE DE PRECIOS AL PRODUCTOR</a:t>
            </a:r>
            <a:br>
              <a:rPr sz="3000"/>
            </a:br>
            <a:br>
              <a:rPr sz="3000"/>
            </a:br>
            <a:r>
              <a:rPr b="1" i="1" lang="es-ES_tradnl" sz="3000" spc="-1" strike="noStrike">
                <a:solidFill>
                  <a:srgbClr val="000000"/>
                </a:solidFill>
                <a:latin typeface="Bookman Old Style"/>
              </a:rPr>
              <a:t>IPP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s-ES_tradnl" sz="2200" spc="-1" strike="noStrike">
                <a:solidFill>
                  <a:srgbClr val="000000"/>
                </a:solidFill>
                <a:latin typeface="Bookman Old Style"/>
              </a:rPr>
              <a:t>BASE:  Año 1995 = 1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0000"/>
                </a:solidFill>
                <a:latin typeface="Bookman Old Style"/>
              </a:rPr>
              <a:t>Boletín Mensu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0000"/>
                </a:solidFill>
                <a:latin typeface="Bookman Old Style"/>
              </a:rPr>
              <a:t>Agosto de 200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838080" y="552600"/>
            <a:ext cx="173844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9T16:34:32Z</dcterms:created>
  <dc:creator>SUBDIRECCION TECNICA</dc:creator>
  <dc:description/>
  <dc:language>en-US</dc:language>
  <cp:lastModifiedBy>mllerena</cp:lastModifiedBy>
  <cp:lastPrinted>2002-12-13T19:32:47Z</cp:lastPrinted>
  <dcterms:modified xsi:type="dcterms:W3CDTF">2003-09-08T14:35:20Z</dcterms:modified>
  <cp:revision>84</cp:revision>
  <dc:subject/>
  <dc:title>INDICE DE PRECIOS AL PRODUCTOR IPP</dc:title>
</cp:coreProperties>
</file>