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B6A-4B82-4E79-A969-D5F5B6BE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6F0-DC0C-465E-BC3B-761085E6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3A8-F26E-47CC-9245-382CA242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EBB-00BC-4F5D-A730-0758D02D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3E45-C476-467D-A131-5EC25A1A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F201-22CE-40D6-97DF-6E36CA0E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B336-7C1F-43AF-AAC7-EA45E976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74A2-9041-46EE-B2DA-0535DE5B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4974-1D3F-4BE6-9836-3CDFC727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97D7-37FF-40A6-84A8-9D6A90E0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E407-DEAB-41A5-9478-B2C3F0DD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60E-3C8D-44B4-85A8-2AFE6BC3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3F17-09CB-493F-8EAC-A0CAE1FD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CB34-ABE3-407F-84F5-AD8A2AE7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DE48-B3C2-4D19-A488-C5C138A1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FF3C-498B-41A1-A999-46C6248F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8CB8-8E47-40BE-AEB7-876DECDA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650-2F06-4A6E-8CE0-C0BE5862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8E4-D147-469B-AC4A-02E58F30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5E4-D2F4-4BF8-AB7A-1BEE34BC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BD5-7C39-4FA7-BD20-3B549BF2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09C-6678-4623-9F68-67CFA850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9C8-AE19-4AFC-B675-0C147433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273-F2B8-4478-AA41-9A6E93D8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4780-F84E-4809-B78E-160BB39CD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C473-0FC5-448D-9740-33F36CCFAD6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2209320"/>
            <a:ext cx="9162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INDICE DE PRECIOS AL PRODUCTOR</a:t>
            </a:r>
            <a:br>
              <a:rPr sz="3000"/>
            </a:br>
            <a:br>
              <a:rPr sz="3000"/>
            </a:br>
            <a:r>
              <a:rPr b="1" i="1" lang="es-ES_tradnl" sz="3000" spc="-1" strike="noStrike">
                <a:solidFill>
                  <a:srgbClr val="000000"/>
                </a:solidFill>
                <a:latin typeface="Bookman Old Style"/>
              </a:rPr>
              <a:t>IP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ASE:  Año 1995 =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oletín Mens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Mayo de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552600"/>
            <a:ext cx="1738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6:34:32Z</dcterms:created>
  <dc:creator>SUBDIRECCION TECNICA</dc:creator>
  <dc:description/>
  <dc:language>en-US</dc:language>
  <cp:lastModifiedBy>mllerena</cp:lastModifiedBy>
  <cp:lastPrinted>2002-12-13T19:32:47Z</cp:lastPrinted>
  <dcterms:modified xsi:type="dcterms:W3CDTF">2003-06-11T13:41:59Z</dcterms:modified>
  <cp:revision>81</cp:revision>
  <dc:subject/>
  <dc:title>INDICE DE PRECIOS AL PRODUCTOR IPP</dc:title>
</cp:coreProperties>
</file>