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1FE-3D4F-47DA-ADC6-0BA3F8B7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E7E-15CC-4C66-B693-241B14B4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9FB-321A-47D3-A944-11072CEC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E38-AF81-4971-A5EF-B39E681E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D6E6-0C1D-462A-8F52-A39CEAE1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C289-CDBF-46AC-95DB-5AFD16C0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285F-D56F-4170-8FF5-2271FFC9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5A0A-4233-4F2D-AE51-14F47145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9E27-6AD0-434B-80A1-0E3A9974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7EF1-F079-49CB-A687-00C05D1D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A0A7-7765-4433-ADBA-26AEBADB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2C8-2B5C-44DE-809A-7A434A38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1037-6582-444A-B7BC-2581B399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342A-D124-4F44-8DB4-A1A315B0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0697-35BF-4ADF-983E-55660FFF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902D-4C25-4DD0-8D48-0F9CD1F1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C5CC-389D-4A03-A5C0-3568F599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27E-E371-4359-B882-B0F64FC8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4BC-B139-4D27-8B18-5F3A9EC1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3B6-163A-4C03-925B-1903689B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4FD-4F3A-41D2-B67B-A3EE477B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2F4-3B95-4581-A413-A180F83B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DE7-DCCF-470B-B197-AED11811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62D-AAE4-4AA1-90BE-DFCAB3C9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9287-49B7-498A-A434-D46CD8000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1062-9534-4D69-90D7-757E305A1BA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2209320"/>
            <a:ext cx="9162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INDICE DE PRECIOS AL PRODUCTOR</a:t>
            </a:r>
            <a:br>
              <a:rPr sz="3000"/>
            </a:br>
            <a:br>
              <a:rPr sz="3000"/>
            </a:br>
            <a:r>
              <a:rPr b="1" i="1" lang="es-ES_tradnl" sz="3000" spc="-1" strike="noStrike">
                <a:solidFill>
                  <a:srgbClr val="000000"/>
                </a:solidFill>
                <a:latin typeface="Bookman Old Style"/>
              </a:rPr>
              <a:t>IP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ASE:  Año 1995 = 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oletín Mens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Marzo de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552600"/>
            <a:ext cx="1738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6:34:32Z</dcterms:created>
  <dc:creator>SUBDIRECCION TECNICA</dc:creator>
  <dc:description/>
  <dc:language>en-US</dc:language>
  <cp:lastModifiedBy>mllerena</cp:lastModifiedBy>
  <cp:lastPrinted>2002-12-13T19:32:47Z</cp:lastPrinted>
  <dcterms:modified xsi:type="dcterms:W3CDTF">2003-04-08T13:21:37Z</dcterms:modified>
  <cp:revision>79</cp:revision>
  <dc:subject/>
  <dc:title>INDICE DE PRECIOS AL PRODUCTOR IPP</dc:title>
</cp:coreProperties>
</file>