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0B4-2DC3-4D69-90ED-997D5EF7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03F-DA75-4D28-852E-B7DBE796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2DE-C362-4521-860C-5603CE8D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891-7994-4125-8083-97697F71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F226-3316-4377-941F-45D08168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10DF-A781-4369-81A0-480F0A41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C824-D300-42BF-B116-9363FF5F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46FE-E792-4DE5-9397-AECA472C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19FF-DC23-4FDC-AD8E-22F57433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D5EF-8441-45EC-AD2D-5FFBDE1B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145B-1E56-4717-AA66-BE65F2BE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768-6741-41A7-AB62-8A41AA2E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17CA-6420-4738-B21A-9177EB3A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C035-6D0D-49ED-9457-96BC0018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EDF8-97AF-407B-80E6-7E84B209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01C9-99AF-4AF7-9B90-5D4EA777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9330-D5BA-4D45-8557-E2444140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10B-C23F-473E-98B7-2BE7AE1B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EF9-3304-4E78-9BC2-5BAFF351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B39-FA66-43A6-B286-C3D52ED3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978-1EF2-4C5A-B5F0-9B171262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34F-66D8-4F8C-9D41-8FD4790F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068-C609-4F46-876D-C42BADE1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C05-DFBC-48A1-A243-B2224FED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F00B-BF27-4F2C-B458-05794C467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A019-9503-48F6-8431-1123A5122DD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2209320"/>
            <a:ext cx="9162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</a:rPr>
              <a:t>INDICE DE PRECIOS AL PRODUCTOR</a:t>
            </a:r>
            <a:br>
              <a:rPr sz="3000"/>
            </a:br>
            <a:br>
              <a:rPr sz="3000"/>
            </a:br>
            <a:r>
              <a:rPr b="1" i="1" lang="es-ES_tradnl" sz="3000" spc="-1" strike="noStrike">
                <a:solidFill>
                  <a:srgbClr val="000000"/>
                </a:solidFill>
                <a:latin typeface="Bookman Old Style"/>
              </a:rPr>
              <a:t>IP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ASE:  Año 1995 = 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oletín Mens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Junio de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080" y="552600"/>
            <a:ext cx="1738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16:34:32Z</dcterms:created>
  <dc:creator>SUBDIRECCION TECNICA</dc:creator>
  <dc:description/>
  <dc:language>en-US</dc:language>
  <cp:lastModifiedBy>mllerena</cp:lastModifiedBy>
  <cp:lastPrinted>2002-12-13T19:32:47Z</cp:lastPrinted>
  <dcterms:modified xsi:type="dcterms:W3CDTF">2003-07-08T14:43:43Z</dcterms:modified>
  <cp:revision>82</cp:revision>
  <dc:subject/>
  <dc:title>INDICE DE PRECIOS AL PRODUCTOR IPP</dc:title>
</cp:coreProperties>
</file>