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1D7-3D91-469D-883F-6C91940E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F11-1355-472E-A194-E664A108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3BE-F555-4AC9-B244-1FB0453D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4EF-288E-4003-8985-37F81D94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9048-EAB2-4610-AEBC-91A834DD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2B23-E54B-498D-98D4-5A023D54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8D0-8994-4704-89F5-483F0A50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0DAF-7623-4611-969E-38201CD4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D3B-402F-469E-89B8-6BACD734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40A7-5421-4475-9C6C-8EC2E66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35C3-DDF6-41B3-BFD4-92FA054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123-E5C2-491B-AFB8-08DA527A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43C5-0927-4188-8209-930AD98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48EA-6D1F-4AFC-846C-F768093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3C96-52C7-4424-B635-CD5E188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B96-456F-44B4-ACEC-4A303C84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D91-4199-4834-ACAF-9F7D4104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836-21E4-42A4-BAD2-C8A62B22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279-E49F-4EFB-8B3D-10C67065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1EB-48C5-458C-9687-A3900C0D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5ED-EF59-48AE-A1B3-451FEA85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158-3F33-4C3D-9C90-8346501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C6A-02ED-4CEC-B555-CA313F9A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619-A96D-4928-B49F-273F88D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7B67-5ABB-4692-92D3-976BCBA92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BA60-80C8-4A5F-BFA6-B40B83C679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Abril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5-09T15:36:01Z</dcterms:modified>
  <cp:revision>80</cp:revision>
  <dc:subject/>
  <dc:title>INDICE DE PRECIOS AL PRODUCTOR IPP</dc:title>
</cp:coreProperties>
</file>