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1AA-6CEF-4330-920C-1C1F6BA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9A2-1E5F-46D4-9108-88C73F3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0AC-60DD-4D8B-BBBA-C8DFCCB6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703-123E-49F9-91FD-6CBCF115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ADEF-8140-4051-BF88-2FE639DC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08A-5D95-495B-9329-E74E226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C7BB-4DDA-43CB-A5A5-F6216D4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4930-DD6A-4884-934B-0E6A2B13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6ABE-BEAC-4770-BCE5-4E2017B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5479-4B21-4CCB-A0D1-609A5210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7B83-D017-455D-BAF3-E2B2403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886-7B35-4924-BBCB-AB7A2B22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715-3E77-46D7-95BA-2AC9086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5A50-88CA-4148-BB9B-A36DEAB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13C-1449-4E36-9DE8-C8046E2B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48D-EFEF-41E8-9FBD-E4880C38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650-C6A5-437D-A4A3-96C57C59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6CE-3AEF-4082-8625-BF0DA9E8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BEB-2CC7-4542-BEDC-C64A4D7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2FB-4535-485F-9088-B74943F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0CC-C5B0-45EA-8725-B9F26EC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1D9-6D13-478F-9962-F786625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04D-DD54-46A6-B21E-AE14C1F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73E-FC57-4E02-9FA7-61A3D61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D814-8988-4D57-B287-AD217797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5011-0D9B-44EC-8601-F8A6E334DE8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209320"/>
            <a:ext cx="9162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INDICE DE PRECIOS AL PRODUCTOR</a:t>
            </a:r>
            <a:br>
              <a:rPr sz="3000"/>
            </a:br>
            <a:br>
              <a:rPr sz="30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Bookman Old Style"/>
              </a:rPr>
              <a:t>Enero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552600"/>
            <a:ext cx="1738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SUBDIRECCION TECNICA</dc:creator>
  <dc:description/>
  <dc:language>en-US</dc:language>
  <cp:lastModifiedBy>mllerena</cp:lastModifiedBy>
  <cp:lastPrinted>2002-12-13T19:32:47Z</cp:lastPrinted>
  <dcterms:modified xsi:type="dcterms:W3CDTF">2003-02-07T17:02:39Z</dcterms:modified>
  <cp:revision>77</cp:revision>
  <dc:subject/>
  <dc:title>INDICE DE PRECIOS AL PRODUCTOR IPP</dc:title>
</cp:coreProperties>
</file>