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2EC8-DD8F-4388-B026-65729F23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54B-DA9F-49A1-866A-FC8BA50C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F57-D591-4637-A0F8-7491ED08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22D-9AE3-4220-BDC0-179710E2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4BE4-7D2B-4B02-BF10-ED768A3D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9FA4-CE65-4C22-AB9A-ADD003E3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6E54-8F68-46AA-B39C-4AAC5CB5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3EFD-72D7-4430-A758-04AC7C0B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7891-EA28-4790-9D42-08D360BF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F434-994D-46A1-A7B7-10BBC49A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E3CB-A461-4154-BE33-DC1FE4E1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119-E71F-416B-913F-52B16930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05FB-C8ED-4224-8BC3-34541067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EC76-3DE2-42DE-9E43-24F6490C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53A1-9581-4429-BF0B-71CE7A67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A757-AA03-4886-9D99-A4DB2955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3570-E369-45D5-906C-2C3A5B2F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DE65-9C66-4D71-BA25-5758B5BA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889-3A75-4BAB-AB57-A4864DCB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8CD-B2C6-4AFA-A4C9-D78E7AA9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8FD6-0C17-4C1F-AE89-A91816E8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00D-F1D1-4540-BA6A-A81F2F84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613-3442-4976-8579-B00EE617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91BB-EFF6-466B-B12E-09F51F94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3cb277"/>
              </a:gs>
              <a:gs pos="50000">
                <a:srgbClr val="00cc99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3cb277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CC98-AE44-48AA-9556-84B132474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3cb277"/>
              </a:gs>
              <a:gs pos="50000">
                <a:srgbClr val="00cc99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3cb277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5A62-C2EA-437D-85E3-682454D00B1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2209320"/>
            <a:ext cx="9162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Bookman Old Style"/>
              </a:rPr>
              <a:t>INDICE DE PRECIOS AL PRODUCTOR</a:t>
            </a:r>
            <a:br>
              <a:rPr sz="3000"/>
            </a:br>
            <a:br>
              <a:rPr sz="3000"/>
            </a:br>
            <a:r>
              <a:rPr b="1" i="1" lang="es-ES_tradnl" sz="3000" spc="-1" strike="noStrike">
                <a:solidFill>
                  <a:srgbClr val="000000"/>
                </a:solidFill>
                <a:latin typeface="Bookman Old Style"/>
              </a:rPr>
              <a:t>IP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BASE:  Año 1995 = 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Boletín Mens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Febrero de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080" y="552600"/>
            <a:ext cx="17384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9T16:34:32Z</dcterms:created>
  <dc:creator>SUBDIRECCION TECNICA</dc:creator>
  <dc:description/>
  <dc:language>en-US</dc:language>
  <cp:lastModifiedBy>mllerena</cp:lastModifiedBy>
  <cp:lastPrinted>2002-12-13T19:32:47Z</cp:lastPrinted>
  <dcterms:modified xsi:type="dcterms:W3CDTF">2003-03-12T16:43:48Z</dcterms:modified>
  <cp:revision>78</cp:revision>
  <dc:subject/>
  <dc:title>INDICE DE PRECIOS AL PRODUCTOR IPP</dc:title>
</cp:coreProperties>
</file>