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519-9CF1-43C6-A043-E30542F2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3BC-F986-4B99-BE1E-D939D690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F58-CD38-4C38-81E9-FFAEBBEF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869-359B-4699-A265-81791793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7005-606E-47D8-A675-F0FF86EE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54E3-8D13-4C4A-ABF2-D03EF835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19AA-E893-47B4-A3D1-3C7DB6D0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4F70-20B1-4206-8F39-D4EE02A4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CDFE-1F04-4899-9B27-A95FC10B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A22F-8BCC-4F94-BD9F-B235F5AF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3B13-4573-49D6-A6D3-C6CBEF28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16F-F031-4478-B29F-080D995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1514-CE7C-4C6C-A07E-63ED5E8C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AFF3-2616-45F8-A5A1-9B8FF36E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27AA-C14E-4DD4-925E-97CBD87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FF85-92D9-4C62-9E97-982A564D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0DC8-E0DF-4E34-8C76-6D7ED2F7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26E-D970-4D3F-ABEB-F336A9FE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774-94F7-4291-A3BD-D72C31B5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92D-5ABD-4E43-BB22-7207F786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74F-0F43-441D-8AFA-BD4D8FEF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2B2-89AB-400F-AE15-C0A4EB8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A30-90F4-42F8-87E2-431B8CBA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FE6-1C72-4BF2-A169-DD1BE613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E8FE-D1BD-440F-9570-F0E3BCE6D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E97-2530-49F1-8E29-F425EF5B34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Septiembre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10-08T20:33:00Z</dcterms:modified>
  <cp:revision>85</cp:revision>
  <dc:subject/>
  <dc:title>INDICE DE PRECIOS AL PRODUCTOR IPP</dc:title>
</cp:coreProperties>
</file>