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EF0-E629-4D28-8E67-29183EEE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5E5-FD54-4473-A29C-29BBE887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388-BCC2-468F-82D3-A8176A5A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457-7CB5-4C83-A97B-2EABC666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59F5-8776-438F-B47F-D20271DF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ACE5-6E17-4D18-A173-AAA618AE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8688-3030-4D77-AA86-20EFC60A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6355-EB3E-4F24-818D-6B7F66A3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530C-CB3A-43F5-B6D8-66E9745D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DBE0-4A5D-4285-9460-6D5BE163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9EDB-0208-443A-B959-FD19E08E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945-960F-4311-9758-66E1E5F6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CEA6-20AF-4643-88FD-8DAFBDC7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2253-9245-4815-853A-D2569941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88BB-EAB3-4AA7-9420-10846F0B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36CA-16E0-4DC9-BE81-F7B48F85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2A2F-D378-4AF1-B5E6-F366415B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99C-1366-4F5C-8272-69C08D07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A9F-6DCB-4E34-9038-9F1DEC06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EBDC-BA34-4F91-AD90-1757932A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6D85-5418-4240-9473-D42C5FC3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33AC-87AE-48C0-89A7-5E2B0C58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6C6-AB99-47B3-AB1E-49CB67EC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956-622B-4E14-863E-81FF0F93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145D-87BE-4AC2-AD19-430A4F44B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A84D-5BB6-430D-9A17-97D26092835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2209320"/>
            <a:ext cx="9162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</a:rPr>
              <a:t>INDICE DE PRECIOS AL PRODUCTOR</a:t>
            </a:r>
            <a:br>
              <a:rPr sz="3000"/>
            </a:br>
            <a:br>
              <a:rPr sz="3000"/>
            </a:br>
            <a:r>
              <a:rPr b="1" i="1" lang="es-ES_tradnl" sz="3000" spc="-1" strike="noStrike">
                <a:solidFill>
                  <a:srgbClr val="000000"/>
                </a:solidFill>
                <a:latin typeface="Bookman Old Style"/>
              </a:rPr>
              <a:t>IP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ASE:  Año 1995 = 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oletín Mens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Julio de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080" y="552600"/>
            <a:ext cx="1738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16:34:32Z</dcterms:created>
  <dc:creator>SUBDIRECCION TECNICA</dc:creator>
  <dc:description/>
  <dc:language>en-US</dc:language>
  <cp:lastModifiedBy>mllerena</cp:lastModifiedBy>
  <cp:lastPrinted>2002-12-13T19:32:47Z</cp:lastPrinted>
  <dcterms:modified xsi:type="dcterms:W3CDTF">2003-08-07T19:31:41Z</dcterms:modified>
  <cp:revision>83</cp:revision>
  <dc:subject/>
  <dc:title>INDICE DE PRECIOS AL PRODUCTOR IPP</dc:title>
</cp:coreProperties>
</file>