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9802813" cy="14357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2F00-5140-4E44-B943-A5A0CCFB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AB1B-B666-4D51-A797-89F7DFA7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8D65-695E-4A88-BC93-B05460CD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3004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436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48572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3004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436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379D-F319-45CC-91A5-55353541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D54E-CD4B-4548-9D19-1D37CF80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E619-5C64-4399-8DC8-4010D328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C151-EA2F-48D2-8D61-C20663AD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4E01-8A62-4312-82CA-2546C471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4308-1218-4085-98AA-CE59762E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42680" y="22856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11D3-4C96-4BAC-B981-73784F7D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1DD7-BBC1-43BD-BA05-8124F600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80D8-7925-4E44-BA85-58EF2488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67B1-E013-48A5-866C-7A9F24D4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AE2B-075E-4F36-AF3A-52663145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F86E-089E-4F7B-8E59-02B38333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290A-BAFF-40BE-AF10-E2C17D2B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3004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436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48572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3004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436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3321-69D1-4BC2-84D9-B28340B9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9B78-2079-4A15-9412-2932BAB4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8ECF-10E9-47BE-910E-B96DA567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B5EB-E05D-45FE-B3B6-C91FF058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42680" y="22856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5A89-E140-4E3F-BE00-A576F291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0F2B-8E59-43AC-A2FF-00CA0DCF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74B-1CAB-4C0F-A3D9-B0B8BB76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C95-D415-4D88-97A3-930CC4DD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515520" y="444600"/>
            <a:ext cx="390600" cy="3152520"/>
          </a:xfrm>
          <a:prstGeom prst="rect">
            <a:avLst/>
          </a:prstGeom>
          <a:gradFill rotWithShape="0">
            <a:gsLst>
              <a:gs pos="0">
                <a:srgbClr val="3cb277"/>
              </a:gs>
              <a:gs pos="50000">
                <a:srgbClr val="00cc99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3cb277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665D-F46C-4F37-8135-7D98A5705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515520" y="444600"/>
            <a:ext cx="390600" cy="3152520"/>
          </a:xfrm>
          <a:prstGeom prst="rect">
            <a:avLst/>
          </a:prstGeom>
          <a:gradFill rotWithShape="0">
            <a:gsLst>
              <a:gs pos="0">
                <a:srgbClr val="3cb277"/>
              </a:gs>
              <a:gs pos="50000">
                <a:srgbClr val="00cc99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3cb277"/>
              </a:gs>
              <a:gs pos="50000">
                <a:srgbClr val="3366ff"/>
              </a:gs>
              <a:gs pos="100000">
                <a:srgbClr val="3cb2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3cb277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dc8d6a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dc8d6a"/>
              </a:gs>
              <a:gs pos="50000">
                <a:srgbClr val="3366ff"/>
              </a:gs>
              <a:gs pos="100000">
                <a:srgbClr val="dc8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2508-C687-4702-9F2B-E99B7D075E6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2400480"/>
            <a:ext cx="91627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Bookman Old Style"/>
              </a:rPr>
              <a:t>ÍNDICE DE PRECIOS AL PRODUCTOR</a:t>
            </a:r>
            <a:br>
              <a:rPr sz="3200"/>
            </a:br>
            <a:r>
              <a:rPr b="1" i="1" lang="es-ES_tradnl" sz="3200" spc="-1" strike="noStrike">
                <a:solidFill>
                  <a:srgbClr val="000000"/>
                </a:solidFill>
                <a:latin typeface="Bookman Old Style"/>
              </a:rPr>
              <a:t>TOTAL NACIONAL</a:t>
            </a:r>
            <a:br>
              <a:rPr sz="3000"/>
            </a:br>
            <a:br>
              <a:rPr sz="1800"/>
            </a:br>
            <a:r>
              <a:rPr b="1" i="1" lang="es-ES_tradnl" sz="3000" spc="-1" strike="noStrike">
                <a:solidFill>
                  <a:srgbClr val="000000"/>
                </a:solidFill>
                <a:latin typeface="Bookman Old Style"/>
              </a:rPr>
              <a:t>IP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s-ES_tradnl" sz="2600" spc="-1" strike="noStrike">
                <a:solidFill>
                  <a:srgbClr val="000000"/>
                </a:solidFill>
                <a:latin typeface="Bookman Old Style"/>
              </a:rPr>
              <a:t>BASE:  Año 1995 = 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0000"/>
                </a:solidFill>
                <a:latin typeface="Bookman Old Style"/>
              </a:rPr>
              <a:t>Boletín Mensu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0000"/>
                </a:solidFill>
                <a:latin typeface="Bookman Old Style"/>
              </a:rPr>
              <a:t>Diciembre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584520" y="620640"/>
            <a:ext cx="231480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9T16:34:32Z</dcterms:created>
  <dc:creator>IPP</dc:creator>
  <dc:description/>
  <dc:language>en-US</dc:language>
  <cp:lastModifiedBy>randino</cp:lastModifiedBy>
  <cp:lastPrinted>2002-12-13T19:32:47Z</cp:lastPrinted>
  <dcterms:modified xsi:type="dcterms:W3CDTF">2008-01-04T18:46:22Z</dcterms:modified>
  <cp:revision>143</cp:revision>
  <dc:subject/>
  <dc:title>INDICE DE PRECIOS AL PRODUCTOR IPP</dc:title>
</cp:coreProperties>
</file>