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36880" y="404640"/>
            <a:ext cx="63374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. 1.  DISTRIBUCIÓN PORCENTUAL A NIVEL NACIONAL, SEGÚ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SECCIONES (CIIU) DE ACTIVIDAD ECONÓMICA D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52880" y="1268280"/>
            <a:ext cx="3774960" cy="48783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405240" y="1490760"/>
            <a:ext cx="3902040" cy="476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657600" y="1712880"/>
            <a:ext cx="396540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6280" y="2432160"/>
            <a:ext cx="397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60880" y="2205000"/>
            <a:ext cx="316692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úmero de Estable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onal Ocup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un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ción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o Inter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or Agre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ción Bruta de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reci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8T14:12:00Z</dcterms:created>
  <dc:creator/>
  <dc:description/>
  <dc:language>en-US</dc:language>
  <cp:lastModifiedBy>mpazmino</cp:lastModifiedBy>
  <cp:lastPrinted>2000-05-17T14:30:24Z</cp:lastPrinted>
  <dcterms:modified xsi:type="dcterms:W3CDTF">2006-08-24T16:16:52Z</dcterms:modified>
  <cp:revision>19</cp:revision>
  <dc:subject/>
  <dc:title>1. INVESTIGACIONES PERMANENTES</dc:title>
</cp:coreProperties>
</file>