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3A7-263F-47EF-9D7B-DBB97DF0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2C6-BD58-49A6-988B-07620024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70E-FA9A-47D0-BEF8-FC089DD4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954-24E2-4EC6-942C-3B886540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361-DA1A-4A2A-94A5-87FEC1B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F52-69D8-4EEF-AE05-C9ABC393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D76-86E4-4794-973D-E290644A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B6F-22DD-4A22-B1D5-4D1FCB02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377-AE17-416B-A26C-026D268D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299-0768-49D9-A7EA-D4C1D2C6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06C-A870-47B8-889B-B37F4E1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B23-EDE0-44E0-A40F-CBABED5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2EF9-4867-4BC5-ABFD-B5D27EBF2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666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925040" cy="586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7560" y="685800"/>
            <a:ext cx="2998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219320"/>
            <a:ext cx="701028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como ente rector de la producción estadística en el país, en su afán de propender a la difusión oportuna de los resultados más agregados correspondientes a la producción industrial, se complace en  poner a disposición de los usuarios y público en general, los resultados de la Encuesta Nacional por Muestreo de la Producción Industrial del año 2006, investigación estadística pionera en su género en el paí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se basa en una Muestra Probabilística de Establecimientos Económicos con 10 o más personas ocupadas, correspondientes a las Encuestas Económicas continuas de Manufactura y Minería; Comercio  Interno y Servicios, que anualmente investiga el IN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vestigación cubre las Secciones C (Explotación de Minas y Canteras); D (Industrias Manufactureras); G (Comercio al por Mayor y  al por Menor; Reparación de Vehículos Automotores, Motocicletas, Efectos Personales y Enseres Domésticos) ;  H (Hoteles y Restaurantes); J (Intermediación Financiera); K (Actividades Inmobiliarias, Empresariales y de Alquiler);  N (Actividades de Servicios Sociales y de Salud); y, O (Otras Actividades Comunitarias, Sociales y Personales de tipo Servicio), de acuerdo con la Clasificación Ampliada de las Actividades Económicas de la CIIU- TERCERA REVISIÒN (CIIU 3 Naciones Unidas ST/ ESA/STAT/SER/4  Rev. 3 de 1989). Los resultados se presentan a nivel nacional y se refieren a número de establecimientos, personal ocupado, remuneraciones, producción total, consumo intermedio, valor agregado, depreciaciones, formación bruta de capital, activos fijos y existenc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 al hacer la entrega de este documento, deja constancia del más profundo agradecimiento por la colaboración brindada por empresarios y propietarios de establecimientos y al mismo tiempo, les reitera el pedido cordial de seguir proporcionando en forma oportuna los datos necesarios para la elaboración de esta public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OCTUBRE 2.007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08:49:52Z</dcterms:created>
  <dc:creator>Estadísticas Industriales</dc:creator>
  <dc:description/>
  <dc:language>en-US</dc:language>
  <cp:lastModifiedBy>jpazmino</cp:lastModifiedBy>
  <cp:lastPrinted>2000-09-19T08:31:46Z</cp:lastPrinted>
  <dcterms:modified xsi:type="dcterms:W3CDTF">2007-10-18T20:02:30Z</dcterms:modified>
  <cp:revision>30</cp:revision>
  <dc:subject/>
  <dc:title>Sin título de diapositiva</dc:title>
</cp:coreProperties>
</file>