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2650680" y="2781360"/>
            <a:ext cx="48229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RESUMEN 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8-24T16:14:54Z</dcterms:modified>
  <cp:revision>26</cp:revision>
  <dc:subject/>
  <dc:title>CALENDARIOS INVESTIGACIONES</dc:title>
</cp:coreProperties>
</file>