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0880" y="260280"/>
            <a:ext cx="640872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. 2.  ESTRUCTURA PORCENTUAL A NIVEL NACIONAL, SEGÚ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SECCIONES (CIIU) DE ACTIVIDAD ECONÓMICA D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3008160" y="1197000"/>
            <a:ext cx="4392720" cy="5155920"/>
            <a:chOff x="3008160" y="1197000"/>
            <a:chExt cx="4392720" cy="5155920"/>
          </a:xfrm>
        </p:grpSpPr>
        <p:grpSp>
          <p:nvGrpSpPr>
            <p:cNvPr id="40" name=""/>
            <p:cNvGrpSpPr/>
            <p:nvPr/>
          </p:nvGrpSpPr>
          <p:grpSpPr>
            <a:xfrm>
              <a:off x="3008160" y="1197000"/>
              <a:ext cx="4392720" cy="5155920"/>
              <a:chOff x="3008160" y="1197000"/>
              <a:chExt cx="4392720" cy="5155920"/>
            </a:xfrm>
          </p:grpSpPr>
          <p:sp>
            <p:nvSpPr>
              <p:cNvPr id="41" name=""/>
              <p:cNvSpPr/>
              <p:nvPr/>
            </p:nvSpPr>
            <p:spPr>
              <a:xfrm>
                <a:off x="3008160" y="1197000"/>
                <a:ext cx="3655800" cy="48783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252600" y="1419120"/>
                <a:ext cx="3777840" cy="4767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496680" y="1641240"/>
                <a:ext cx="3839040" cy="471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554280" y="2360880"/>
                <a:ext cx="3846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3800520" y="2897280"/>
              <a:ext cx="316692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uner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o Interme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ción 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encias al 31 de diciem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4:12:00Z</dcterms:created>
  <dc:creator/>
  <dc:description/>
  <dc:language>en-US</dc:language>
  <cp:lastModifiedBy>mviera</cp:lastModifiedBy>
  <cp:lastPrinted>2000-05-17T14:30:24Z</cp:lastPrinted>
  <dcterms:modified xsi:type="dcterms:W3CDTF">2005-09-02T19:39:47Z</dcterms:modified>
  <cp:revision>18</cp:revision>
  <dc:subject/>
  <dc:title>1. INVESTIGACIONES PERMANENTES</dc:title>
</cp:coreProperties>
</file>