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2D1-883D-48A5-8C08-C513330A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D5A-08E9-418B-B53B-9D57342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BCE-2660-49A0-A229-21E89BD2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978-1B8A-4B49-BBC9-68541BA3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142-DB32-49AD-BC55-5A5AB27D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D31-7A6F-49DF-8EB1-73CBE8C8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639-2D9F-46ED-901A-3E2798B8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555-8CD7-4CD3-973D-761B1CD9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1E8-DBFE-4ADD-9C0F-8E05DED8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F41-8ABA-4A06-A494-44A4277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F1B-6224-471D-995C-6B96B9F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108-AFEB-4FC2-9AD7-64E5CA8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3C9-DB8F-4DE5-A3C3-3B01C34FD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066680"/>
            <a:ext cx="7086600" cy="48006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53680" y="1752480"/>
            <a:ext cx="60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UESTA NACIONAL POR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PRODUCCIÓN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7640" y="456264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NPR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4724280"/>
            <a:ext cx="2667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Ñ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ITO  - ECU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 rot="10800000">
          <a:off x="4952880" y="3124080"/>
          <a:ext cx="259092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4952880" y="3124080"/>
                    <a:ext cx="2590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pazmino</cp:lastModifiedBy>
  <cp:lastPrinted>2003-09-16T13:52:24Z</cp:lastPrinted>
  <dcterms:modified xsi:type="dcterms:W3CDTF">2006-08-24T16:19:49Z</dcterms:modified>
  <cp:revision>9</cp:revision>
  <dc:subject/>
  <dc:title>Presentación de PowerPoint</dc:title>
</cp:coreProperties>
</file>