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457200"/>
            <a:ext cx="91440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31800" y="1916280"/>
            <a:ext cx="823428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NCUESTA NACIONAL POR MUESTREO DE LA PRODUCCIÒN INDUSTRIAL (ENPR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08160" y="5229360"/>
            <a:ext cx="330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92160" y="1052640"/>
            <a:ext cx="3086280" cy="172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2T13:37:12Z</dcterms:created>
  <dc:creator>César Caamaño Barba</dc:creator>
  <dc:description/>
  <cp:keywords/>
  <dc:language>en-US</dc:language>
  <cp:lastModifiedBy>mpazmino</cp:lastModifiedBy>
  <cp:lastPrinted>2000-09-19T05:56:36Z</cp:lastPrinted>
  <dcterms:modified xsi:type="dcterms:W3CDTF">2008-10-03T16:33:37Z</dcterms:modified>
  <cp:revision>42</cp:revision>
  <dc:subject/>
  <dc:title>Sin título de diapositiva</dc:title>
</cp:coreProperties>
</file>