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8269-16BD-409A-8E2B-7751B24A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A37A-EB9D-4DBE-A1F4-4E89B541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CB5B-6E9E-4EE4-950A-33974E407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8DB8-717C-4B41-AEA2-3A2A0AB0B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1030-39AB-4E64-88E0-37FC22FE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595B-1898-4CAD-B814-64E23E81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CF9D-9135-4893-8322-C209BEE0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98F1-4130-4EAD-A464-7F5010AA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240B-0084-4A71-AB5E-A807C8FC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741F-AB77-43CF-A607-4001419A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D0F2-E084-4585-AE7F-B33AAE59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CF42-3796-4787-8CC5-9E1789D7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2677-2D1C-447A-A222-1D18CBD91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2666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25146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520"/>
            <a:ext cx="7925040" cy="586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7560" y="685800"/>
            <a:ext cx="2998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S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1219320"/>
            <a:ext cx="701028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Instituto Nacional de Estadística y Censos (INEC), como ente rector de la producción estadística en el país, en su afán de propender a la difusión oportuna de los resultados más agregados correspondientes a la producción industrial, se complace en  poner a disposición de los usuarios y público en general, los resultados de la Encuesta Nacional por Muestreo de la Producción Industrial del año 2007, investigación estadística pionera en su género en el paí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 presente publicación se basa en una Muestra Probabilística de Establecimientos Económicos con 10 o más personas ocupadas, correspondientes a las Encuestas Económicas continuas de Manufactura y Minería; Comercio  Interno y Servicios, que anualmente investiga el IN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 investigación cubre las Secciones C (Explotación de Minas y Canteras); D (Industrias Manufactureras); G (Comercio al por Mayor y  al por Menor; Reparación de Vehículos Automotores, Motocicletas, Efectos Personales y Enseres Domésticos) ;  H (Hoteles y Restaurantes); J (Intermediación Financiera); K (Actividades Inmobiliarias, Empresariales y de Alquiler);  N (Actividades de Servicios Sociales y de Salud); y, O (Otras Actividades Comunitarias, Sociales y Personales de tipo Servicio), de acuerdo con la Clasificación Ampliada de las Actividades Económicas de la CIIU- TERCERA REVISIÒN (CIIU 3 Naciones Unidas ST/ ESA/STAT/SER/4  Rev. 3 de 1989). Los resultados se presentan a nivel nacional y se refieren a número de establecimientos, personal ocupado, remuneraciones, producción total, consumo intermedio, valor agregado, depreciaciones, formación bruta de capital, activos fijos y existenc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INEC al hacer la entrega de este documento, deja constancia del más profundo agradecimiento por la colaboración brindada por empresarios y propietarios de establecimientos y al mismo tiempo, les reitera el pedido cordial de seguir proporcionando en forma oportuna los datos necesarios para la elaboración de esta public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OCTUBRE 2.008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9T08:49:52Z</dcterms:created>
  <dc:creator>Estadísticas Industriales</dc:creator>
  <dc:description/>
  <dc:language>en-US</dc:language>
  <cp:lastModifiedBy>mpazmino</cp:lastModifiedBy>
  <cp:lastPrinted>2000-09-19T08:31:46Z</cp:lastPrinted>
  <dcterms:modified xsi:type="dcterms:W3CDTF">2008-10-06T15:21:57Z</dcterms:modified>
  <cp:revision>31</cp:revision>
  <dc:subject/>
  <dc:title>Sin título de diapositiva</dc:title>
</cp:coreProperties>
</file>