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12E-87EF-4874-A548-557EC93F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274-D6EC-493A-AA85-2A510BC4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7C9-FE71-4411-89F6-262002F2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0BF-4A8B-450D-A635-6CACF728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0CA-BBEF-440F-ADE3-7F834A20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F48-3CCD-454E-8D03-D401F188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54B-11C3-4B64-AD9C-5C8A89BF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9AF-A1FE-4EB0-B158-1044A8C9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A92-11FC-4F98-B003-DB58789B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A00-0DC9-49FE-84CA-A98ACC2B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E00-BE91-4296-9826-EB1F3DD0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355-F202-4585-9078-BE83D9CF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606E-BAC0-4634-8416-5FCD79E61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6019920"/>
            <a:ext cx="1676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907920"/>
            <a:ext cx="136836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AÑO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1773360"/>
            <a:ext cx="3095640" cy="41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1989000"/>
            <a:ext cx="313236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UBPROCESO DE ESTADÍSTICAS ESTRUCTU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E EMPRESAS Y ESTABLECIMIENTOS ECONÓM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rturo de la Cadena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argarita Vie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arco Pazmiñ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Marcelo Loza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SARROLLO TECNOLÓGICO ESTADÍSTICO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lanca Almachi         Fausto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ÑO MUES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rnesto Caizaguano 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RACION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ncisco Camacho          Luis Díaz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uís Murillo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ora Tino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71720" y="115920"/>
            <a:ext cx="1555560" cy="1440000"/>
            <a:chOff x="1071720" y="115920"/>
            <a:chExt cx="1555560" cy="1440000"/>
          </a:xfrm>
        </p:grpSpPr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1071720" y="115920"/>
              <a:ext cx="134136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116000" y="1411200"/>
              <a:ext cx="151128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 baseline="30000">
                  <a:solidFill>
                    <a:srgbClr val="0000ff"/>
                  </a:solidFill>
                  <a:latin typeface="Times New Roman"/>
                </a:rPr>
                <a:t>REPÚBLICA DEL ECUAD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900000" y="1773360"/>
            <a:ext cx="4464000" cy="475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1844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852640"/>
            <a:ext cx="284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ésar Zanafria Niquing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 JURI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14880" y="3284640"/>
            <a:ext cx="2050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Ruth Puyol Cordero</a:t>
            </a: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A DE RECURSOS HUMANOS Y SERVICIOS ADMINISTRA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2852640"/>
            <a:ext cx="2052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Claudio Gallardo Le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DE PLAN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284640"/>
            <a:ext cx="2376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rco Villavicencio Ort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UDIDITOR INTE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3716280"/>
            <a:ext cx="2305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Galo Arias Veloz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DE PRODUCCIÓN DE ESTADÍSTICAS ECONÓM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3860640"/>
            <a:ext cx="259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Hugo Freire Almeida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TÉCNICO DE  GESTIÓN DE RECURSOS FINANCIER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36720" y="5157720"/>
            <a:ext cx="26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4365720"/>
            <a:ext cx="2232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arlos Obando Reve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TÉCNICO DE GESTIÓN DE DESARROLLO TECNOLÓGICO 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5877000"/>
            <a:ext cx="2376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José Castro Carra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REGIONAL DEL 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300640"/>
            <a:ext cx="2303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David Manosalvas Vinue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IRECTOR REGIONAL DEL NOR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5300640"/>
            <a:ext cx="2305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Jorge García G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 REGIONAL  DEL CENT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5877000"/>
            <a:ext cx="2305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Rodrigo Miguel Segarra Aguirre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S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436572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Julio Ortega Andra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 DE PRODUCCIÓN DE   ESTADÍSTICAS SOCIODEMOGRÁF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2286000"/>
            <a:ext cx="2484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Rossman Camacho Carr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SUB</a:t>
            </a: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 GENERAL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9560" y="2286000"/>
            <a:ext cx="1416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Byron Villacís Cru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6019920"/>
            <a:ext cx="16048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C" sz="12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TALLERES GRÁF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DEL INEC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8520" y="5002200"/>
            <a:ext cx="194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PROCESOS A NIVEL REG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012000" y="227160"/>
            <a:ext cx="244764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mpazmino</cp:lastModifiedBy>
  <cp:lastPrinted>2000-09-19T06:11:10Z</cp:lastPrinted>
  <dcterms:modified xsi:type="dcterms:W3CDTF">2008-10-03T16:25:58Z</dcterms:modified>
  <cp:revision>100</cp:revision>
  <dc:subject/>
  <dc:title>Sin título de diapositiva</dc:title>
</cp:coreProperties>
</file>