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7A6-FD85-466A-81A7-24BDF216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E79-51EF-4B9B-9E58-FBDDCD5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062-4244-41E2-A28C-C20712E1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083-C928-42EF-B581-6739ECFF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D2C-C8F8-446C-9ECA-ABA405B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588-6F8E-4A8D-987D-F0B1BD1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81A-9249-457A-8053-2C1C768E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A3D-B43C-45A4-8CD1-92357EC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13B-7D48-4B32-814C-866CEDB5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4D1-32E4-4F56-8B7D-DAC870E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5A6-D674-4CCD-9FDC-7F01226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8C3-034B-467D-B63B-BD06D17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5B86-E8B0-4D80-AEDC-39852709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066680"/>
            <a:ext cx="7086600" cy="48006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53680" y="1752480"/>
            <a:ext cx="60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UESTA NACIONAL POR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PRODUCCIÓN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7640" y="456264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NPR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724280"/>
            <a:ext cx="2667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ÑO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ITO  - ECU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2870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pazmino</cp:lastModifiedBy>
  <cp:lastPrinted>2003-09-16T13:52:24Z</cp:lastPrinted>
  <dcterms:modified xsi:type="dcterms:W3CDTF">2008-10-03T16:27:54Z</dcterms:modified>
  <cp:revision>10</cp:revision>
  <dc:subject/>
  <dc:title>Presentación de PowerPoint</dc:title>
</cp:coreProperties>
</file>