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AD24-538A-4D41-B63A-46BC78C80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9DAF-39C3-4C43-ACC2-0FD559E7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72D9-5C6F-4C2B-898E-575A55806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A6FA-3C6B-4C38-BB52-881F93484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B814-3CFE-4810-892D-36E8BED0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1A1B-A50F-4AF5-B09E-29ED4F97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4A42-596C-403C-99BA-6524544B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C051-8AF8-4269-A172-EE6B9CEF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E233-2E29-4857-AD33-3BC4A8E1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4137-FE5D-47F6-B842-17355CBC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D856-3658-4672-8C93-DABC3FF1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9469-ABB3-437C-A5D1-663AD49C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23C9-C889-4266-BD57-21323B1F370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4360" cy="68580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1728720" cy="1368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2843280" y="476280"/>
            <a:ext cx="504036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D I R E C T O R I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2133720"/>
            <a:ext cx="3600360" cy="43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0" bIns="72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000" spc="-1" strike="noStrike">
                <a:solidFill>
                  <a:srgbClr val="000000"/>
                </a:solidFill>
                <a:latin typeface="Times New Roman"/>
              </a:rPr>
              <a:t>Marco Quinteros Velas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IRECTOR GENE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Jorge Hitler Magaldi Sánche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UBDIRECTOR GENE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Milton Altuna Hidal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IRECTOR TÉCNICO DE ASEGURA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E LA CALIDAD DE GEST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ablo Jácome Jaramil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IRECTOR DE ASESORÍA JURÍD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Raúl Edmundo Salazar Espino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UDITOR GENE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000" spc="-1" strike="noStrike">
                <a:solidFill>
                  <a:srgbClr val="000000"/>
                </a:solidFill>
                <a:latin typeface="Times New Roman"/>
              </a:rPr>
              <a:t>Luis Guadalupe Castil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OORDINADOR DE COMUNIC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000" spc="-1" strike="noStrike">
                <a:solidFill>
                  <a:srgbClr val="000000"/>
                </a:solidFill>
                <a:latin typeface="Times New Roman"/>
              </a:rPr>
              <a:t>Galo Arias Veloz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DIRECTOR TÉCNICO DE GESTIÓN DE  PRODUCCIÓN ESTADÍSTI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000" spc="-1" strike="noStrike">
                <a:solidFill>
                  <a:srgbClr val="000000"/>
                </a:solidFill>
                <a:latin typeface="Times New Roman"/>
              </a:rPr>
              <a:t>María Soledad Carvajal Rui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DIRECTORA TÉCNICA DE GESTIÓN DEL ANÁLISIS ESTADÍSTIC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92720" y="2133720"/>
            <a:ext cx="3527280" cy="43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0" bIns="72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000" spc="-1" strike="noStrike">
                <a:solidFill>
                  <a:srgbClr val="000000"/>
                </a:solidFill>
                <a:latin typeface="Times New Roman"/>
              </a:rPr>
              <a:t>Carlos Obando Reve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DIRECTOR TÉCNICO DE GESTIÓN DE DESARROL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TECNOLÓGICO ESTADÍSTICO</a:t>
            </a:r>
            <a:r>
              <a:rPr b="1" lang="es-EC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000" spc="-1" strike="noStrike">
                <a:solidFill>
                  <a:srgbClr val="000000"/>
                </a:solidFill>
                <a:latin typeface="Times New Roman"/>
              </a:rPr>
              <a:t>Patricio López Toromore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DIRECTOR  DE RECURSOS HUMANOS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SERVICIOS ADMINISTRATIV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000" spc="-1" strike="noStrike">
                <a:solidFill>
                  <a:srgbClr val="000000"/>
                </a:solidFill>
                <a:latin typeface="Times New Roman"/>
              </a:rPr>
              <a:t>Mariana Gelita Vergara Ortiz</a:t>
            </a: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DIRECTORA TÉCNICA DE GESTIÓN DE RECUR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FINANCI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100" spc="-1" strike="noStrike" u="sng">
                <a:solidFill>
                  <a:srgbClr val="000000"/>
                </a:solidFill>
                <a:uFillTx/>
                <a:latin typeface="Times New Roman"/>
              </a:rPr>
              <a:t>PROCESOS A NIVEL REGION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000" spc="-1" strike="noStrike">
                <a:solidFill>
                  <a:srgbClr val="000000"/>
                </a:solidFill>
                <a:latin typeface="Times New Roman"/>
              </a:rPr>
              <a:t>Roberto Sáenz Ozaet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DIRECTOR REGIONAL DEL LITO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000" spc="-1" strike="noStrike">
                <a:solidFill>
                  <a:srgbClr val="000000"/>
                </a:solidFill>
                <a:latin typeface="Times New Roman"/>
              </a:rPr>
              <a:t>Rodrigo Martínez Peñaherre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DIRECTOR REGIONAL DEL NOR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000" spc="-1" strike="noStrike">
                <a:solidFill>
                  <a:srgbClr val="000000"/>
                </a:solidFill>
                <a:latin typeface="Times New Roman"/>
              </a:rPr>
              <a:t>Nancy Rocío Flores Hinojo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DIRECTORA REGIONAL DEL CENT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000" spc="-1" strike="noStrike">
                <a:solidFill>
                  <a:srgbClr val="000000"/>
                </a:solidFill>
                <a:latin typeface="Times New Roman"/>
              </a:rPr>
              <a:t>Rodrigo Miguel Segarra Aguir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DIRECTOR REGIONAL DEL SU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16360" y="549360"/>
            <a:ext cx="5832360" cy="14292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16360" y="1700280"/>
            <a:ext cx="4680000" cy="14436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16000" y="2133720"/>
            <a:ext cx="0" cy="43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1T14:47:55Z</dcterms:created>
  <dc:creator>Paola Dominguez</dc:creator>
  <dc:description/>
  <dc:language>en-US</dc:language>
  <cp:lastModifiedBy>efuel</cp:lastModifiedBy>
  <dcterms:modified xsi:type="dcterms:W3CDTF">2008-05-15T13:58:49Z</dcterms:modified>
  <cp:revision>10</cp:revision>
  <dc:subject/>
  <dc:title>Diapositiva 1</dc:title>
</cp:coreProperties>
</file>