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F46-474D-4DD6-BCE2-3800FD9C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6B3-E61C-4F4F-B07B-FEE0F741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C21-58D7-427B-9C25-C174C239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5D8-5AD1-405A-822E-E06EEAEF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B01-9A24-4A85-BAF4-3FF77B90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182-3634-4C24-8889-49D43428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35A-B13D-48E7-8355-26F948E3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61F-92A5-4903-B6EA-A6E96FD4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D8B-12A0-453A-AA6E-C9200EAD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978-773D-410E-B3ED-36CEB9F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9B8-ED24-4840-94C7-E6BC724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848-1731-43B2-903A-DA2E05EA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B984-F4C0-4141-9669-0409D971E06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984480" y="393840"/>
            <a:ext cx="1390680" cy="340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Bookman Old Style"/>
              </a:rPr>
              <a:t>AÑO 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5"/>
          <p:cNvSpPr/>
          <p:nvPr/>
        </p:nvSpPr>
        <p:spPr>
          <a:xfrm>
            <a:off x="5724360" y="1125360"/>
            <a:ext cx="3095640" cy="3713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724360" y="1484280"/>
            <a:ext cx="30956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ESTADÍSTICAS ESTRUCTURALES DE EMPRES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Y ESTABLECIMIENTOS ECONÓ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JEFE: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Francisco Camacho Dill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RESPONSABLE: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garita Vier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APLICACIONES Y PROCESAMIENTO INFORMÁTICO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Stalyn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4"/>
          <p:cNvSpPr/>
          <p:nvPr/>
        </p:nvSpPr>
        <p:spPr>
          <a:xfrm>
            <a:off x="5867280" y="5067360"/>
            <a:ext cx="2819520" cy="76212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5867280" y="5084640"/>
            <a:ext cx="2819520" cy="76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COMUNICACION SOCIAL Y RELACIONES PUBL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IMPRENTA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9"/>
          <p:cNvSpPr/>
          <p:nvPr/>
        </p:nvSpPr>
        <p:spPr>
          <a:xfrm>
            <a:off x="1042920" y="1413000"/>
            <a:ext cx="4464000" cy="504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eb28e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484360" y="981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2"/>
          <p:cNvSpPr/>
          <p:nvPr/>
        </p:nvSpPr>
        <p:spPr>
          <a:xfrm>
            <a:off x="3059280" y="2276640"/>
            <a:ext cx="2304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mar Zambrano Almag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UDITOR  INTERNO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3"/>
          <p:cNvSpPr/>
          <p:nvPr/>
        </p:nvSpPr>
        <p:spPr>
          <a:xfrm>
            <a:off x="3241800" y="1916280"/>
            <a:ext cx="20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César Zanafria Niquinga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 DE ASESORÍA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4"/>
          <p:cNvSpPr/>
          <p:nvPr/>
        </p:nvSpPr>
        <p:spPr>
          <a:xfrm>
            <a:off x="971640" y="6006960"/>
            <a:ext cx="23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Vanessa Zambrano Zambr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REGIONAL DEL LITORAL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7"/>
          <p:cNvSpPr/>
          <p:nvPr/>
        </p:nvSpPr>
        <p:spPr>
          <a:xfrm>
            <a:off x="971640" y="4581360"/>
            <a:ext cx="205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ía José Murgueitio Tama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DE ESTADÍSTICAS AMBIENTALES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8"/>
          <p:cNvSpPr/>
          <p:nvPr/>
        </p:nvSpPr>
        <p:spPr>
          <a:xfrm flipV="1" rot="10807800">
            <a:off x="3131640" y="263880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ayana Cevallos Álva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ADMINISTRA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FINANCIERA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9"/>
          <p:cNvSpPr/>
          <p:nvPr/>
        </p:nvSpPr>
        <p:spPr>
          <a:xfrm>
            <a:off x="3276720" y="600408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Oswaldo Uyaguari Quezada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SUR 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1"/>
          <p:cNvSpPr/>
          <p:nvPr/>
        </p:nvSpPr>
        <p:spPr>
          <a:xfrm>
            <a:off x="971640" y="263700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Ximena Villena Fuentes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ADMINISTRACIÓN </a:t>
            </a:r>
            <a:br>
              <a:rPr sz="800"/>
            </a:b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L TALENTO HUM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3"/>
          <p:cNvSpPr/>
          <p:nvPr/>
        </p:nvSpPr>
        <p:spPr>
          <a:xfrm>
            <a:off x="3132000" y="4076640"/>
            <a:ext cx="223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Omar Fuentes Cárde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 DE ESTADÍSTICAS SOCIODEMOGRÁFICAS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4"/>
          <p:cNvSpPr/>
          <p:nvPr/>
        </p:nvSpPr>
        <p:spPr>
          <a:xfrm>
            <a:off x="971640" y="306864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Geoconda Ocampo Gavilan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TECNOLOGÍAS DE LA INFORMACIÓN Y COMUN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5"/>
          <p:cNvSpPr/>
          <p:nvPr/>
        </p:nvSpPr>
        <p:spPr>
          <a:xfrm>
            <a:off x="1908000" y="1484280"/>
            <a:ext cx="2664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osé Rosero Moncay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EJECUTIVO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6"/>
          <p:cNvSpPr/>
          <p:nvPr/>
        </p:nvSpPr>
        <p:spPr>
          <a:xfrm>
            <a:off x="900000" y="5589720"/>
            <a:ext cx="2305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Shyrley Padilla Pro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IRECTORA REGIONAL DEL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N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8"/>
          <p:cNvSpPr/>
          <p:nvPr/>
        </p:nvSpPr>
        <p:spPr>
          <a:xfrm>
            <a:off x="2124000" y="5229360"/>
            <a:ext cx="2305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9"/>
          <p:cNvSpPr/>
          <p:nvPr/>
        </p:nvSpPr>
        <p:spPr>
          <a:xfrm>
            <a:off x="3276720" y="55897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uana Noemí Gamboa Var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CENTRO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0"/>
          <p:cNvSpPr/>
          <p:nvPr/>
        </p:nvSpPr>
        <p:spPr>
          <a:xfrm>
            <a:off x="971640" y="4076640"/>
            <a:ext cx="21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Magaly Paredes Ba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ESTADÍSTIC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1"/>
          <p:cNvSpPr/>
          <p:nvPr/>
        </p:nvSpPr>
        <p:spPr>
          <a:xfrm>
            <a:off x="1187280" y="2276640"/>
            <a:ext cx="2016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driano Molina Guzmá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PLANIFICACIÓN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22" descr=""/>
          <p:cNvPicPr/>
          <p:nvPr/>
        </p:nvPicPr>
        <p:blipFill>
          <a:blip r:embed="rId2"/>
          <a:stretch/>
        </p:blipFill>
        <p:spPr>
          <a:xfrm>
            <a:off x="6227640" y="5952960"/>
            <a:ext cx="218124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8"/>
          <p:cNvSpPr/>
          <p:nvPr/>
        </p:nvSpPr>
        <p:spPr>
          <a:xfrm>
            <a:off x="3276720" y="306864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renda Sempértegui Vaneg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DE COMUNICACIÓN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9"/>
          <p:cNvSpPr/>
          <p:nvPr/>
        </p:nvSpPr>
        <p:spPr>
          <a:xfrm>
            <a:off x="3132000" y="4581360"/>
            <a:ext cx="2305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Mauricio López Lind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 DE ESTUDIOS ANALÍTICOS ESTADÍSTICOS 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0"/>
          <p:cNvSpPr/>
          <p:nvPr/>
        </p:nvSpPr>
        <p:spPr>
          <a:xfrm>
            <a:off x="1042920" y="3573360"/>
            <a:ext cx="205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hristian Garcés Mayorg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 DE NORMATIVAS Y METODOLOGÍAS DEL SEN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1"/>
          <p:cNvSpPr/>
          <p:nvPr/>
        </p:nvSpPr>
        <p:spPr>
          <a:xfrm flipV="1" rot="10807800">
            <a:off x="1762920" y="5016240"/>
            <a:ext cx="280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0"/>
          <p:cNvSpPr/>
          <p:nvPr/>
        </p:nvSpPr>
        <p:spPr>
          <a:xfrm>
            <a:off x="3276720" y="3573360"/>
            <a:ext cx="2058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talina Valle Piñuel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DE INFORMACIÓN CARTOGRÁFICA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2"/>
          <p:cNvSpPr/>
          <p:nvPr/>
        </p:nvSpPr>
        <p:spPr>
          <a:xfrm>
            <a:off x="971640" y="1916280"/>
            <a:ext cx="2305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Jorge García Guerr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COORDINADOR TÉCNIC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INEC Margarita Viera</cp:lastModifiedBy>
  <cp:lastPrinted>2000-09-19T06:11:10Z</cp:lastPrinted>
  <dcterms:modified xsi:type="dcterms:W3CDTF">2013-02-13T19:48:49Z</dcterms:modified>
  <cp:revision>120</cp:revision>
  <dc:subject/>
  <dc:title>Sin título de diapositiva</dc:title>
</cp:coreProperties>
</file>