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12A-7850-482E-A6FC-46AFB803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1867-AF1B-447B-B9C1-95B3A61D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24B-2457-4192-803D-906D38EC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B1C3-E0A5-4734-89D6-6BF4B683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A7C-4EE8-4A4A-ADC7-60300614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3362-B98B-451C-A173-5CFD383B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0C2-827A-4281-A034-4F6389A3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C58C-6BFD-49CC-8185-BC2379D0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A80-4073-4085-8CCB-83F2D883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EDC-ECC6-424B-804D-0CC3E96A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6AA-CBF3-49BC-A03A-EC4F9F5D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C0E-D93E-457E-A000-01CF27E8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7387-6E0E-4382-ABAA-58B9174D41F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8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7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4120" y="2133720"/>
            <a:ext cx="3270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Unidad de Estadísticas Económicas Estructu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Francisco Camacho Dil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Wilson Albuja Raza</a:t>
            </a:r>
            <a:r>
              <a:rPr b="0" lang="es-ES_tradnl" sz="1200" spc="-1" strike="noStrike">
                <a:solidFill>
                  <a:srgbClr val="ff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Regional del Lito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Angel Señalin Le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1"/>
          <p:cNvSpPr/>
          <p:nvPr/>
        </p:nvSpPr>
        <p:spPr>
          <a:xfrm>
            <a:off x="826920" y="692280"/>
            <a:ext cx="434520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osé Rosero Moncay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Césa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r Zanafria Niquinga </a:t>
            </a: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                 </a:t>
            </a:r>
            <a:r>
              <a:rPr b="0" lang="es-ES" sz="800" spc="-1" strike="noStrike">
                <a:solidFill>
                  <a:srgbClr val="000000"/>
                </a:solidFill>
                <a:latin typeface="Arial Black"/>
              </a:rPr>
              <a:t>Adriano Molina Guzmá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DE ASESORÍA JURÍDICA    DIRECTOR DE PLANIFICACIÓN (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orge Sandoval Atapuma               Brenda Sempértegui Vane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ECRETARIO GENERAL Y            DIRECTORA DE COMUN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GESTOR DOCUMENTAL (E)                              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Katia Enríquez Mora                  Rossman Camacho Carr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A DE ADMINISTRACIÓN       DIRECTOR ADMINISTRATIVO            Y DEL TALENTO HUMANO (E)                    FINANCIERO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Magaly Paredes Baño                        Carlos Fuentes Cárde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A DE PRODUCCIÓN DE      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PRODUCCIÓN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ESTADÍSTICAS ECONÓMICAS 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 ESTADÍSTICAS SOCIODEMOGRÁFICAS (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Geoconda Ocampo Gavilánez                    Jorge García Guerr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A DE TECNOLOGÍAS                  COORDINAD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E LA INFORMACIÓN Y COMUNICACIÓN                      TÉ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Galo López Lindao                             Rosa Valle Piñue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DE ESTUDIOS                  DIRECTORA DE INFORM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ANALÍTICOS ESTADÍSTICOS  (E)         CARTOGRÁFICA ESTADÍS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VChristian Garcés Mayorga                   María Murgueitio Tamay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DE METODOLOGÍAS          DIRECTORA DE ESTADÍS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Y NORMATIVA DEL SEN   (E)                        AMBIENTALES (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            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PROCESOS A NIVEL REG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hyrley Padilla Proa                      Jéssica Menéndez Cam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REGIONAL DEL NORTE          DIRECTORA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uanita Gamboa Vargas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Oswaldo Uyaguari Quez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REGIONAL DEL CENTRO           DIRECTOR REGIONAL DEL SUR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30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33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2"/>
          <p:cNvSpPr/>
          <p:nvPr/>
        </p:nvSpPr>
        <p:spPr>
          <a:xfrm>
            <a:off x="5580000" y="1066680"/>
            <a:ext cx="27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AÑO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6"/>
          <p:cNvSpPr/>
          <p:nvPr/>
        </p:nvSpPr>
        <p:spPr>
          <a:xfrm>
            <a:off x="5435640" y="57340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EDIC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COMUNICAC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 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IMPRES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IMPRENTA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DEL INE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8" descr=""/>
          <p:cNvPicPr/>
          <p:nvPr/>
        </p:nvPicPr>
        <p:blipFill>
          <a:blip r:embed="rId5"/>
          <a:stretch/>
        </p:blipFill>
        <p:spPr>
          <a:xfrm>
            <a:off x="6877080" y="5589720"/>
            <a:ext cx="1655640" cy="792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35"/>
          <p:cNvSpPr/>
          <p:nvPr/>
        </p:nvSpPr>
        <p:spPr>
          <a:xfrm>
            <a:off x="3059280" y="189000"/>
            <a:ext cx="1828800" cy="53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11 CuadroTexto"/>
          <p:cNvSpPr/>
          <p:nvPr/>
        </p:nvSpPr>
        <p:spPr>
          <a:xfrm>
            <a:off x="1908000" y="9079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walbuja</cp:lastModifiedBy>
  <cp:lastPrinted>2001-01-30T18:59:46Z</cp:lastPrinted>
  <dcterms:modified xsi:type="dcterms:W3CDTF">2013-01-28T19:04:45Z</dcterms:modified>
  <cp:revision>149</cp:revision>
  <dc:subject/>
  <dc:title>Sin título de diapositiva</dc:title>
</cp:coreProperties>
</file>